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8.wmf" ContentType="image/x-wmf"/>
  <Override PartName="/ppt/media/image27.jpeg" ContentType="image/jpeg"/>
  <Override PartName="/ppt/media/image10.png" ContentType="image/png"/>
  <Override PartName="/ppt/media/image30.wmf" ContentType="image/x-wmf"/>
  <Override PartName="/ppt/media/image5.png" ContentType="image/png"/>
  <Override PartName="/ppt/media/image6.png" ContentType="image/png"/>
  <Override PartName="/ppt/media/image11.png" ContentType="image/png"/>
  <Override PartName="/ppt/media/image31.wmf" ContentType="image/x-wmf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4.png" ContentType="image/png"/>
  <Override PartName="/ppt/media/image3.png" ContentType="image/png"/>
  <Override PartName="/ppt/media/image2.png" ContentType="image/png"/>
  <Override PartName="/ppt/media/image25.jpeg" ContentType="image/jpeg"/>
  <Override PartName="/ppt/media/image29.wmf" ContentType="image/x-wmf"/>
  <Override PartName="/ppt/media/image1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9.wmf" ContentType="image/x-wmf"/>
  <Override PartName="/ppt/media/image21.wmf" ContentType="image/x-wmf"/>
  <Override PartName="/ppt/media/image18.png" ContentType="image/png"/>
  <Override PartName="/ppt/media/image17.png" ContentType="image/png"/>
  <Override PartName="/ppt/media/image20.wmf" ContentType="image/x-wmf"/>
  <Override PartName="/ppt/media/image26.jpeg" ContentType="image/jpe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3EA3C-5F7A-481E-9D8C-F00ECD1D3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471D3-BD0F-470A-B241-A8AAA3EE1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32C97-6EAD-4CD3-8519-0AB0B4F83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1892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82768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00980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1892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82768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60B0D-3B28-4053-9C61-3E31BD9E1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8718B-0344-4F45-AD76-D6614494B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AE6EA-A306-4F6C-806B-D0C27EEF5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40C54-5B85-4C02-B99E-EC8C143F6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D4401-4D03-42E2-8D5F-9F72C1BDB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FEA5D-4BAA-4C36-B0B5-389C4C6FB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1009800" y="676440"/>
            <a:ext cx="712440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41D0C-FFF1-4974-8430-7BA0F4971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D2E3A-6ED3-479F-A388-4BB3BF2EB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B1858-7993-48D4-9EA7-340CA0FFB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27FDE-5103-4C76-8BE9-2B1AC001C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FF8D7-22A3-462B-8391-C15D2F34B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CD89A-02FA-4E4A-B310-749E80AC5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E0C16-273D-4D32-BBAA-7E2D85184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41892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82768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100980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341892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582768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833EF-15B2-43B0-BDDF-2E6D47CE3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8E334-7C47-4E99-8526-503FD681A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8C1F8-6B9F-4212-A411-BC3EFA388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09EF7-1880-43D4-B437-D7D9BE1F7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009800" y="676440"/>
            <a:ext cx="712440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6E777-5A9B-4238-BEDC-9B25134A1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8DB25-89C4-4592-BBDF-8EEBAF589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C29C5-AAD0-4513-8D51-158F79BC3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609CD-24AC-466A-B568-01442530B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slideLayout" Target="../slideLayouts/slideLayout1.xml"/><Relationship Id="rId14" Type="http://schemas.openxmlformats.org/officeDocument/2006/relationships/slideLayout" Target="../slideLayouts/slideLayout2.xml"/><Relationship Id="rId15" Type="http://schemas.openxmlformats.org/officeDocument/2006/relationships/slideLayout" Target="../slideLayouts/slideLayout3.xml"/><Relationship Id="rId16" Type="http://schemas.openxmlformats.org/officeDocument/2006/relationships/slideLayout" Target="../slideLayouts/slideLayout4.xml"/><Relationship Id="rId17" Type="http://schemas.openxmlformats.org/officeDocument/2006/relationships/slideLayout" Target="../slideLayouts/slideLayout5.xml"/><Relationship Id="rId18" Type="http://schemas.openxmlformats.org/officeDocument/2006/relationships/slideLayout" Target="../slideLayouts/slideLayout6.xml"/><Relationship Id="rId19" Type="http://schemas.openxmlformats.org/officeDocument/2006/relationships/slideLayout" Target="../slideLayouts/slideLayout7.xml"/><Relationship Id="rId20" Type="http://schemas.openxmlformats.org/officeDocument/2006/relationships/slideLayout" Target="../slideLayouts/slideLayout8.xml"/><Relationship Id="rId21" Type="http://schemas.openxmlformats.org/officeDocument/2006/relationships/slideLayout" Target="../slideLayouts/slideLayout9.xml"/><Relationship Id="rId22" Type="http://schemas.openxmlformats.org/officeDocument/2006/relationships/slideLayout" Target="../slideLayouts/slideLayout10.xml"/><Relationship Id="rId23" Type="http://schemas.openxmlformats.org/officeDocument/2006/relationships/slideLayout" Target="../slideLayouts/slideLayout11.xml"/><Relationship Id="rId2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8.png"/><Relationship Id="rId21" Type="http://schemas.openxmlformats.org/officeDocument/2006/relationships/slideLayout" Target="../slideLayouts/slideLayout13.xml"/><Relationship Id="rId22" Type="http://schemas.openxmlformats.org/officeDocument/2006/relationships/slideLayout" Target="../slideLayouts/slideLayout14.xml"/><Relationship Id="rId23" Type="http://schemas.openxmlformats.org/officeDocument/2006/relationships/slideLayout" Target="../slideLayouts/slideLayout15.xml"/><Relationship Id="rId24" Type="http://schemas.openxmlformats.org/officeDocument/2006/relationships/slideLayout" Target="../slideLayouts/slideLayout16.xml"/><Relationship Id="rId25" Type="http://schemas.openxmlformats.org/officeDocument/2006/relationships/slideLayout" Target="../slideLayouts/slideLayout17.xml"/><Relationship Id="rId26" Type="http://schemas.openxmlformats.org/officeDocument/2006/relationships/slideLayout" Target="../slideLayouts/slideLayout18.xml"/><Relationship Id="rId27" Type="http://schemas.openxmlformats.org/officeDocument/2006/relationships/slideLayout" Target="../slideLayouts/slideLayout19.xml"/><Relationship Id="rId28" Type="http://schemas.openxmlformats.org/officeDocument/2006/relationships/slideLayout" Target="../slideLayouts/slideLayout20.xml"/><Relationship Id="rId29" Type="http://schemas.openxmlformats.org/officeDocument/2006/relationships/slideLayout" Target="../slideLayouts/slideLayout21.xml"/><Relationship Id="rId30" Type="http://schemas.openxmlformats.org/officeDocument/2006/relationships/slideLayout" Target="../slideLayouts/slideLayout22.xml"/><Relationship Id="rId31" Type="http://schemas.openxmlformats.org/officeDocument/2006/relationships/slideLayout" Target="../slideLayouts/slideLayout23.xml"/><Relationship Id="rId3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6eb0"/>
            </a:gs>
            <a:gs pos="100000">
              <a:srgbClr val="61b9e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18"/>
          <p:cNvGrpSpPr/>
          <p:nvPr/>
        </p:nvGrpSpPr>
        <p:grpSpPr>
          <a:xfrm>
            <a:off x="6558120" y="64080"/>
            <a:ext cx="2574720" cy="6798600"/>
            <a:chOff x="6558120" y="64080"/>
            <a:chExt cx="2574720" cy="6798600"/>
          </a:xfrm>
        </p:grpSpPr>
        <p:grpSp>
          <p:nvGrpSpPr>
            <p:cNvPr id="1" name="Group 62"/>
            <p:cNvGrpSpPr/>
            <p:nvPr/>
          </p:nvGrpSpPr>
          <p:grpSpPr>
            <a:xfrm>
              <a:off x="6951960" y="64080"/>
              <a:ext cx="2108880" cy="6617160"/>
              <a:chOff x="6951960" y="64080"/>
              <a:chExt cx="2108880" cy="6617160"/>
            </a:xfrm>
          </p:grpSpPr>
          <p:grpSp>
            <p:nvGrpSpPr>
              <p:cNvPr id="2" name="Group 44"/>
              <p:cNvGrpSpPr/>
              <p:nvPr/>
            </p:nvGrpSpPr>
            <p:grpSpPr>
              <a:xfrm>
                <a:off x="6951960" y="66600"/>
                <a:ext cx="2007720" cy="6614640"/>
                <a:chOff x="6951960" y="66600"/>
                <a:chExt cx="2007720" cy="6614640"/>
              </a:xfrm>
            </p:grpSpPr>
            <p:grpSp>
              <p:nvGrpSpPr>
                <p:cNvPr id="3" name="Freeform 233"/>
                <p:cNvGrpSpPr/>
                <p:nvPr/>
              </p:nvGrpSpPr>
              <p:grpSpPr>
                <a:xfrm>
                  <a:off x="7168320" y="66600"/>
                  <a:ext cx="693000" cy="785520"/>
                  <a:chOff x="7168320" y="66600"/>
                  <a:chExt cx="693000" cy="785520"/>
                </a:xfrm>
              </p:grpSpPr>
              <p:pic>
                <p:nvPicPr>
                  <p:cNvPr id="4" name="Freeform 23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68320" y="66600"/>
                    <a:ext cx="693000" cy="78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5" name=""/>
                  <p:cNvSpPr/>
                  <p:nvPr/>
                </p:nvSpPr>
                <p:spPr>
                  <a:xfrm rot="879600">
                    <a:off x="7253640" y="141840"/>
                    <a:ext cx="516960" cy="6368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" name="Freeform 25"/>
                <p:cNvGrpSpPr/>
                <p:nvPr/>
              </p:nvGrpSpPr>
              <p:grpSpPr>
                <a:xfrm>
                  <a:off x="7552800" y="2259360"/>
                  <a:ext cx="1031040" cy="1126080"/>
                  <a:chOff x="7552800" y="2259360"/>
                  <a:chExt cx="1031040" cy="1126080"/>
                </a:xfrm>
              </p:grpSpPr>
              <p:pic>
                <p:nvPicPr>
                  <p:cNvPr id="7" name="Freeform 2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576920" y="2305800"/>
                    <a:ext cx="987840" cy="103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" name=""/>
                  <p:cNvSpPr/>
                  <p:nvPr/>
                </p:nvSpPr>
                <p:spPr>
                  <a:xfrm rot="20016000">
                    <a:off x="7718400" y="2367360"/>
                    <a:ext cx="699480" cy="910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" name="Freeform 29"/>
                <p:cNvGrpSpPr/>
                <p:nvPr/>
              </p:nvGrpSpPr>
              <p:grpSpPr>
                <a:xfrm>
                  <a:off x="8085960" y="922320"/>
                  <a:ext cx="873720" cy="884880"/>
                  <a:chOff x="8085960" y="922320"/>
                  <a:chExt cx="873720" cy="884880"/>
                </a:xfrm>
              </p:grpSpPr>
              <p:pic>
                <p:nvPicPr>
                  <p:cNvPr id="10" name="Freeform 2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130240" y="922320"/>
                    <a:ext cx="780840" cy="88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1" name=""/>
                  <p:cNvSpPr/>
                  <p:nvPr/>
                </p:nvSpPr>
                <p:spPr>
                  <a:xfrm rot="18879600">
                    <a:off x="8214120" y="1059120"/>
                    <a:ext cx="617400" cy="618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" name="Freeform 33"/>
                <p:cNvGrpSpPr/>
                <p:nvPr/>
              </p:nvGrpSpPr>
              <p:grpSpPr>
                <a:xfrm>
                  <a:off x="7328520" y="3970800"/>
                  <a:ext cx="1003320" cy="1195560"/>
                  <a:chOff x="7328520" y="3970800"/>
                  <a:chExt cx="1003320" cy="1195560"/>
                </a:xfrm>
              </p:grpSpPr>
              <p:pic>
                <p:nvPicPr>
                  <p:cNvPr id="13" name="Freeform 3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328520" y="3970800"/>
                    <a:ext cx="1003320" cy="119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4" name=""/>
                  <p:cNvSpPr/>
                  <p:nvPr/>
                </p:nvSpPr>
                <p:spPr>
                  <a:xfrm rot="21141600">
                    <a:off x="7440120" y="4070520"/>
                    <a:ext cx="773280" cy="993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" name="Freeform 37"/>
                <p:cNvGrpSpPr/>
                <p:nvPr/>
              </p:nvGrpSpPr>
              <p:grpSpPr>
                <a:xfrm>
                  <a:off x="7464600" y="5138640"/>
                  <a:ext cx="1353600" cy="1542600"/>
                  <a:chOff x="7464600" y="5138640"/>
                  <a:chExt cx="1353600" cy="1542600"/>
                </a:xfrm>
              </p:grpSpPr>
              <p:pic>
                <p:nvPicPr>
                  <p:cNvPr id="16" name="Freeform 3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494120" y="5184000"/>
                    <a:ext cx="1298160" cy="14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7" name=""/>
                  <p:cNvSpPr/>
                  <p:nvPr/>
                </p:nvSpPr>
                <p:spPr>
                  <a:xfrm rot="1068000">
                    <a:off x="7638840" y="5261040"/>
                    <a:ext cx="1005120" cy="129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Freeform 29"/>
                <p:cNvGrpSpPr/>
                <p:nvPr/>
              </p:nvGrpSpPr>
              <p:grpSpPr>
                <a:xfrm>
                  <a:off x="6951960" y="1848600"/>
                  <a:ext cx="873720" cy="879120"/>
                  <a:chOff x="6951960" y="1848600"/>
                  <a:chExt cx="873720" cy="879120"/>
                </a:xfrm>
              </p:grpSpPr>
              <p:pic>
                <p:nvPicPr>
                  <p:cNvPr id="19" name="Freeform 29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997680" y="1848600"/>
                    <a:ext cx="780840" cy="87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0" name=""/>
                  <p:cNvSpPr/>
                  <p:nvPr/>
                </p:nvSpPr>
                <p:spPr>
                  <a:xfrm rot="18879600">
                    <a:off x="7080120" y="1980720"/>
                    <a:ext cx="617400" cy="618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1" name="Group 50"/>
              <p:cNvGrpSpPr/>
              <p:nvPr/>
            </p:nvGrpSpPr>
            <p:grpSpPr>
              <a:xfrm>
                <a:off x="7631280" y="78840"/>
                <a:ext cx="1429560" cy="5129640"/>
                <a:chOff x="7631280" y="78840"/>
                <a:chExt cx="1429560" cy="5129640"/>
              </a:xfrm>
            </p:grpSpPr>
            <p:grpSp>
              <p:nvGrpSpPr>
                <p:cNvPr id="22" name="Freeform 45"/>
                <p:cNvGrpSpPr/>
                <p:nvPr/>
              </p:nvGrpSpPr>
              <p:grpSpPr>
                <a:xfrm>
                  <a:off x="7852320" y="4016160"/>
                  <a:ext cx="986040" cy="1192320"/>
                  <a:chOff x="7852320" y="4016160"/>
                  <a:chExt cx="986040" cy="1192320"/>
                </a:xfrm>
              </p:grpSpPr>
              <p:pic>
                <p:nvPicPr>
                  <p:cNvPr id="23" name="Freeform 4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877520" y="4037040"/>
                    <a:ext cx="932400" cy="115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4" name=""/>
                  <p:cNvSpPr/>
                  <p:nvPr/>
                </p:nvSpPr>
                <p:spPr>
                  <a:xfrm rot="20600400">
                    <a:off x="7984440" y="4097880"/>
                    <a:ext cx="721440" cy="1028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" name="Freeform 49"/>
                <p:cNvGrpSpPr/>
                <p:nvPr/>
              </p:nvGrpSpPr>
              <p:grpSpPr>
                <a:xfrm>
                  <a:off x="7631280" y="1014480"/>
                  <a:ext cx="1088640" cy="1142280"/>
                  <a:chOff x="7631280" y="1014480"/>
                  <a:chExt cx="1088640" cy="1142280"/>
                </a:xfrm>
              </p:grpSpPr>
              <p:pic>
                <p:nvPicPr>
                  <p:cNvPr id="26" name="Freeform 49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7709760" y="1031040"/>
                    <a:ext cx="927720" cy="110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7" name=""/>
                  <p:cNvSpPr/>
                  <p:nvPr/>
                </p:nvSpPr>
                <p:spPr>
                  <a:xfrm rot="19358400">
                    <a:off x="7849080" y="1116000"/>
                    <a:ext cx="652680" cy="93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" name="Freeform 53"/>
                <p:cNvGrpSpPr/>
                <p:nvPr/>
              </p:nvGrpSpPr>
              <p:grpSpPr>
                <a:xfrm>
                  <a:off x="8192520" y="78840"/>
                  <a:ext cx="868320" cy="970200"/>
                  <a:chOff x="8192520" y="78840"/>
                  <a:chExt cx="868320" cy="970200"/>
                </a:xfrm>
              </p:grpSpPr>
              <p:pic>
                <p:nvPicPr>
                  <p:cNvPr id="29" name="Freeform 53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8245800" y="121320"/>
                    <a:ext cx="764640" cy="88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0" name=""/>
                  <p:cNvSpPr/>
                  <p:nvPr/>
                </p:nvSpPr>
                <p:spPr>
                  <a:xfrm rot="19929600">
                    <a:off x="8347320" y="162360"/>
                    <a:ext cx="558360" cy="802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1" name="Freeform 53"/>
                <p:cNvSpPr/>
                <p:nvPr/>
              </p:nvSpPr>
              <p:spPr>
                <a:xfrm rot="1159800">
                  <a:off x="8332200" y="3230640"/>
                  <a:ext cx="375840" cy="540360"/>
                </a:xfrm>
                <a:custGeom>
                  <a:avLst/>
                  <a:gdLst/>
                  <a:ahLst/>
                  <a:rect l="l" t="t" r="r" b="b"/>
                  <a:pathLst>
                    <a:path w="750" h="856">
                      <a:moveTo>
                        <a:pt x="680" y="580"/>
                      </a:moveTo>
                      <a:lnTo>
                        <a:pt x="746" y="560"/>
                      </a:lnTo>
                      <a:lnTo>
                        <a:pt x="744" y="552"/>
                      </a:lnTo>
                      <a:lnTo>
                        <a:pt x="664" y="570"/>
                      </a:lnTo>
                      <a:lnTo>
                        <a:pt x="634" y="554"/>
                      </a:lnTo>
                      <a:lnTo>
                        <a:pt x="604" y="538"/>
                      </a:lnTo>
                      <a:lnTo>
                        <a:pt x="732" y="502"/>
                      </a:lnTo>
                      <a:lnTo>
                        <a:pt x="730" y="490"/>
                      </a:lnTo>
                      <a:lnTo>
                        <a:pt x="582" y="526"/>
                      </a:lnTo>
                      <a:lnTo>
                        <a:pt x="570" y="522"/>
                      </a:lnTo>
                      <a:lnTo>
                        <a:pt x="530" y="502"/>
                      </a:lnTo>
                      <a:lnTo>
                        <a:pt x="490" y="480"/>
                      </a:lnTo>
                      <a:lnTo>
                        <a:pt x="452" y="458"/>
                      </a:lnTo>
                      <a:lnTo>
                        <a:pt x="416" y="432"/>
                      </a:lnTo>
                      <a:lnTo>
                        <a:pt x="454" y="404"/>
                      </a:lnTo>
                      <a:lnTo>
                        <a:pt x="492" y="380"/>
                      </a:lnTo>
                      <a:lnTo>
                        <a:pt x="532" y="358"/>
                      </a:lnTo>
                      <a:lnTo>
                        <a:pt x="572" y="338"/>
                      </a:lnTo>
                      <a:lnTo>
                        <a:pt x="586" y="332"/>
                      </a:lnTo>
                      <a:lnTo>
                        <a:pt x="730" y="366"/>
                      </a:lnTo>
                      <a:lnTo>
                        <a:pt x="732" y="356"/>
                      </a:lnTo>
                      <a:lnTo>
                        <a:pt x="608" y="320"/>
                      </a:lnTo>
                      <a:lnTo>
                        <a:pt x="666" y="288"/>
                      </a:lnTo>
                      <a:lnTo>
                        <a:pt x="744" y="306"/>
                      </a:lnTo>
                      <a:lnTo>
                        <a:pt x="746" y="296"/>
                      </a:lnTo>
                      <a:lnTo>
                        <a:pt x="682" y="278"/>
                      </a:lnTo>
                      <a:lnTo>
                        <a:pt x="716" y="254"/>
                      </a:lnTo>
                      <a:lnTo>
                        <a:pt x="748" y="228"/>
                      </a:lnTo>
                      <a:lnTo>
                        <a:pt x="750" y="226"/>
                      </a:lnTo>
                      <a:lnTo>
                        <a:pt x="748" y="224"/>
                      </a:lnTo>
                      <a:lnTo>
                        <a:pt x="744" y="214"/>
                      </a:lnTo>
                      <a:lnTo>
                        <a:pt x="738" y="206"/>
                      </a:lnTo>
                      <a:lnTo>
                        <a:pt x="736" y="208"/>
                      </a:lnTo>
                      <a:lnTo>
                        <a:pt x="696" y="222"/>
                      </a:lnTo>
                      <a:lnTo>
                        <a:pt x="658" y="240"/>
                      </a:lnTo>
                      <a:lnTo>
                        <a:pt x="674" y="174"/>
                      </a:lnTo>
                      <a:lnTo>
                        <a:pt x="664" y="170"/>
                      </a:lnTo>
                      <a:lnTo>
                        <a:pt x="642" y="248"/>
                      </a:lnTo>
                      <a:lnTo>
                        <a:pt x="614" y="266"/>
                      </a:lnTo>
                      <a:lnTo>
                        <a:pt x="584" y="284"/>
                      </a:lnTo>
                      <a:lnTo>
                        <a:pt x="618" y="154"/>
                      </a:lnTo>
                      <a:lnTo>
                        <a:pt x="606" y="152"/>
                      </a:lnTo>
                      <a:lnTo>
                        <a:pt x="562" y="298"/>
                      </a:lnTo>
                      <a:lnTo>
                        <a:pt x="552" y="306"/>
                      </a:lnTo>
                      <a:lnTo>
                        <a:pt x="516" y="330"/>
                      </a:lnTo>
                      <a:lnTo>
                        <a:pt x="478" y="354"/>
                      </a:lnTo>
                      <a:lnTo>
                        <a:pt x="438" y="376"/>
                      </a:lnTo>
                      <a:lnTo>
                        <a:pt x="398" y="394"/>
                      </a:lnTo>
                      <a:lnTo>
                        <a:pt x="392" y="348"/>
                      </a:lnTo>
                      <a:lnTo>
                        <a:pt x="392" y="302"/>
                      </a:lnTo>
                      <a:lnTo>
                        <a:pt x="392" y="258"/>
                      </a:lnTo>
                      <a:lnTo>
                        <a:pt x="394" y="212"/>
                      </a:lnTo>
                      <a:lnTo>
                        <a:pt x="396" y="198"/>
                      </a:lnTo>
                      <a:lnTo>
                        <a:pt x="498" y="90"/>
                      </a:lnTo>
                      <a:lnTo>
                        <a:pt x="490" y="82"/>
                      </a:lnTo>
                      <a:lnTo>
                        <a:pt x="398" y="172"/>
                      </a:lnTo>
                      <a:lnTo>
                        <a:pt x="398" y="106"/>
                      </a:lnTo>
                      <a:lnTo>
                        <a:pt x="452" y="48"/>
                      </a:lnTo>
                      <a:lnTo>
                        <a:pt x="446" y="42"/>
                      </a:lnTo>
                      <a:lnTo>
                        <a:pt x="398" y="88"/>
                      </a:lnTo>
                      <a:lnTo>
                        <a:pt x="394" y="46"/>
                      </a:lnTo>
                      <a:lnTo>
                        <a:pt x="388" y="4"/>
                      </a:lnTo>
                      <a:lnTo>
                        <a:pt x="388" y="0"/>
                      </a:lnTo>
                      <a:lnTo>
                        <a:pt x="384" y="0"/>
                      </a:lnTo>
                      <a:lnTo>
                        <a:pt x="368" y="0"/>
                      </a:lnTo>
                      <a:lnTo>
                        <a:pt x="364" y="0"/>
                      </a:lnTo>
                      <a:lnTo>
                        <a:pt x="364" y="4"/>
                      </a:lnTo>
                      <a:lnTo>
                        <a:pt x="356" y="46"/>
                      </a:lnTo>
                      <a:lnTo>
                        <a:pt x="354" y="88"/>
                      </a:lnTo>
                      <a:lnTo>
                        <a:pt x="304" y="42"/>
                      </a:lnTo>
                      <a:lnTo>
                        <a:pt x="296" y="48"/>
                      </a:lnTo>
                      <a:lnTo>
                        <a:pt x="352" y="108"/>
                      </a:lnTo>
                      <a:lnTo>
                        <a:pt x="354" y="140"/>
                      </a:lnTo>
                      <a:lnTo>
                        <a:pt x="354" y="174"/>
                      </a:lnTo>
                      <a:lnTo>
                        <a:pt x="258" y="82"/>
                      </a:lnTo>
                      <a:lnTo>
                        <a:pt x="250" y="90"/>
                      </a:lnTo>
                      <a:lnTo>
                        <a:pt x="356" y="200"/>
                      </a:lnTo>
                      <a:lnTo>
                        <a:pt x="358" y="214"/>
                      </a:lnTo>
                      <a:lnTo>
                        <a:pt x="360" y="258"/>
                      </a:lnTo>
                      <a:lnTo>
                        <a:pt x="362" y="302"/>
                      </a:lnTo>
                      <a:lnTo>
                        <a:pt x="360" y="346"/>
                      </a:lnTo>
                      <a:lnTo>
                        <a:pt x="356" y="392"/>
                      </a:lnTo>
                      <a:lnTo>
                        <a:pt x="314" y="374"/>
                      </a:lnTo>
                      <a:lnTo>
                        <a:pt x="274" y="352"/>
                      </a:lnTo>
                      <a:lnTo>
                        <a:pt x="236" y="328"/>
                      </a:lnTo>
                      <a:lnTo>
                        <a:pt x="198" y="304"/>
                      </a:lnTo>
                      <a:lnTo>
                        <a:pt x="186" y="294"/>
                      </a:lnTo>
                      <a:lnTo>
                        <a:pt x="144" y="152"/>
                      </a:lnTo>
                      <a:lnTo>
                        <a:pt x="132" y="154"/>
                      </a:lnTo>
                      <a:lnTo>
                        <a:pt x="164" y="282"/>
                      </a:lnTo>
                      <a:lnTo>
                        <a:pt x="106" y="246"/>
                      </a:lnTo>
                      <a:lnTo>
                        <a:pt x="84" y="170"/>
                      </a:lnTo>
                      <a:lnTo>
                        <a:pt x="74" y="174"/>
                      </a:lnTo>
                      <a:lnTo>
                        <a:pt x="90" y="238"/>
                      </a:lnTo>
                      <a:lnTo>
                        <a:pt x="54" y="220"/>
                      </a:lnTo>
                      <a:lnTo>
                        <a:pt x="14" y="206"/>
                      </a:lnTo>
                      <a:lnTo>
                        <a:pt x="12" y="204"/>
                      </a:lnTo>
                      <a:lnTo>
                        <a:pt x="10" y="208"/>
                      </a:lnTo>
                      <a:lnTo>
                        <a:pt x="2" y="222"/>
                      </a:lnTo>
                      <a:lnTo>
                        <a:pt x="0" y="224"/>
                      </a:lnTo>
                      <a:lnTo>
                        <a:pt x="2" y="226"/>
                      </a:lnTo>
                      <a:lnTo>
                        <a:pt x="36" y="254"/>
                      </a:lnTo>
                      <a:lnTo>
                        <a:pt x="70" y="278"/>
                      </a:lnTo>
                      <a:lnTo>
                        <a:pt x="4" y="296"/>
                      </a:lnTo>
                      <a:lnTo>
                        <a:pt x="6" y="306"/>
                      </a:lnTo>
                      <a:lnTo>
                        <a:pt x="86" y="288"/>
                      </a:lnTo>
                      <a:lnTo>
                        <a:pt x="114" y="304"/>
                      </a:lnTo>
                      <a:lnTo>
                        <a:pt x="144" y="318"/>
                      </a:lnTo>
                      <a:lnTo>
                        <a:pt x="16" y="356"/>
                      </a:lnTo>
                      <a:lnTo>
                        <a:pt x="20" y="366"/>
                      </a:lnTo>
                      <a:lnTo>
                        <a:pt x="168" y="330"/>
                      </a:lnTo>
                      <a:lnTo>
                        <a:pt x="180" y="336"/>
                      </a:lnTo>
                      <a:lnTo>
                        <a:pt x="220" y="356"/>
                      </a:lnTo>
                      <a:lnTo>
                        <a:pt x="258" y="376"/>
                      </a:lnTo>
                      <a:lnTo>
                        <a:pt x="296" y="400"/>
                      </a:lnTo>
                      <a:lnTo>
                        <a:pt x="334" y="426"/>
                      </a:lnTo>
                      <a:lnTo>
                        <a:pt x="296" y="454"/>
                      </a:lnTo>
                      <a:lnTo>
                        <a:pt x="258" y="478"/>
                      </a:lnTo>
                      <a:lnTo>
                        <a:pt x="218" y="498"/>
                      </a:lnTo>
                      <a:lnTo>
                        <a:pt x="178" y="520"/>
                      </a:lnTo>
                      <a:lnTo>
                        <a:pt x="164" y="526"/>
                      </a:lnTo>
                      <a:lnTo>
                        <a:pt x="20" y="490"/>
                      </a:lnTo>
                      <a:lnTo>
                        <a:pt x="16" y="502"/>
                      </a:lnTo>
                      <a:lnTo>
                        <a:pt x="142" y="538"/>
                      </a:lnTo>
                      <a:lnTo>
                        <a:pt x="112" y="554"/>
                      </a:lnTo>
                      <a:lnTo>
                        <a:pt x="82" y="570"/>
                      </a:lnTo>
                      <a:lnTo>
                        <a:pt x="6" y="552"/>
                      </a:lnTo>
                      <a:lnTo>
                        <a:pt x="4" y="560"/>
                      </a:lnTo>
                      <a:lnTo>
                        <a:pt x="68" y="580"/>
                      </a:lnTo>
                      <a:lnTo>
                        <a:pt x="34" y="602"/>
                      </a:lnTo>
                      <a:lnTo>
                        <a:pt x="2" y="628"/>
                      </a:lnTo>
                      <a:lnTo>
                        <a:pt x="0" y="630"/>
                      </a:lnTo>
                      <a:lnTo>
                        <a:pt x="6" y="644"/>
                      </a:lnTo>
                      <a:lnTo>
                        <a:pt x="8" y="648"/>
                      </a:lnTo>
                      <a:lnTo>
                        <a:pt x="10" y="650"/>
                      </a:lnTo>
                      <a:lnTo>
                        <a:pt x="14" y="650"/>
                      </a:lnTo>
                      <a:lnTo>
                        <a:pt x="54" y="636"/>
                      </a:lnTo>
                      <a:lnTo>
                        <a:pt x="92" y="618"/>
                      </a:lnTo>
                      <a:lnTo>
                        <a:pt x="74" y="684"/>
                      </a:lnTo>
                      <a:lnTo>
                        <a:pt x="84" y="686"/>
                      </a:lnTo>
                      <a:lnTo>
                        <a:pt x="108" y="608"/>
                      </a:lnTo>
                      <a:lnTo>
                        <a:pt x="136" y="592"/>
                      </a:lnTo>
                      <a:lnTo>
                        <a:pt x="164" y="574"/>
                      </a:lnTo>
                      <a:lnTo>
                        <a:pt x="132" y="702"/>
                      </a:lnTo>
                      <a:lnTo>
                        <a:pt x="144" y="706"/>
                      </a:lnTo>
                      <a:lnTo>
                        <a:pt x="186" y="558"/>
                      </a:lnTo>
                      <a:lnTo>
                        <a:pt x="196" y="552"/>
                      </a:lnTo>
                      <a:lnTo>
                        <a:pt x="234" y="526"/>
                      </a:lnTo>
                      <a:lnTo>
                        <a:pt x="272" y="504"/>
                      </a:lnTo>
                      <a:lnTo>
                        <a:pt x="310" y="482"/>
                      </a:lnTo>
                      <a:lnTo>
                        <a:pt x="352" y="464"/>
                      </a:lnTo>
                      <a:lnTo>
                        <a:pt x="356" y="508"/>
                      </a:lnTo>
                      <a:lnTo>
                        <a:pt x="358" y="554"/>
                      </a:lnTo>
                      <a:lnTo>
                        <a:pt x="356" y="600"/>
                      </a:lnTo>
                      <a:lnTo>
                        <a:pt x="354" y="644"/>
                      </a:lnTo>
                      <a:lnTo>
                        <a:pt x="354" y="660"/>
                      </a:lnTo>
                      <a:lnTo>
                        <a:pt x="250" y="768"/>
                      </a:lnTo>
                      <a:lnTo>
                        <a:pt x="258" y="776"/>
                      </a:lnTo>
                      <a:lnTo>
                        <a:pt x="352" y="686"/>
                      </a:lnTo>
                      <a:lnTo>
                        <a:pt x="352" y="718"/>
                      </a:lnTo>
                      <a:lnTo>
                        <a:pt x="352" y="752"/>
                      </a:lnTo>
                      <a:lnTo>
                        <a:pt x="296" y="808"/>
                      </a:lnTo>
                      <a:lnTo>
                        <a:pt x="304" y="816"/>
                      </a:lnTo>
                      <a:lnTo>
                        <a:pt x="352" y="770"/>
                      </a:lnTo>
                      <a:lnTo>
                        <a:pt x="354" y="812"/>
                      </a:lnTo>
                      <a:lnTo>
                        <a:pt x="362" y="852"/>
                      </a:lnTo>
                      <a:lnTo>
                        <a:pt x="362" y="856"/>
                      </a:lnTo>
                      <a:lnTo>
                        <a:pt x="366" y="856"/>
                      </a:lnTo>
                      <a:lnTo>
                        <a:pt x="382" y="856"/>
                      </a:lnTo>
                      <a:lnTo>
                        <a:pt x="386" y="856"/>
                      </a:lnTo>
                      <a:lnTo>
                        <a:pt x="386" y="852"/>
                      </a:lnTo>
                      <a:lnTo>
                        <a:pt x="394" y="810"/>
                      </a:lnTo>
                      <a:lnTo>
                        <a:pt x="396" y="768"/>
                      </a:lnTo>
                      <a:lnTo>
                        <a:pt x="446" y="816"/>
                      </a:lnTo>
                      <a:lnTo>
                        <a:pt x="452" y="808"/>
                      </a:lnTo>
                      <a:lnTo>
                        <a:pt x="396" y="750"/>
                      </a:lnTo>
                      <a:lnTo>
                        <a:pt x="396" y="716"/>
                      </a:lnTo>
                      <a:lnTo>
                        <a:pt x="394" y="682"/>
                      </a:lnTo>
                      <a:lnTo>
                        <a:pt x="490" y="776"/>
                      </a:lnTo>
                      <a:lnTo>
                        <a:pt x="498" y="768"/>
                      </a:lnTo>
                      <a:lnTo>
                        <a:pt x="392" y="656"/>
                      </a:lnTo>
                      <a:lnTo>
                        <a:pt x="392" y="644"/>
                      </a:lnTo>
                      <a:lnTo>
                        <a:pt x="390" y="600"/>
                      </a:lnTo>
                      <a:lnTo>
                        <a:pt x="388" y="556"/>
                      </a:lnTo>
                      <a:lnTo>
                        <a:pt x="388" y="510"/>
                      </a:lnTo>
                      <a:lnTo>
                        <a:pt x="394" y="466"/>
                      </a:lnTo>
                      <a:lnTo>
                        <a:pt x="436" y="484"/>
                      </a:lnTo>
                      <a:lnTo>
                        <a:pt x="476" y="506"/>
                      </a:lnTo>
                      <a:lnTo>
                        <a:pt x="514" y="530"/>
                      </a:lnTo>
                      <a:lnTo>
                        <a:pt x="552" y="554"/>
                      </a:lnTo>
                      <a:lnTo>
                        <a:pt x="564" y="562"/>
                      </a:lnTo>
                      <a:lnTo>
                        <a:pt x="606" y="706"/>
                      </a:lnTo>
                      <a:lnTo>
                        <a:pt x="618" y="702"/>
                      </a:lnTo>
                      <a:lnTo>
                        <a:pt x="586" y="576"/>
                      </a:lnTo>
                      <a:lnTo>
                        <a:pt x="614" y="594"/>
                      </a:lnTo>
                      <a:lnTo>
                        <a:pt x="642" y="610"/>
                      </a:lnTo>
                      <a:lnTo>
                        <a:pt x="664" y="686"/>
                      </a:lnTo>
                      <a:lnTo>
                        <a:pt x="674" y="684"/>
                      </a:lnTo>
                      <a:lnTo>
                        <a:pt x="658" y="620"/>
                      </a:lnTo>
                      <a:lnTo>
                        <a:pt x="696" y="636"/>
                      </a:lnTo>
                      <a:lnTo>
                        <a:pt x="734" y="652"/>
                      </a:lnTo>
                      <a:lnTo>
                        <a:pt x="738" y="652"/>
                      </a:lnTo>
                      <a:lnTo>
                        <a:pt x="746" y="638"/>
                      </a:lnTo>
                      <a:lnTo>
                        <a:pt x="746" y="636"/>
                      </a:lnTo>
                      <a:lnTo>
                        <a:pt x="750" y="632"/>
                      </a:lnTo>
                      <a:lnTo>
                        <a:pt x="746" y="630"/>
                      </a:lnTo>
                      <a:lnTo>
                        <a:pt x="714" y="604"/>
                      </a:lnTo>
                      <a:lnTo>
                        <a:pt x="680" y="580"/>
                      </a:lnTo>
                      <a:close/>
                    </a:path>
                  </a:pathLst>
                </a:custGeom>
                <a:solidFill>
                  <a:srgbClr val="feffff">
                    <a:alpha val="76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" name="Freeform 53"/>
                <p:cNvSpPr/>
                <p:nvPr/>
              </p:nvSpPr>
              <p:spPr>
                <a:xfrm rot="20991000">
                  <a:off x="8629560" y="900000"/>
                  <a:ext cx="294120" cy="422640"/>
                </a:xfrm>
                <a:custGeom>
                  <a:avLst/>
                  <a:gdLst/>
                  <a:ahLst/>
                  <a:rect l="l" t="t" r="r" b="b"/>
                  <a:pathLst>
                    <a:path w="750" h="856">
                      <a:moveTo>
                        <a:pt x="680" y="580"/>
                      </a:moveTo>
                      <a:lnTo>
                        <a:pt x="746" y="560"/>
                      </a:lnTo>
                      <a:lnTo>
                        <a:pt x="744" y="552"/>
                      </a:lnTo>
                      <a:lnTo>
                        <a:pt x="664" y="570"/>
                      </a:lnTo>
                      <a:lnTo>
                        <a:pt x="634" y="554"/>
                      </a:lnTo>
                      <a:lnTo>
                        <a:pt x="604" y="538"/>
                      </a:lnTo>
                      <a:lnTo>
                        <a:pt x="732" y="502"/>
                      </a:lnTo>
                      <a:lnTo>
                        <a:pt x="730" y="490"/>
                      </a:lnTo>
                      <a:lnTo>
                        <a:pt x="582" y="526"/>
                      </a:lnTo>
                      <a:lnTo>
                        <a:pt x="570" y="522"/>
                      </a:lnTo>
                      <a:lnTo>
                        <a:pt x="530" y="502"/>
                      </a:lnTo>
                      <a:lnTo>
                        <a:pt x="490" y="480"/>
                      </a:lnTo>
                      <a:lnTo>
                        <a:pt x="452" y="458"/>
                      </a:lnTo>
                      <a:lnTo>
                        <a:pt x="416" y="432"/>
                      </a:lnTo>
                      <a:lnTo>
                        <a:pt x="454" y="404"/>
                      </a:lnTo>
                      <a:lnTo>
                        <a:pt x="492" y="380"/>
                      </a:lnTo>
                      <a:lnTo>
                        <a:pt x="532" y="358"/>
                      </a:lnTo>
                      <a:lnTo>
                        <a:pt x="572" y="338"/>
                      </a:lnTo>
                      <a:lnTo>
                        <a:pt x="586" y="332"/>
                      </a:lnTo>
                      <a:lnTo>
                        <a:pt x="730" y="366"/>
                      </a:lnTo>
                      <a:lnTo>
                        <a:pt x="732" y="356"/>
                      </a:lnTo>
                      <a:lnTo>
                        <a:pt x="608" y="320"/>
                      </a:lnTo>
                      <a:lnTo>
                        <a:pt x="666" y="288"/>
                      </a:lnTo>
                      <a:lnTo>
                        <a:pt x="744" y="306"/>
                      </a:lnTo>
                      <a:lnTo>
                        <a:pt x="746" y="296"/>
                      </a:lnTo>
                      <a:lnTo>
                        <a:pt x="682" y="278"/>
                      </a:lnTo>
                      <a:lnTo>
                        <a:pt x="716" y="254"/>
                      </a:lnTo>
                      <a:lnTo>
                        <a:pt x="748" y="228"/>
                      </a:lnTo>
                      <a:lnTo>
                        <a:pt x="750" y="226"/>
                      </a:lnTo>
                      <a:lnTo>
                        <a:pt x="748" y="224"/>
                      </a:lnTo>
                      <a:lnTo>
                        <a:pt x="744" y="214"/>
                      </a:lnTo>
                      <a:lnTo>
                        <a:pt x="738" y="206"/>
                      </a:lnTo>
                      <a:lnTo>
                        <a:pt x="736" y="208"/>
                      </a:lnTo>
                      <a:lnTo>
                        <a:pt x="696" y="222"/>
                      </a:lnTo>
                      <a:lnTo>
                        <a:pt x="658" y="240"/>
                      </a:lnTo>
                      <a:lnTo>
                        <a:pt x="674" y="174"/>
                      </a:lnTo>
                      <a:lnTo>
                        <a:pt x="664" y="170"/>
                      </a:lnTo>
                      <a:lnTo>
                        <a:pt x="642" y="248"/>
                      </a:lnTo>
                      <a:lnTo>
                        <a:pt x="614" y="266"/>
                      </a:lnTo>
                      <a:lnTo>
                        <a:pt x="584" y="284"/>
                      </a:lnTo>
                      <a:lnTo>
                        <a:pt x="618" y="154"/>
                      </a:lnTo>
                      <a:lnTo>
                        <a:pt x="606" y="152"/>
                      </a:lnTo>
                      <a:lnTo>
                        <a:pt x="562" y="298"/>
                      </a:lnTo>
                      <a:lnTo>
                        <a:pt x="552" y="306"/>
                      </a:lnTo>
                      <a:lnTo>
                        <a:pt x="516" y="330"/>
                      </a:lnTo>
                      <a:lnTo>
                        <a:pt x="478" y="354"/>
                      </a:lnTo>
                      <a:lnTo>
                        <a:pt x="438" y="376"/>
                      </a:lnTo>
                      <a:lnTo>
                        <a:pt x="398" y="394"/>
                      </a:lnTo>
                      <a:lnTo>
                        <a:pt x="392" y="348"/>
                      </a:lnTo>
                      <a:lnTo>
                        <a:pt x="392" y="302"/>
                      </a:lnTo>
                      <a:lnTo>
                        <a:pt x="392" y="258"/>
                      </a:lnTo>
                      <a:lnTo>
                        <a:pt x="394" y="212"/>
                      </a:lnTo>
                      <a:lnTo>
                        <a:pt x="396" y="198"/>
                      </a:lnTo>
                      <a:lnTo>
                        <a:pt x="498" y="90"/>
                      </a:lnTo>
                      <a:lnTo>
                        <a:pt x="490" y="82"/>
                      </a:lnTo>
                      <a:lnTo>
                        <a:pt x="398" y="172"/>
                      </a:lnTo>
                      <a:lnTo>
                        <a:pt x="398" y="106"/>
                      </a:lnTo>
                      <a:lnTo>
                        <a:pt x="452" y="48"/>
                      </a:lnTo>
                      <a:lnTo>
                        <a:pt x="446" y="42"/>
                      </a:lnTo>
                      <a:lnTo>
                        <a:pt x="398" y="88"/>
                      </a:lnTo>
                      <a:lnTo>
                        <a:pt x="394" y="46"/>
                      </a:lnTo>
                      <a:lnTo>
                        <a:pt x="388" y="4"/>
                      </a:lnTo>
                      <a:lnTo>
                        <a:pt x="388" y="0"/>
                      </a:lnTo>
                      <a:lnTo>
                        <a:pt x="384" y="0"/>
                      </a:lnTo>
                      <a:lnTo>
                        <a:pt x="368" y="0"/>
                      </a:lnTo>
                      <a:lnTo>
                        <a:pt x="364" y="0"/>
                      </a:lnTo>
                      <a:lnTo>
                        <a:pt x="364" y="4"/>
                      </a:lnTo>
                      <a:lnTo>
                        <a:pt x="356" y="46"/>
                      </a:lnTo>
                      <a:lnTo>
                        <a:pt x="354" y="88"/>
                      </a:lnTo>
                      <a:lnTo>
                        <a:pt x="304" y="42"/>
                      </a:lnTo>
                      <a:lnTo>
                        <a:pt x="296" y="48"/>
                      </a:lnTo>
                      <a:lnTo>
                        <a:pt x="352" y="108"/>
                      </a:lnTo>
                      <a:lnTo>
                        <a:pt x="354" y="140"/>
                      </a:lnTo>
                      <a:lnTo>
                        <a:pt x="354" y="174"/>
                      </a:lnTo>
                      <a:lnTo>
                        <a:pt x="258" y="82"/>
                      </a:lnTo>
                      <a:lnTo>
                        <a:pt x="250" y="90"/>
                      </a:lnTo>
                      <a:lnTo>
                        <a:pt x="356" y="200"/>
                      </a:lnTo>
                      <a:lnTo>
                        <a:pt x="358" y="214"/>
                      </a:lnTo>
                      <a:lnTo>
                        <a:pt x="360" y="258"/>
                      </a:lnTo>
                      <a:lnTo>
                        <a:pt x="362" y="302"/>
                      </a:lnTo>
                      <a:lnTo>
                        <a:pt x="360" y="346"/>
                      </a:lnTo>
                      <a:lnTo>
                        <a:pt x="356" y="392"/>
                      </a:lnTo>
                      <a:lnTo>
                        <a:pt x="314" y="374"/>
                      </a:lnTo>
                      <a:lnTo>
                        <a:pt x="274" y="352"/>
                      </a:lnTo>
                      <a:lnTo>
                        <a:pt x="236" y="328"/>
                      </a:lnTo>
                      <a:lnTo>
                        <a:pt x="198" y="304"/>
                      </a:lnTo>
                      <a:lnTo>
                        <a:pt x="186" y="294"/>
                      </a:lnTo>
                      <a:lnTo>
                        <a:pt x="144" y="152"/>
                      </a:lnTo>
                      <a:lnTo>
                        <a:pt x="132" y="154"/>
                      </a:lnTo>
                      <a:lnTo>
                        <a:pt x="164" y="282"/>
                      </a:lnTo>
                      <a:lnTo>
                        <a:pt x="106" y="246"/>
                      </a:lnTo>
                      <a:lnTo>
                        <a:pt x="84" y="170"/>
                      </a:lnTo>
                      <a:lnTo>
                        <a:pt x="74" y="174"/>
                      </a:lnTo>
                      <a:lnTo>
                        <a:pt x="90" y="238"/>
                      </a:lnTo>
                      <a:lnTo>
                        <a:pt x="54" y="220"/>
                      </a:lnTo>
                      <a:lnTo>
                        <a:pt x="14" y="206"/>
                      </a:lnTo>
                      <a:lnTo>
                        <a:pt x="12" y="204"/>
                      </a:lnTo>
                      <a:lnTo>
                        <a:pt x="10" y="208"/>
                      </a:lnTo>
                      <a:lnTo>
                        <a:pt x="2" y="222"/>
                      </a:lnTo>
                      <a:lnTo>
                        <a:pt x="0" y="224"/>
                      </a:lnTo>
                      <a:lnTo>
                        <a:pt x="2" y="226"/>
                      </a:lnTo>
                      <a:lnTo>
                        <a:pt x="36" y="254"/>
                      </a:lnTo>
                      <a:lnTo>
                        <a:pt x="70" y="278"/>
                      </a:lnTo>
                      <a:lnTo>
                        <a:pt x="4" y="296"/>
                      </a:lnTo>
                      <a:lnTo>
                        <a:pt x="6" y="306"/>
                      </a:lnTo>
                      <a:lnTo>
                        <a:pt x="86" y="288"/>
                      </a:lnTo>
                      <a:lnTo>
                        <a:pt x="114" y="304"/>
                      </a:lnTo>
                      <a:lnTo>
                        <a:pt x="144" y="318"/>
                      </a:lnTo>
                      <a:lnTo>
                        <a:pt x="16" y="356"/>
                      </a:lnTo>
                      <a:lnTo>
                        <a:pt x="20" y="366"/>
                      </a:lnTo>
                      <a:lnTo>
                        <a:pt x="168" y="330"/>
                      </a:lnTo>
                      <a:lnTo>
                        <a:pt x="180" y="336"/>
                      </a:lnTo>
                      <a:lnTo>
                        <a:pt x="220" y="356"/>
                      </a:lnTo>
                      <a:lnTo>
                        <a:pt x="258" y="376"/>
                      </a:lnTo>
                      <a:lnTo>
                        <a:pt x="296" y="400"/>
                      </a:lnTo>
                      <a:lnTo>
                        <a:pt x="334" y="426"/>
                      </a:lnTo>
                      <a:lnTo>
                        <a:pt x="296" y="454"/>
                      </a:lnTo>
                      <a:lnTo>
                        <a:pt x="258" y="478"/>
                      </a:lnTo>
                      <a:lnTo>
                        <a:pt x="218" y="498"/>
                      </a:lnTo>
                      <a:lnTo>
                        <a:pt x="178" y="520"/>
                      </a:lnTo>
                      <a:lnTo>
                        <a:pt x="164" y="526"/>
                      </a:lnTo>
                      <a:lnTo>
                        <a:pt x="20" y="490"/>
                      </a:lnTo>
                      <a:lnTo>
                        <a:pt x="16" y="502"/>
                      </a:lnTo>
                      <a:lnTo>
                        <a:pt x="142" y="538"/>
                      </a:lnTo>
                      <a:lnTo>
                        <a:pt x="112" y="554"/>
                      </a:lnTo>
                      <a:lnTo>
                        <a:pt x="82" y="570"/>
                      </a:lnTo>
                      <a:lnTo>
                        <a:pt x="6" y="552"/>
                      </a:lnTo>
                      <a:lnTo>
                        <a:pt x="4" y="560"/>
                      </a:lnTo>
                      <a:lnTo>
                        <a:pt x="68" y="580"/>
                      </a:lnTo>
                      <a:lnTo>
                        <a:pt x="34" y="602"/>
                      </a:lnTo>
                      <a:lnTo>
                        <a:pt x="2" y="628"/>
                      </a:lnTo>
                      <a:lnTo>
                        <a:pt x="0" y="630"/>
                      </a:lnTo>
                      <a:lnTo>
                        <a:pt x="6" y="644"/>
                      </a:lnTo>
                      <a:lnTo>
                        <a:pt x="8" y="648"/>
                      </a:lnTo>
                      <a:lnTo>
                        <a:pt x="10" y="650"/>
                      </a:lnTo>
                      <a:lnTo>
                        <a:pt x="14" y="650"/>
                      </a:lnTo>
                      <a:lnTo>
                        <a:pt x="54" y="636"/>
                      </a:lnTo>
                      <a:lnTo>
                        <a:pt x="92" y="618"/>
                      </a:lnTo>
                      <a:lnTo>
                        <a:pt x="74" y="684"/>
                      </a:lnTo>
                      <a:lnTo>
                        <a:pt x="84" y="686"/>
                      </a:lnTo>
                      <a:lnTo>
                        <a:pt x="108" y="608"/>
                      </a:lnTo>
                      <a:lnTo>
                        <a:pt x="136" y="592"/>
                      </a:lnTo>
                      <a:lnTo>
                        <a:pt x="164" y="574"/>
                      </a:lnTo>
                      <a:lnTo>
                        <a:pt x="132" y="702"/>
                      </a:lnTo>
                      <a:lnTo>
                        <a:pt x="144" y="706"/>
                      </a:lnTo>
                      <a:lnTo>
                        <a:pt x="186" y="558"/>
                      </a:lnTo>
                      <a:lnTo>
                        <a:pt x="196" y="552"/>
                      </a:lnTo>
                      <a:lnTo>
                        <a:pt x="234" y="526"/>
                      </a:lnTo>
                      <a:lnTo>
                        <a:pt x="272" y="504"/>
                      </a:lnTo>
                      <a:lnTo>
                        <a:pt x="310" y="482"/>
                      </a:lnTo>
                      <a:lnTo>
                        <a:pt x="352" y="464"/>
                      </a:lnTo>
                      <a:lnTo>
                        <a:pt x="356" y="508"/>
                      </a:lnTo>
                      <a:lnTo>
                        <a:pt x="358" y="554"/>
                      </a:lnTo>
                      <a:lnTo>
                        <a:pt x="356" y="600"/>
                      </a:lnTo>
                      <a:lnTo>
                        <a:pt x="354" y="644"/>
                      </a:lnTo>
                      <a:lnTo>
                        <a:pt x="354" y="660"/>
                      </a:lnTo>
                      <a:lnTo>
                        <a:pt x="250" y="768"/>
                      </a:lnTo>
                      <a:lnTo>
                        <a:pt x="258" y="776"/>
                      </a:lnTo>
                      <a:lnTo>
                        <a:pt x="352" y="686"/>
                      </a:lnTo>
                      <a:lnTo>
                        <a:pt x="352" y="718"/>
                      </a:lnTo>
                      <a:lnTo>
                        <a:pt x="352" y="752"/>
                      </a:lnTo>
                      <a:lnTo>
                        <a:pt x="296" y="808"/>
                      </a:lnTo>
                      <a:lnTo>
                        <a:pt x="304" y="816"/>
                      </a:lnTo>
                      <a:lnTo>
                        <a:pt x="352" y="770"/>
                      </a:lnTo>
                      <a:lnTo>
                        <a:pt x="354" y="812"/>
                      </a:lnTo>
                      <a:lnTo>
                        <a:pt x="362" y="852"/>
                      </a:lnTo>
                      <a:lnTo>
                        <a:pt x="362" y="856"/>
                      </a:lnTo>
                      <a:lnTo>
                        <a:pt x="366" y="856"/>
                      </a:lnTo>
                      <a:lnTo>
                        <a:pt x="382" y="856"/>
                      </a:lnTo>
                      <a:lnTo>
                        <a:pt x="386" y="856"/>
                      </a:lnTo>
                      <a:lnTo>
                        <a:pt x="386" y="852"/>
                      </a:lnTo>
                      <a:lnTo>
                        <a:pt x="394" y="810"/>
                      </a:lnTo>
                      <a:lnTo>
                        <a:pt x="396" y="768"/>
                      </a:lnTo>
                      <a:lnTo>
                        <a:pt x="446" y="816"/>
                      </a:lnTo>
                      <a:lnTo>
                        <a:pt x="452" y="808"/>
                      </a:lnTo>
                      <a:lnTo>
                        <a:pt x="396" y="750"/>
                      </a:lnTo>
                      <a:lnTo>
                        <a:pt x="396" y="716"/>
                      </a:lnTo>
                      <a:lnTo>
                        <a:pt x="394" y="682"/>
                      </a:lnTo>
                      <a:lnTo>
                        <a:pt x="490" y="776"/>
                      </a:lnTo>
                      <a:lnTo>
                        <a:pt x="498" y="768"/>
                      </a:lnTo>
                      <a:lnTo>
                        <a:pt x="392" y="656"/>
                      </a:lnTo>
                      <a:lnTo>
                        <a:pt x="392" y="644"/>
                      </a:lnTo>
                      <a:lnTo>
                        <a:pt x="390" y="600"/>
                      </a:lnTo>
                      <a:lnTo>
                        <a:pt x="388" y="556"/>
                      </a:lnTo>
                      <a:lnTo>
                        <a:pt x="388" y="510"/>
                      </a:lnTo>
                      <a:lnTo>
                        <a:pt x="394" y="466"/>
                      </a:lnTo>
                      <a:lnTo>
                        <a:pt x="436" y="484"/>
                      </a:lnTo>
                      <a:lnTo>
                        <a:pt x="476" y="506"/>
                      </a:lnTo>
                      <a:lnTo>
                        <a:pt x="514" y="530"/>
                      </a:lnTo>
                      <a:lnTo>
                        <a:pt x="552" y="554"/>
                      </a:lnTo>
                      <a:lnTo>
                        <a:pt x="564" y="562"/>
                      </a:lnTo>
                      <a:lnTo>
                        <a:pt x="606" y="706"/>
                      </a:lnTo>
                      <a:lnTo>
                        <a:pt x="618" y="702"/>
                      </a:lnTo>
                      <a:lnTo>
                        <a:pt x="586" y="576"/>
                      </a:lnTo>
                      <a:lnTo>
                        <a:pt x="614" y="594"/>
                      </a:lnTo>
                      <a:lnTo>
                        <a:pt x="642" y="610"/>
                      </a:lnTo>
                      <a:lnTo>
                        <a:pt x="664" y="686"/>
                      </a:lnTo>
                      <a:lnTo>
                        <a:pt x="674" y="684"/>
                      </a:lnTo>
                      <a:lnTo>
                        <a:pt x="658" y="620"/>
                      </a:lnTo>
                      <a:lnTo>
                        <a:pt x="696" y="636"/>
                      </a:lnTo>
                      <a:lnTo>
                        <a:pt x="734" y="652"/>
                      </a:lnTo>
                      <a:lnTo>
                        <a:pt x="738" y="652"/>
                      </a:lnTo>
                      <a:lnTo>
                        <a:pt x="746" y="638"/>
                      </a:lnTo>
                      <a:lnTo>
                        <a:pt x="746" y="636"/>
                      </a:lnTo>
                      <a:lnTo>
                        <a:pt x="750" y="632"/>
                      </a:lnTo>
                      <a:lnTo>
                        <a:pt x="746" y="630"/>
                      </a:lnTo>
                      <a:lnTo>
                        <a:pt x="714" y="604"/>
                      </a:lnTo>
                      <a:lnTo>
                        <a:pt x="680" y="580"/>
                      </a:lnTo>
                      <a:close/>
                    </a:path>
                  </a:pathLst>
                </a:custGeom>
                <a:solidFill>
                  <a:srgbClr val="feffff">
                    <a:alpha val="76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" name="Group 56"/>
              <p:cNvGrpSpPr/>
              <p:nvPr/>
            </p:nvGrpSpPr>
            <p:grpSpPr>
              <a:xfrm>
                <a:off x="7472520" y="64080"/>
                <a:ext cx="1554480" cy="6001920"/>
                <a:chOff x="7472520" y="64080"/>
                <a:chExt cx="1554480" cy="6001920"/>
              </a:xfrm>
            </p:grpSpPr>
            <p:sp>
              <p:nvSpPr>
                <p:cNvPr id="34" name="Freeform 69"/>
                <p:cNvSpPr/>
                <p:nvPr/>
              </p:nvSpPr>
              <p:spPr>
                <a:xfrm rot="474000">
                  <a:off x="7995240" y="4843080"/>
                  <a:ext cx="956160" cy="1162800"/>
                </a:xfrm>
                <a:custGeom>
                  <a:avLst/>
                  <a:gdLst/>
                  <a:ahLst/>
                  <a:rect l="l" t="t" r="r" b="b"/>
                  <a:pathLst>
                    <a:path w="760" h="870">
                      <a:moveTo>
                        <a:pt x="756" y="580"/>
                      </a:moveTo>
                      <a:lnTo>
                        <a:pt x="752" y="564"/>
                      </a:lnTo>
                      <a:lnTo>
                        <a:pt x="658" y="586"/>
                      </a:lnTo>
                      <a:lnTo>
                        <a:pt x="634" y="572"/>
                      </a:lnTo>
                      <a:lnTo>
                        <a:pt x="734" y="542"/>
                      </a:lnTo>
                      <a:lnTo>
                        <a:pt x="728" y="526"/>
                      </a:lnTo>
                      <a:lnTo>
                        <a:pt x="606" y="556"/>
                      </a:lnTo>
                      <a:lnTo>
                        <a:pt x="490" y="486"/>
                      </a:lnTo>
                      <a:lnTo>
                        <a:pt x="560" y="466"/>
                      </a:lnTo>
                      <a:lnTo>
                        <a:pt x="552" y="442"/>
                      </a:lnTo>
                      <a:lnTo>
                        <a:pt x="490" y="456"/>
                      </a:lnTo>
                      <a:lnTo>
                        <a:pt x="502" y="436"/>
                      </a:lnTo>
                      <a:lnTo>
                        <a:pt x="490" y="414"/>
                      </a:lnTo>
                      <a:lnTo>
                        <a:pt x="552" y="430"/>
                      </a:lnTo>
                      <a:lnTo>
                        <a:pt x="560" y="406"/>
                      </a:lnTo>
                      <a:lnTo>
                        <a:pt x="496" y="388"/>
                      </a:lnTo>
                      <a:lnTo>
                        <a:pt x="610" y="318"/>
                      </a:lnTo>
                      <a:lnTo>
                        <a:pt x="728" y="346"/>
                      </a:lnTo>
                      <a:lnTo>
                        <a:pt x="734" y="328"/>
                      </a:lnTo>
                      <a:lnTo>
                        <a:pt x="638" y="302"/>
                      </a:lnTo>
                      <a:lnTo>
                        <a:pt x="662" y="286"/>
                      </a:lnTo>
                      <a:lnTo>
                        <a:pt x="752" y="308"/>
                      </a:lnTo>
                      <a:lnTo>
                        <a:pt x="756" y="292"/>
                      </a:lnTo>
                      <a:lnTo>
                        <a:pt x="688" y="272"/>
                      </a:lnTo>
                      <a:lnTo>
                        <a:pt x="760" y="228"/>
                      </a:lnTo>
                      <a:lnTo>
                        <a:pt x="752" y="214"/>
                      </a:lnTo>
                      <a:lnTo>
                        <a:pt x="674" y="256"/>
                      </a:lnTo>
                      <a:lnTo>
                        <a:pt x="694" y="182"/>
                      </a:lnTo>
                      <a:lnTo>
                        <a:pt x="676" y="176"/>
                      </a:lnTo>
                      <a:lnTo>
                        <a:pt x="648" y="270"/>
                      </a:lnTo>
                      <a:lnTo>
                        <a:pt x="624" y="284"/>
                      </a:lnTo>
                      <a:lnTo>
                        <a:pt x="650" y="184"/>
                      </a:lnTo>
                      <a:lnTo>
                        <a:pt x="632" y="178"/>
                      </a:lnTo>
                      <a:lnTo>
                        <a:pt x="596" y="300"/>
                      </a:lnTo>
                      <a:lnTo>
                        <a:pt x="478" y="364"/>
                      </a:lnTo>
                      <a:lnTo>
                        <a:pt x="496" y="296"/>
                      </a:lnTo>
                      <a:lnTo>
                        <a:pt x="470" y="288"/>
                      </a:lnTo>
                      <a:lnTo>
                        <a:pt x="452" y="354"/>
                      </a:lnTo>
                      <a:lnTo>
                        <a:pt x="442" y="336"/>
                      </a:lnTo>
                      <a:lnTo>
                        <a:pt x="414" y="336"/>
                      </a:lnTo>
                      <a:lnTo>
                        <a:pt x="462" y="286"/>
                      </a:lnTo>
                      <a:lnTo>
                        <a:pt x="444" y="266"/>
                      </a:lnTo>
                      <a:lnTo>
                        <a:pt x="396" y="312"/>
                      </a:lnTo>
                      <a:lnTo>
                        <a:pt x="392" y="176"/>
                      </a:lnTo>
                      <a:lnTo>
                        <a:pt x="476" y="90"/>
                      </a:lnTo>
                      <a:lnTo>
                        <a:pt x="464" y="76"/>
                      </a:lnTo>
                      <a:lnTo>
                        <a:pt x="392" y="146"/>
                      </a:lnTo>
                      <a:lnTo>
                        <a:pt x="392" y="116"/>
                      </a:lnTo>
                      <a:lnTo>
                        <a:pt x="456" y="50"/>
                      </a:lnTo>
                      <a:lnTo>
                        <a:pt x="444" y="38"/>
                      </a:lnTo>
                      <a:lnTo>
                        <a:pt x="392" y="86"/>
                      </a:lnTo>
                      <a:lnTo>
                        <a:pt x="390" y="0"/>
                      </a:lnTo>
                      <a:lnTo>
                        <a:pt x="374" y="0"/>
                      </a:lnTo>
                      <a:lnTo>
                        <a:pt x="372" y="90"/>
                      </a:lnTo>
                      <a:lnTo>
                        <a:pt x="316" y="36"/>
                      </a:lnTo>
                      <a:lnTo>
                        <a:pt x="304" y="50"/>
                      </a:lnTo>
                      <a:lnTo>
                        <a:pt x="372" y="120"/>
                      </a:lnTo>
                      <a:lnTo>
                        <a:pt x="370" y="148"/>
                      </a:lnTo>
                      <a:lnTo>
                        <a:pt x="296" y="76"/>
                      </a:lnTo>
                      <a:lnTo>
                        <a:pt x="282" y="90"/>
                      </a:lnTo>
                      <a:lnTo>
                        <a:pt x="370" y="180"/>
                      </a:lnTo>
                      <a:lnTo>
                        <a:pt x="368" y="316"/>
                      </a:lnTo>
                      <a:lnTo>
                        <a:pt x="316" y="266"/>
                      </a:lnTo>
                      <a:lnTo>
                        <a:pt x="298" y="286"/>
                      </a:lnTo>
                      <a:lnTo>
                        <a:pt x="344" y="336"/>
                      </a:lnTo>
                      <a:lnTo>
                        <a:pt x="322" y="336"/>
                      </a:lnTo>
                      <a:lnTo>
                        <a:pt x="308" y="358"/>
                      </a:lnTo>
                      <a:lnTo>
                        <a:pt x="288" y="290"/>
                      </a:lnTo>
                      <a:lnTo>
                        <a:pt x="264" y="296"/>
                      </a:lnTo>
                      <a:lnTo>
                        <a:pt x="280" y="360"/>
                      </a:lnTo>
                      <a:lnTo>
                        <a:pt x="162" y="294"/>
                      </a:lnTo>
                      <a:lnTo>
                        <a:pt x="128" y="178"/>
                      </a:lnTo>
                      <a:lnTo>
                        <a:pt x="110" y="184"/>
                      </a:lnTo>
                      <a:lnTo>
                        <a:pt x="134" y="280"/>
                      </a:lnTo>
                      <a:lnTo>
                        <a:pt x="110" y="266"/>
                      </a:lnTo>
                      <a:lnTo>
                        <a:pt x="84" y="176"/>
                      </a:lnTo>
                      <a:lnTo>
                        <a:pt x="66" y="182"/>
                      </a:lnTo>
                      <a:lnTo>
                        <a:pt x="84" y="252"/>
                      </a:lnTo>
                      <a:lnTo>
                        <a:pt x="10" y="210"/>
                      </a:lnTo>
                      <a:lnTo>
                        <a:pt x="2" y="224"/>
                      </a:lnTo>
                      <a:lnTo>
                        <a:pt x="76" y="270"/>
                      </a:lnTo>
                      <a:lnTo>
                        <a:pt x="2" y="292"/>
                      </a:lnTo>
                      <a:lnTo>
                        <a:pt x="8" y="308"/>
                      </a:lnTo>
                      <a:lnTo>
                        <a:pt x="102" y="286"/>
                      </a:lnTo>
                      <a:lnTo>
                        <a:pt x="126" y="300"/>
                      </a:lnTo>
                      <a:lnTo>
                        <a:pt x="26" y="328"/>
                      </a:lnTo>
                      <a:lnTo>
                        <a:pt x="30" y="346"/>
                      </a:lnTo>
                      <a:lnTo>
                        <a:pt x="154" y="316"/>
                      </a:lnTo>
                      <a:lnTo>
                        <a:pt x="270" y="386"/>
                      </a:lnTo>
                      <a:lnTo>
                        <a:pt x="200" y="406"/>
                      </a:lnTo>
                      <a:lnTo>
                        <a:pt x="206" y="430"/>
                      </a:lnTo>
                      <a:lnTo>
                        <a:pt x="276" y="414"/>
                      </a:lnTo>
                      <a:lnTo>
                        <a:pt x="262" y="436"/>
                      </a:lnTo>
                      <a:lnTo>
                        <a:pt x="276" y="458"/>
                      </a:lnTo>
                      <a:lnTo>
                        <a:pt x="206" y="442"/>
                      </a:lnTo>
                      <a:lnTo>
                        <a:pt x="200" y="466"/>
                      </a:lnTo>
                      <a:lnTo>
                        <a:pt x="264" y="484"/>
                      </a:lnTo>
                      <a:lnTo>
                        <a:pt x="148" y="554"/>
                      </a:lnTo>
                      <a:lnTo>
                        <a:pt x="30" y="526"/>
                      </a:lnTo>
                      <a:lnTo>
                        <a:pt x="26" y="542"/>
                      </a:lnTo>
                      <a:lnTo>
                        <a:pt x="122" y="570"/>
                      </a:lnTo>
                      <a:lnTo>
                        <a:pt x="98" y="586"/>
                      </a:lnTo>
                      <a:lnTo>
                        <a:pt x="8" y="562"/>
                      </a:lnTo>
                      <a:lnTo>
                        <a:pt x="2" y="580"/>
                      </a:lnTo>
                      <a:lnTo>
                        <a:pt x="72" y="600"/>
                      </a:lnTo>
                      <a:lnTo>
                        <a:pt x="0" y="644"/>
                      </a:lnTo>
                      <a:lnTo>
                        <a:pt x="8" y="658"/>
                      </a:lnTo>
                      <a:lnTo>
                        <a:pt x="84" y="616"/>
                      </a:lnTo>
                      <a:lnTo>
                        <a:pt x="66" y="690"/>
                      </a:lnTo>
                      <a:lnTo>
                        <a:pt x="84" y="694"/>
                      </a:lnTo>
                      <a:lnTo>
                        <a:pt x="110" y="602"/>
                      </a:lnTo>
                      <a:lnTo>
                        <a:pt x="136" y="588"/>
                      </a:lnTo>
                      <a:lnTo>
                        <a:pt x="110" y="688"/>
                      </a:lnTo>
                      <a:lnTo>
                        <a:pt x="128" y="694"/>
                      </a:lnTo>
                      <a:lnTo>
                        <a:pt x="164" y="572"/>
                      </a:lnTo>
                      <a:lnTo>
                        <a:pt x="282" y="506"/>
                      </a:lnTo>
                      <a:lnTo>
                        <a:pt x="264" y="576"/>
                      </a:lnTo>
                      <a:lnTo>
                        <a:pt x="288" y="582"/>
                      </a:lnTo>
                      <a:lnTo>
                        <a:pt x="308" y="514"/>
                      </a:lnTo>
                      <a:lnTo>
                        <a:pt x="322" y="536"/>
                      </a:lnTo>
                      <a:lnTo>
                        <a:pt x="344" y="536"/>
                      </a:lnTo>
                      <a:lnTo>
                        <a:pt x="298" y="586"/>
                      </a:lnTo>
                      <a:lnTo>
                        <a:pt x="316" y="606"/>
                      </a:lnTo>
                      <a:lnTo>
                        <a:pt x="364" y="560"/>
                      </a:lnTo>
                      <a:lnTo>
                        <a:pt x="366" y="694"/>
                      </a:lnTo>
                      <a:lnTo>
                        <a:pt x="282" y="782"/>
                      </a:lnTo>
                      <a:lnTo>
                        <a:pt x="296" y="796"/>
                      </a:lnTo>
                      <a:lnTo>
                        <a:pt x="368" y="726"/>
                      </a:lnTo>
                      <a:lnTo>
                        <a:pt x="368" y="754"/>
                      </a:lnTo>
                      <a:lnTo>
                        <a:pt x="304" y="822"/>
                      </a:lnTo>
                      <a:lnTo>
                        <a:pt x="316" y="834"/>
                      </a:lnTo>
                      <a:lnTo>
                        <a:pt x="368" y="784"/>
                      </a:lnTo>
                      <a:lnTo>
                        <a:pt x="370" y="870"/>
                      </a:lnTo>
                      <a:lnTo>
                        <a:pt x="386" y="870"/>
                      </a:lnTo>
                      <a:lnTo>
                        <a:pt x="388" y="780"/>
                      </a:lnTo>
                      <a:lnTo>
                        <a:pt x="444" y="834"/>
                      </a:lnTo>
                      <a:lnTo>
                        <a:pt x="456" y="822"/>
                      </a:lnTo>
                      <a:lnTo>
                        <a:pt x="388" y="752"/>
                      </a:lnTo>
                      <a:lnTo>
                        <a:pt x="388" y="724"/>
                      </a:lnTo>
                      <a:lnTo>
                        <a:pt x="464" y="796"/>
                      </a:lnTo>
                      <a:lnTo>
                        <a:pt x="476" y="782"/>
                      </a:lnTo>
                      <a:lnTo>
                        <a:pt x="390" y="692"/>
                      </a:lnTo>
                      <a:lnTo>
                        <a:pt x="392" y="556"/>
                      </a:lnTo>
                      <a:lnTo>
                        <a:pt x="444" y="606"/>
                      </a:lnTo>
                      <a:lnTo>
                        <a:pt x="462" y="586"/>
                      </a:lnTo>
                      <a:lnTo>
                        <a:pt x="414" y="536"/>
                      </a:lnTo>
                      <a:lnTo>
                        <a:pt x="442" y="536"/>
                      </a:lnTo>
                      <a:lnTo>
                        <a:pt x="452" y="518"/>
                      </a:lnTo>
                      <a:lnTo>
                        <a:pt x="470" y="582"/>
                      </a:lnTo>
                      <a:lnTo>
                        <a:pt x="496" y="576"/>
                      </a:lnTo>
                      <a:lnTo>
                        <a:pt x="480" y="512"/>
                      </a:lnTo>
                      <a:lnTo>
                        <a:pt x="598" y="576"/>
                      </a:lnTo>
                      <a:lnTo>
                        <a:pt x="632" y="694"/>
                      </a:lnTo>
                      <a:lnTo>
                        <a:pt x="650" y="688"/>
                      </a:lnTo>
                      <a:lnTo>
                        <a:pt x="626" y="592"/>
                      </a:lnTo>
                      <a:lnTo>
                        <a:pt x="650" y="606"/>
                      </a:lnTo>
                      <a:lnTo>
                        <a:pt x="676" y="694"/>
                      </a:lnTo>
                      <a:lnTo>
                        <a:pt x="694" y="690"/>
                      </a:lnTo>
                      <a:lnTo>
                        <a:pt x="676" y="620"/>
                      </a:lnTo>
                      <a:lnTo>
                        <a:pt x="750" y="660"/>
                      </a:lnTo>
                      <a:lnTo>
                        <a:pt x="758" y="648"/>
                      </a:lnTo>
                      <a:lnTo>
                        <a:pt x="682" y="602"/>
                      </a:lnTo>
                      <a:lnTo>
                        <a:pt x="756" y="580"/>
                      </a:lnTo>
                      <a:close/>
                      <a:moveTo>
                        <a:pt x="418" y="496"/>
                      </a:moveTo>
                      <a:lnTo>
                        <a:pt x="346" y="496"/>
                      </a:lnTo>
                      <a:lnTo>
                        <a:pt x="308" y="436"/>
                      </a:lnTo>
                      <a:lnTo>
                        <a:pt x="346" y="376"/>
                      </a:lnTo>
                      <a:lnTo>
                        <a:pt x="418" y="376"/>
                      </a:lnTo>
                      <a:lnTo>
                        <a:pt x="456" y="436"/>
                      </a:lnTo>
                      <a:lnTo>
                        <a:pt x="418" y="496"/>
                      </a:lnTo>
                      <a:close/>
                    </a:path>
                  </a:pathLst>
                </a:custGeom>
                <a:solidFill>
                  <a:srgbClr val="feffff">
                    <a:alpha val="76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" name="Freeform 73"/>
                <p:cNvSpPr/>
                <p:nvPr/>
              </p:nvSpPr>
              <p:spPr>
                <a:xfrm rot="20414400">
                  <a:off x="7589880" y="153000"/>
                  <a:ext cx="669240" cy="811800"/>
                </a:xfrm>
                <a:custGeom>
                  <a:avLst/>
                  <a:gdLst/>
                  <a:ahLst/>
                  <a:rect l="l" t="t" r="r" b="b"/>
                  <a:pathLst>
                    <a:path w="820" h="936">
                      <a:moveTo>
                        <a:pt x="812" y="620"/>
                      </a:moveTo>
                      <a:lnTo>
                        <a:pt x="810" y="610"/>
                      </a:lnTo>
                      <a:lnTo>
                        <a:pt x="716" y="634"/>
                      </a:lnTo>
                      <a:lnTo>
                        <a:pt x="678" y="610"/>
                      </a:lnTo>
                      <a:lnTo>
                        <a:pt x="788" y="580"/>
                      </a:lnTo>
                      <a:lnTo>
                        <a:pt x="784" y="570"/>
                      </a:lnTo>
                      <a:lnTo>
                        <a:pt x="660" y="600"/>
                      </a:lnTo>
                      <a:lnTo>
                        <a:pt x="656" y="598"/>
                      </a:lnTo>
                      <a:lnTo>
                        <a:pt x="562" y="524"/>
                      </a:lnTo>
                      <a:lnTo>
                        <a:pt x="556" y="536"/>
                      </a:lnTo>
                      <a:lnTo>
                        <a:pt x="514" y="512"/>
                      </a:lnTo>
                      <a:lnTo>
                        <a:pt x="520" y="490"/>
                      </a:lnTo>
                      <a:lnTo>
                        <a:pt x="522" y="478"/>
                      </a:lnTo>
                      <a:lnTo>
                        <a:pt x="522" y="468"/>
                      </a:lnTo>
                      <a:lnTo>
                        <a:pt x="520" y="446"/>
                      </a:lnTo>
                      <a:lnTo>
                        <a:pt x="516" y="426"/>
                      </a:lnTo>
                      <a:lnTo>
                        <a:pt x="558" y="402"/>
                      </a:lnTo>
                      <a:lnTo>
                        <a:pt x="564" y="414"/>
                      </a:lnTo>
                      <a:lnTo>
                        <a:pt x="666" y="336"/>
                      </a:lnTo>
                      <a:lnTo>
                        <a:pt x="784" y="364"/>
                      </a:lnTo>
                      <a:lnTo>
                        <a:pt x="788" y="354"/>
                      </a:lnTo>
                      <a:lnTo>
                        <a:pt x="684" y="324"/>
                      </a:lnTo>
                      <a:lnTo>
                        <a:pt x="720" y="302"/>
                      </a:lnTo>
                      <a:lnTo>
                        <a:pt x="810" y="324"/>
                      </a:lnTo>
                      <a:lnTo>
                        <a:pt x="812" y="314"/>
                      </a:lnTo>
                      <a:lnTo>
                        <a:pt x="736" y="292"/>
                      </a:lnTo>
                      <a:lnTo>
                        <a:pt x="820" y="242"/>
                      </a:lnTo>
                      <a:lnTo>
                        <a:pt x="812" y="228"/>
                      </a:lnTo>
                      <a:lnTo>
                        <a:pt x="724" y="276"/>
                      </a:lnTo>
                      <a:lnTo>
                        <a:pt x="744" y="196"/>
                      </a:lnTo>
                      <a:lnTo>
                        <a:pt x="734" y="192"/>
                      </a:lnTo>
                      <a:lnTo>
                        <a:pt x="706" y="286"/>
                      </a:lnTo>
                      <a:lnTo>
                        <a:pt x="670" y="306"/>
                      </a:lnTo>
                      <a:lnTo>
                        <a:pt x="696" y="198"/>
                      </a:lnTo>
                      <a:lnTo>
                        <a:pt x="686" y="194"/>
                      </a:lnTo>
                      <a:lnTo>
                        <a:pt x="650" y="318"/>
                      </a:lnTo>
                      <a:lnTo>
                        <a:pt x="646" y="320"/>
                      </a:lnTo>
                      <a:lnTo>
                        <a:pt x="536" y="364"/>
                      </a:lnTo>
                      <a:lnTo>
                        <a:pt x="542" y="376"/>
                      </a:lnTo>
                      <a:lnTo>
                        <a:pt x="500" y="400"/>
                      </a:lnTo>
                      <a:lnTo>
                        <a:pt x="486" y="384"/>
                      </a:lnTo>
                      <a:lnTo>
                        <a:pt x="468" y="372"/>
                      </a:lnTo>
                      <a:lnTo>
                        <a:pt x="450" y="362"/>
                      </a:lnTo>
                      <a:lnTo>
                        <a:pt x="438" y="358"/>
                      </a:lnTo>
                      <a:lnTo>
                        <a:pt x="428" y="356"/>
                      </a:lnTo>
                      <a:lnTo>
                        <a:pt x="426" y="304"/>
                      </a:lnTo>
                      <a:lnTo>
                        <a:pt x="442" y="304"/>
                      </a:lnTo>
                      <a:lnTo>
                        <a:pt x="424" y="178"/>
                      </a:lnTo>
                      <a:lnTo>
                        <a:pt x="508" y="92"/>
                      </a:lnTo>
                      <a:lnTo>
                        <a:pt x="502" y="84"/>
                      </a:lnTo>
                      <a:lnTo>
                        <a:pt x="424" y="158"/>
                      </a:lnTo>
                      <a:lnTo>
                        <a:pt x="422" y="116"/>
                      </a:lnTo>
                      <a:lnTo>
                        <a:pt x="486" y="50"/>
                      </a:lnTo>
                      <a:lnTo>
                        <a:pt x="478" y="42"/>
                      </a:lnTo>
                      <a:lnTo>
                        <a:pt x="422" y="98"/>
                      </a:lnTo>
                      <a:lnTo>
                        <a:pt x="420" y="0"/>
                      </a:lnTo>
                      <a:lnTo>
                        <a:pt x="404" y="0"/>
                      </a:lnTo>
                      <a:lnTo>
                        <a:pt x="402" y="102"/>
                      </a:lnTo>
                      <a:lnTo>
                        <a:pt x="342" y="42"/>
                      </a:lnTo>
                      <a:lnTo>
                        <a:pt x="334" y="50"/>
                      </a:lnTo>
                      <a:lnTo>
                        <a:pt x="402" y="120"/>
                      </a:lnTo>
                      <a:lnTo>
                        <a:pt x="400" y="162"/>
                      </a:lnTo>
                      <a:lnTo>
                        <a:pt x="320" y="84"/>
                      </a:lnTo>
                      <a:lnTo>
                        <a:pt x="312" y="92"/>
                      </a:lnTo>
                      <a:lnTo>
                        <a:pt x="400" y="184"/>
                      </a:lnTo>
                      <a:lnTo>
                        <a:pt x="400" y="188"/>
                      </a:lnTo>
                      <a:lnTo>
                        <a:pt x="384" y="304"/>
                      </a:lnTo>
                      <a:lnTo>
                        <a:pt x="398" y="304"/>
                      </a:lnTo>
                      <a:lnTo>
                        <a:pt x="398" y="356"/>
                      </a:lnTo>
                      <a:lnTo>
                        <a:pt x="376" y="362"/>
                      </a:lnTo>
                      <a:lnTo>
                        <a:pt x="358" y="370"/>
                      </a:lnTo>
                      <a:lnTo>
                        <a:pt x="340" y="382"/>
                      </a:lnTo>
                      <a:lnTo>
                        <a:pt x="326" y="398"/>
                      </a:lnTo>
                      <a:lnTo>
                        <a:pt x="280" y="372"/>
                      </a:lnTo>
                      <a:lnTo>
                        <a:pt x="286" y="360"/>
                      </a:lnTo>
                      <a:lnTo>
                        <a:pt x="168" y="312"/>
                      </a:lnTo>
                      <a:lnTo>
                        <a:pt x="134" y="194"/>
                      </a:lnTo>
                      <a:lnTo>
                        <a:pt x="124" y="198"/>
                      </a:lnTo>
                      <a:lnTo>
                        <a:pt x="150" y="302"/>
                      </a:lnTo>
                      <a:lnTo>
                        <a:pt x="112" y="280"/>
                      </a:lnTo>
                      <a:lnTo>
                        <a:pt x="86" y="192"/>
                      </a:lnTo>
                      <a:lnTo>
                        <a:pt x="76" y="196"/>
                      </a:lnTo>
                      <a:lnTo>
                        <a:pt x="96" y="272"/>
                      </a:lnTo>
                      <a:lnTo>
                        <a:pt x="10" y="224"/>
                      </a:lnTo>
                      <a:lnTo>
                        <a:pt x="2" y="238"/>
                      </a:lnTo>
                      <a:lnTo>
                        <a:pt x="88" y="292"/>
                      </a:lnTo>
                      <a:lnTo>
                        <a:pt x="8" y="314"/>
                      </a:lnTo>
                      <a:lnTo>
                        <a:pt x="10" y="324"/>
                      </a:lnTo>
                      <a:lnTo>
                        <a:pt x="104" y="300"/>
                      </a:lnTo>
                      <a:lnTo>
                        <a:pt x="142" y="324"/>
                      </a:lnTo>
                      <a:lnTo>
                        <a:pt x="34" y="354"/>
                      </a:lnTo>
                      <a:lnTo>
                        <a:pt x="36" y="364"/>
                      </a:lnTo>
                      <a:lnTo>
                        <a:pt x="160" y="334"/>
                      </a:lnTo>
                      <a:lnTo>
                        <a:pt x="164" y="336"/>
                      </a:lnTo>
                      <a:lnTo>
                        <a:pt x="258" y="410"/>
                      </a:lnTo>
                      <a:lnTo>
                        <a:pt x="266" y="398"/>
                      </a:lnTo>
                      <a:lnTo>
                        <a:pt x="310" y="424"/>
                      </a:lnTo>
                      <a:lnTo>
                        <a:pt x="304" y="446"/>
                      </a:lnTo>
                      <a:lnTo>
                        <a:pt x="302" y="468"/>
                      </a:lnTo>
                      <a:lnTo>
                        <a:pt x="304" y="486"/>
                      </a:lnTo>
                      <a:lnTo>
                        <a:pt x="310" y="506"/>
                      </a:lnTo>
                      <a:lnTo>
                        <a:pt x="264" y="532"/>
                      </a:lnTo>
                      <a:lnTo>
                        <a:pt x="256" y="520"/>
                      </a:lnTo>
                      <a:lnTo>
                        <a:pt x="154" y="598"/>
                      </a:lnTo>
                      <a:lnTo>
                        <a:pt x="36" y="570"/>
                      </a:lnTo>
                      <a:lnTo>
                        <a:pt x="34" y="580"/>
                      </a:lnTo>
                      <a:lnTo>
                        <a:pt x="136" y="610"/>
                      </a:lnTo>
                      <a:lnTo>
                        <a:pt x="100" y="632"/>
                      </a:lnTo>
                      <a:lnTo>
                        <a:pt x="10" y="610"/>
                      </a:lnTo>
                      <a:lnTo>
                        <a:pt x="8" y="620"/>
                      </a:lnTo>
                      <a:lnTo>
                        <a:pt x="84" y="642"/>
                      </a:lnTo>
                      <a:lnTo>
                        <a:pt x="0" y="692"/>
                      </a:lnTo>
                      <a:lnTo>
                        <a:pt x="8" y="708"/>
                      </a:lnTo>
                      <a:lnTo>
                        <a:pt x="96" y="658"/>
                      </a:lnTo>
                      <a:lnTo>
                        <a:pt x="76" y="738"/>
                      </a:lnTo>
                      <a:lnTo>
                        <a:pt x="86" y="742"/>
                      </a:lnTo>
                      <a:lnTo>
                        <a:pt x="114" y="648"/>
                      </a:lnTo>
                      <a:lnTo>
                        <a:pt x="152" y="628"/>
                      </a:lnTo>
                      <a:lnTo>
                        <a:pt x="124" y="738"/>
                      </a:lnTo>
                      <a:lnTo>
                        <a:pt x="134" y="740"/>
                      </a:lnTo>
                      <a:lnTo>
                        <a:pt x="170" y="618"/>
                      </a:lnTo>
                      <a:lnTo>
                        <a:pt x="174" y="616"/>
                      </a:lnTo>
                      <a:lnTo>
                        <a:pt x="284" y="570"/>
                      </a:lnTo>
                      <a:lnTo>
                        <a:pt x="278" y="558"/>
                      </a:lnTo>
                      <a:lnTo>
                        <a:pt x="324" y="532"/>
                      </a:lnTo>
                      <a:lnTo>
                        <a:pt x="338" y="548"/>
                      </a:lnTo>
                      <a:lnTo>
                        <a:pt x="354" y="560"/>
                      </a:lnTo>
                      <a:lnTo>
                        <a:pt x="372" y="568"/>
                      </a:lnTo>
                      <a:lnTo>
                        <a:pt x="392" y="574"/>
                      </a:lnTo>
                      <a:lnTo>
                        <a:pt x="394" y="624"/>
                      </a:lnTo>
                      <a:lnTo>
                        <a:pt x="380" y="624"/>
                      </a:lnTo>
                      <a:lnTo>
                        <a:pt x="396" y="752"/>
                      </a:lnTo>
                      <a:lnTo>
                        <a:pt x="312" y="842"/>
                      </a:lnTo>
                      <a:lnTo>
                        <a:pt x="320" y="850"/>
                      </a:lnTo>
                      <a:lnTo>
                        <a:pt x="396" y="774"/>
                      </a:lnTo>
                      <a:lnTo>
                        <a:pt x="398" y="818"/>
                      </a:lnTo>
                      <a:lnTo>
                        <a:pt x="334" y="884"/>
                      </a:lnTo>
                      <a:lnTo>
                        <a:pt x="342" y="892"/>
                      </a:lnTo>
                      <a:lnTo>
                        <a:pt x="398" y="838"/>
                      </a:lnTo>
                      <a:lnTo>
                        <a:pt x="400" y="936"/>
                      </a:lnTo>
                      <a:lnTo>
                        <a:pt x="416" y="936"/>
                      </a:lnTo>
                      <a:lnTo>
                        <a:pt x="418" y="834"/>
                      </a:lnTo>
                      <a:lnTo>
                        <a:pt x="478" y="892"/>
                      </a:lnTo>
                      <a:lnTo>
                        <a:pt x="486" y="884"/>
                      </a:lnTo>
                      <a:lnTo>
                        <a:pt x="420" y="814"/>
                      </a:lnTo>
                      <a:lnTo>
                        <a:pt x="420" y="772"/>
                      </a:lnTo>
                      <a:lnTo>
                        <a:pt x="502" y="850"/>
                      </a:lnTo>
                      <a:lnTo>
                        <a:pt x="508" y="842"/>
                      </a:lnTo>
                      <a:lnTo>
                        <a:pt x="420" y="750"/>
                      </a:lnTo>
                      <a:lnTo>
                        <a:pt x="420" y="744"/>
                      </a:lnTo>
                      <a:lnTo>
                        <a:pt x="436" y="624"/>
                      </a:lnTo>
                      <a:lnTo>
                        <a:pt x="422" y="624"/>
                      </a:lnTo>
                      <a:lnTo>
                        <a:pt x="424" y="576"/>
                      </a:lnTo>
                      <a:lnTo>
                        <a:pt x="444" y="570"/>
                      </a:lnTo>
                      <a:lnTo>
                        <a:pt x="464" y="564"/>
                      </a:lnTo>
                      <a:lnTo>
                        <a:pt x="482" y="552"/>
                      </a:lnTo>
                      <a:lnTo>
                        <a:pt x="498" y="536"/>
                      </a:lnTo>
                      <a:lnTo>
                        <a:pt x="540" y="562"/>
                      </a:lnTo>
                      <a:lnTo>
                        <a:pt x="534" y="574"/>
                      </a:lnTo>
                      <a:lnTo>
                        <a:pt x="652" y="622"/>
                      </a:lnTo>
                      <a:lnTo>
                        <a:pt x="686" y="740"/>
                      </a:lnTo>
                      <a:lnTo>
                        <a:pt x="696" y="738"/>
                      </a:lnTo>
                      <a:lnTo>
                        <a:pt x="670" y="632"/>
                      </a:lnTo>
                      <a:lnTo>
                        <a:pt x="708" y="654"/>
                      </a:lnTo>
                      <a:lnTo>
                        <a:pt x="734" y="742"/>
                      </a:lnTo>
                      <a:lnTo>
                        <a:pt x="744" y="738"/>
                      </a:lnTo>
                      <a:lnTo>
                        <a:pt x="724" y="662"/>
                      </a:lnTo>
                      <a:lnTo>
                        <a:pt x="812" y="710"/>
                      </a:lnTo>
                      <a:lnTo>
                        <a:pt x="820" y="696"/>
                      </a:lnTo>
                      <a:lnTo>
                        <a:pt x="732" y="644"/>
                      </a:lnTo>
                      <a:lnTo>
                        <a:pt x="812" y="620"/>
                      </a:lnTo>
                      <a:close/>
                      <a:moveTo>
                        <a:pt x="412" y="546"/>
                      </a:moveTo>
                      <a:lnTo>
                        <a:pt x="412" y="546"/>
                      </a:lnTo>
                      <a:lnTo>
                        <a:pt x="396" y="544"/>
                      </a:lnTo>
                      <a:lnTo>
                        <a:pt x="382" y="540"/>
                      </a:lnTo>
                      <a:lnTo>
                        <a:pt x="368" y="532"/>
                      </a:lnTo>
                      <a:lnTo>
                        <a:pt x="358" y="522"/>
                      </a:lnTo>
                      <a:lnTo>
                        <a:pt x="348" y="510"/>
                      </a:lnTo>
                      <a:lnTo>
                        <a:pt x="340" y="498"/>
                      </a:lnTo>
                      <a:lnTo>
                        <a:pt x="336" y="482"/>
                      </a:lnTo>
                      <a:lnTo>
                        <a:pt x="334" y="468"/>
                      </a:lnTo>
                      <a:lnTo>
                        <a:pt x="336" y="452"/>
                      </a:lnTo>
                      <a:lnTo>
                        <a:pt x="340" y="436"/>
                      </a:lnTo>
                      <a:lnTo>
                        <a:pt x="348" y="424"/>
                      </a:lnTo>
                      <a:lnTo>
                        <a:pt x="358" y="412"/>
                      </a:lnTo>
                      <a:lnTo>
                        <a:pt x="368" y="402"/>
                      </a:lnTo>
                      <a:lnTo>
                        <a:pt x="382" y="394"/>
                      </a:lnTo>
                      <a:lnTo>
                        <a:pt x="396" y="390"/>
                      </a:lnTo>
                      <a:lnTo>
                        <a:pt x="412" y="388"/>
                      </a:lnTo>
                      <a:lnTo>
                        <a:pt x="428" y="390"/>
                      </a:lnTo>
                      <a:lnTo>
                        <a:pt x="442" y="394"/>
                      </a:lnTo>
                      <a:lnTo>
                        <a:pt x="456" y="402"/>
                      </a:lnTo>
                      <a:lnTo>
                        <a:pt x="468" y="412"/>
                      </a:lnTo>
                      <a:lnTo>
                        <a:pt x="478" y="424"/>
                      </a:lnTo>
                      <a:lnTo>
                        <a:pt x="484" y="436"/>
                      </a:lnTo>
                      <a:lnTo>
                        <a:pt x="490" y="452"/>
                      </a:lnTo>
                      <a:lnTo>
                        <a:pt x="490" y="468"/>
                      </a:lnTo>
                      <a:lnTo>
                        <a:pt x="490" y="482"/>
                      </a:lnTo>
                      <a:lnTo>
                        <a:pt x="484" y="498"/>
                      </a:lnTo>
                      <a:lnTo>
                        <a:pt x="478" y="510"/>
                      </a:lnTo>
                      <a:lnTo>
                        <a:pt x="468" y="522"/>
                      </a:lnTo>
                      <a:lnTo>
                        <a:pt x="456" y="532"/>
                      </a:lnTo>
                      <a:lnTo>
                        <a:pt x="442" y="540"/>
                      </a:lnTo>
                      <a:lnTo>
                        <a:pt x="428" y="544"/>
                      </a:lnTo>
                      <a:lnTo>
                        <a:pt x="412" y="546"/>
                      </a:lnTo>
                      <a:close/>
                    </a:path>
                  </a:pathLst>
                </a:custGeom>
                <a:solidFill>
                  <a:srgbClr val="feffff">
                    <a:alpha val="76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" name="Freeform 77"/>
                <p:cNvSpPr/>
                <p:nvPr/>
              </p:nvSpPr>
              <p:spPr>
                <a:xfrm rot="20957400">
                  <a:off x="7871760" y="3769200"/>
                  <a:ext cx="592200" cy="717480"/>
                </a:xfrm>
                <a:custGeom>
                  <a:avLst/>
                  <a:gdLst/>
                  <a:ahLst/>
                  <a:rect l="l" t="t" r="r" b="b"/>
                  <a:pathLst>
                    <a:path w="826" h="942">
                      <a:moveTo>
                        <a:pt x="818" y="628"/>
                      </a:moveTo>
                      <a:lnTo>
                        <a:pt x="814" y="610"/>
                      </a:lnTo>
                      <a:lnTo>
                        <a:pt x="718" y="634"/>
                      </a:lnTo>
                      <a:lnTo>
                        <a:pt x="690" y="616"/>
                      </a:lnTo>
                      <a:lnTo>
                        <a:pt x="792" y="588"/>
                      </a:lnTo>
                      <a:lnTo>
                        <a:pt x="788" y="570"/>
                      </a:lnTo>
                      <a:lnTo>
                        <a:pt x="662" y="600"/>
                      </a:lnTo>
                      <a:lnTo>
                        <a:pt x="518" y="514"/>
                      </a:lnTo>
                      <a:lnTo>
                        <a:pt x="542" y="472"/>
                      </a:lnTo>
                      <a:lnTo>
                        <a:pt x="520" y="436"/>
                      </a:lnTo>
                      <a:lnTo>
                        <a:pt x="668" y="346"/>
                      </a:lnTo>
                      <a:lnTo>
                        <a:pt x="788" y="376"/>
                      </a:lnTo>
                      <a:lnTo>
                        <a:pt x="792" y="358"/>
                      </a:lnTo>
                      <a:lnTo>
                        <a:pt x="694" y="330"/>
                      </a:lnTo>
                      <a:lnTo>
                        <a:pt x="722" y="314"/>
                      </a:lnTo>
                      <a:lnTo>
                        <a:pt x="814" y="336"/>
                      </a:lnTo>
                      <a:lnTo>
                        <a:pt x="818" y="318"/>
                      </a:lnTo>
                      <a:lnTo>
                        <a:pt x="748" y="298"/>
                      </a:lnTo>
                      <a:lnTo>
                        <a:pt x="826" y="250"/>
                      </a:lnTo>
                      <a:lnTo>
                        <a:pt x="814" y="228"/>
                      </a:lnTo>
                      <a:lnTo>
                        <a:pt x="730" y="276"/>
                      </a:lnTo>
                      <a:lnTo>
                        <a:pt x="750" y="200"/>
                      </a:lnTo>
                      <a:lnTo>
                        <a:pt x="732" y="196"/>
                      </a:lnTo>
                      <a:lnTo>
                        <a:pt x="704" y="290"/>
                      </a:lnTo>
                      <a:lnTo>
                        <a:pt x="676" y="306"/>
                      </a:lnTo>
                      <a:lnTo>
                        <a:pt x="702" y="202"/>
                      </a:lnTo>
                      <a:lnTo>
                        <a:pt x="684" y="196"/>
                      </a:lnTo>
                      <a:lnTo>
                        <a:pt x="648" y="320"/>
                      </a:lnTo>
                      <a:lnTo>
                        <a:pt x="502" y="400"/>
                      </a:lnTo>
                      <a:lnTo>
                        <a:pt x="478" y="360"/>
                      </a:lnTo>
                      <a:lnTo>
                        <a:pt x="434" y="360"/>
                      </a:lnTo>
                      <a:lnTo>
                        <a:pt x="432" y="188"/>
                      </a:lnTo>
                      <a:lnTo>
                        <a:pt x="516" y="100"/>
                      </a:lnTo>
                      <a:lnTo>
                        <a:pt x="504" y="86"/>
                      </a:lnTo>
                      <a:lnTo>
                        <a:pt x="430" y="158"/>
                      </a:lnTo>
                      <a:lnTo>
                        <a:pt x="430" y="124"/>
                      </a:lnTo>
                      <a:lnTo>
                        <a:pt x="494" y="58"/>
                      </a:lnTo>
                      <a:lnTo>
                        <a:pt x="482" y="46"/>
                      </a:lnTo>
                      <a:lnTo>
                        <a:pt x="430" y="94"/>
                      </a:lnTo>
                      <a:lnTo>
                        <a:pt x="428" y="0"/>
                      </a:lnTo>
                      <a:lnTo>
                        <a:pt x="402" y="0"/>
                      </a:lnTo>
                      <a:lnTo>
                        <a:pt x="402" y="98"/>
                      </a:lnTo>
                      <a:lnTo>
                        <a:pt x="346" y="44"/>
                      </a:lnTo>
                      <a:lnTo>
                        <a:pt x="332" y="58"/>
                      </a:lnTo>
                      <a:lnTo>
                        <a:pt x="400" y="128"/>
                      </a:lnTo>
                      <a:lnTo>
                        <a:pt x="400" y="160"/>
                      </a:lnTo>
                      <a:lnTo>
                        <a:pt x="324" y="86"/>
                      </a:lnTo>
                      <a:lnTo>
                        <a:pt x="310" y="100"/>
                      </a:lnTo>
                      <a:lnTo>
                        <a:pt x="400" y="192"/>
                      </a:lnTo>
                      <a:lnTo>
                        <a:pt x="396" y="360"/>
                      </a:lnTo>
                      <a:lnTo>
                        <a:pt x="352" y="360"/>
                      </a:lnTo>
                      <a:lnTo>
                        <a:pt x="332" y="398"/>
                      </a:lnTo>
                      <a:lnTo>
                        <a:pt x="178" y="314"/>
                      </a:lnTo>
                      <a:lnTo>
                        <a:pt x="142" y="196"/>
                      </a:lnTo>
                      <a:lnTo>
                        <a:pt x="124" y="202"/>
                      </a:lnTo>
                      <a:lnTo>
                        <a:pt x="150" y="300"/>
                      </a:lnTo>
                      <a:lnTo>
                        <a:pt x="120" y="284"/>
                      </a:lnTo>
                      <a:lnTo>
                        <a:pt x="94" y="194"/>
                      </a:lnTo>
                      <a:lnTo>
                        <a:pt x="78" y="200"/>
                      </a:lnTo>
                      <a:lnTo>
                        <a:pt x="94" y="270"/>
                      </a:lnTo>
                      <a:lnTo>
                        <a:pt x="14" y="226"/>
                      </a:lnTo>
                      <a:lnTo>
                        <a:pt x="2" y="246"/>
                      </a:lnTo>
                      <a:lnTo>
                        <a:pt x="84" y="296"/>
                      </a:lnTo>
                      <a:lnTo>
                        <a:pt x="10" y="318"/>
                      </a:lnTo>
                      <a:lnTo>
                        <a:pt x="14" y="336"/>
                      </a:lnTo>
                      <a:lnTo>
                        <a:pt x="110" y="312"/>
                      </a:lnTo>
                      <a:lnTo>
                        <a:pt x="136" y="328"/>
                      </a:lnTo>
                      <a:lnTo>
                        <a:pt x="34" y="358"/>
                      </a:lnTo>
                      <a:lnTo>
                        <a:pt x="40" y="376"/>
                      </a:lnTo>
                      <a:lnTo>
                        <a:pt x="164" y="346"/>
                      </a:lnTo>
                      <a:lnTo>
                        <a:pt x="312" y="434"/>
                      </a:lnTo>
                      <a:lnTo>
                        <a:pt x="290" y="472"/>
                      </a:lnTo>
                      <a:lnTo>
                        <a:pt x="310" y="508"/>
                      </a:lnTo>
                      <a:lnTo>
                        <a:pt x="160" y="598"/>
                      </a:lnTo>
                      <a:lnTo>
                        <a:pt x="40" y="570"/>
                      </a:lnTo>
                      <a:lnTo>
                        <a:pt x="34" y="588"/>
                      </a:lnTo>
                      <a:lnTo>
                        <a:pt x="132" y="616"/>
                      </a:lnTo>
                      <a:lnTo>
                        <a:pt x="104" y="632"/>
                      </a:lnTo>
                      <a:lnTo>
                        <a:pt x="14" y="610"/>
                      </a:lnTo>
                      <a:lnTo>
                        <a:pt x="10" y="628"/>
                      </a:lnTo>
                      <a:lnTo>
                        <a:pt x="80" y="648"/>
                      </a:lnTo>
                      <a:lnTo>
                        <a:pt x="0" y="696"/>
                      </a:lnTo>
                      <a:lnTo>
                        <a:pt x="12" y="716"/>
                      </a:lnTo>
                      <a:lnTo>
                        <a:pt x="96" y="670"/>
                      </a:lnTo>
                      <a:lnTo>
                        <a:pt x="78" y="746"/>
                      </a:lnTo>
                      <a:lnTo>
                        <a:pt x="94" y="750"/>
                      </a:lnTo>
                      <a:lnTo>
                        <a:pt x="122" y="656"/>
                      </a:lnTo>
                      <a:lnTo>
                        <a:pt x="150" y="640"/>
                      </a:lnTo>
                      <a:lnTo>
                        <a:pt x="124" y="744"/>
                      </a:lnTo>
                      <a:lnTo>
                        <a:pt x="142" y="748"/>
                      </a:lnTo>
                      <a:lnTo>
                        <a:pt x="178" y="624"/>
                      </a:lnTo>
                      <a:lnTo>
                        <a:pt x="328" y="542"/>
                      </a:lnTo>
                      <a:lnTo>
                        <a:pt x="352" y="584"/>
                      </a:lnTo>
                      <a:lnTo>
                        <a:pt x="392" y="584"/>
                      </a:lnTo>
                      <a:lnTo>
                        <a:pt x="396" y="756"/>
                      </a:lnTo>
                      <a:lnTo>
                        <a:pt x="310" y="846"/>
                      </a:lnTo>
                      <a:lnTo>
                        <a:pt x="324" y="858"/>
                      </a:lnTo>
                      <a:lnTo>
                        <a:pt x="396" y="788"/>
                      </a:lnTo>
                      <a:lnTo>
                        <a:pt x="396" y="820"/>
                      </a:lnTo>
                      <a:lnTo>
                        <a:pt x="332" y="888"/>
                      </a:lnTo>
                      <a:lnTo>
                        <a:pt x="346" y="900"/>
                      </a:lnTo>
                      <a:lnTo>
                        <a:pt x="398" y="850"/>
                      </a:lnTo>
                      <a:lnTo>
                        <a:pt x="400" y="942"/>
                      </a:lnTo>
                      <a:lnTo>
                        <a:pt x="424" y="942"/>
                      </a:lnTo>
                      <a:lnTo>
                        <a:pt x="426" y="846"/>
                      </a:lnTo>
                      <a:lnTo>
                        <a:pt x="482" y="900"/>
                      </a:lnTo>
                      <a:lnTo>
                        <a:pt x="494" y="888"/>
                      </a:lnTo>
                      <a:lnTo>
                        <a:pt x="426" y="816"/>
                      </a:lnTo>
                      <a:lnTo>
                        <a:pt x="426" y="784"/>
                      </a:lnTo>
                      <a:lnTo>
                        <a:pt x="504" y="858"/>
                      </a:lnTo>
                      <a:lnTo>
                        <a:pt x="516" y="844"/>
                      </a:lnTo>
                      <a:lnTo>
                        <a:pt x="428" y="752"/>
                      </a:lnTo>
                      <a:lnTo>
                        <a:pt x="430" y="584"/>
                      </a:lnTo>
                      <a:lnTo>
                        <a:pt x="478" y="584"/>
                      </a:lnTo>
                      <a:lnTo>
                        <a:pt x="500" y="548"/>
                      </a:lnTo>
                      <a:lnTo>
                        <a:pt x="650" y="630"/>
                      </a:lnTo>
                      <a:lnTo>
                        <a:pt x="684" y="748"/>
                      </a:lnTo>
                      <a:lnTo>
                        <a:pt x="702" y="744"/>
                      </a:lnTo>
                      <a:lnTo>
                        <a:pt x="678" y="646"/>
                      </a:lnTo>
                      <a:lnTo>
                        <a:pt x="706" y="660"/>
                      </a:lnTo>
                      <a:lnTo>
                        <a:pt x="732" y="750"/>
                      </a:lnTo>
                      <a:lnTo>
                        <a:pt x="750" y="746"/>
                      </a:lnTo>
                      <a:lnTo>
                        <a:pt x="732" y="674"/>
                      </a:lnTo>
                      <a:lnTo>
                        <a:pt x="812" y="720"/>
                      </a:lnTo>
                      <a:lnTo>
                        <a:pt x="826" y="698"/>
                      </a:lnTo>
                      <a:lnTo>
                        <a:pt x="742" y="648"/>
                      </a:lnTo>
                      <a:lnTo>
                        <a:pt x="818" y="628"/>
                      </a:lnTo>
                      <a:close/>
                      <a:moveTo>
                        <a:pt x="456" y="544"/>
                      </a:moveTo>
                      <a:lnTo>
                        <a:pt x="376" y="544"/>
                      </a:lnTo>
                      <a:lnTo>
                        <a:pt x="336" y="472"/>
                      </a:lnTo>
                      <a:lnTo>
                        <a:pt x="376" y="400"/>
                      </a:lnTo>
                      <a:lnTo>
                        <a:pt x="456" y="400"/>
                      </a:lnTo>
                      <a:lnTo>
                        <a:pt x="496" y="472"/>
                      </a:lnTo>
                      <a:lnTo>
                        <a:pt x="456" y="544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feffff">
                      <a:alpha val="26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" name="Freeform 81"/>
                <p:cNvSpPr/>
                <p:nvPr/>
              </p:nvSpPr>
              <p:spPr>
                <a:xfrm rot="924000">
                  <a:off x="8018640" y="1771200"/>
                  <a:ext cx="709920" cy="855000"/>
                </a:xfrm>
                <a:custGeom>
                  <a:avLst/>
                  <a:gdLst/>
                  <a:ahLst/>
                  <a:rect l="l" t="t" r="r" b="b"/>
                  <a:pathLst>
                    <a:path w="628" h="712">
                      <a:moveTo>
                        <a:pt x="620" y="470"/>
                      </a:moveTo>
                      <a:lnTo>
                        <a:pt x="618" y="462"/>
                      </a:lnTo>
                      <a:lnTo>
                        <a:pt x="546" y="480"/>
                      </a:lnTo>
                      <a:lnTo>
                        <a:pt x="520" y="464"/>
                      </a:lnTo>
                      <a:lnTo>
                        <a:pt x="602" y="440"/>
                      </a:lnTo>
                      <a:lnTo>
                        <a:pt x="598" y="430"/>
                      </a:lnTo>
                      <a:lnTo>
                        <a:pt x="504" y="454"/>
                      </a:lnTo>
                      <a:lnTo>
                        <a:pt x="460" y="428"/>
                      </a:lnTo>
                      <a:lnTo>
                        <a:pt x="400" y="374"/>
                      </a:lnTo>
                      <a:lnTo>
                        <a:pt x="402" y="354"/>
                      </a:lnTo>
                      <a:lnTo>
                        <a:pt x="402" y="338"/>
                      </a:lnTo>
                      <a:lnTo>
                        <a:pt x="464" y="282"/>
                      </a:lnTo>
                      <a:lnTo>
                        <a:pt x="508" y="254"/>
                      </a:lnTo>
                      <a:lnTo>
                        <a:pt x="598" y="278"/>
                      </a:lnTo>
                      <a:lnTo>
                        <a:pt x="602" y="268"/>
                      </a:lnTo>
                      <a:lnTo>
                        <a:pt x="524" y="246"/>
                      </a:lnTo>
                      <a:lnTo>
                        <a:pt x="550" y="230"/>
                      </a:lnTo>
                      <a:lnTo>
                        <a:pt x="618" y="246"/>
                      </a:lnTo>
                      <a:lnTo>
                        <a:pt x="620" y="236"/>
                      </a:lnTo>
                      <a:lnTo>
                        <a:pt x="564" y="220"/>
                      </a:lnTo>
                      <a:lnTo>
                        <a:pt x="628" y="182"/>
                      </a:lnTo>
                      <a:lnTo>
                        <a:pt x="620" y="170"/>
                      </a:lnTo>
                      <a:lnTo>
                        <a:pt x="554" y="206"/>
                      </a:lnTo>
                      <a:lnTo>
                        <a:pt x="568" y="146"/>
                      </a:lnTo>
                      <a:lnTo>
                        <a:pt x="558" y="144"/>
                      </a:lnTo>
                      <a:lnTo>
                        <a:pt x="538" y="214"/>
                      </a:lnTo>
                      <a:lnTo>
                        <a:pt x="512" y="230"/>
                      </a:lnTo>
                      <a:lnTo>
                        <a:pt x="532" y="148"/>
                      </a:lnTo>
                      <a:lnTo>
                        <a:pt x="522" y="144"/>
                      </a:lnTo>
                      <a:lnTo>
                        <a:pt x="494" y="238"/>
                      </a:lnTo>
                      <a:lnTo>
                        <a:pt x="450" y="264"/>
                      </a:lnTo>
                      <a:lnTo>
                        <a:pt x="374" y="288"/>
                      </a:lnTo>
                      <a:lnTo>
                        <a:pt x="360" y="278"/>
                      </a:lnTo>
                      <a:lnTo>
                        <a:pt x="344" y="272"/>
                      </a:lnTo>
                      <a:lnTo>
                        <a:pt x="326" y="186"/>
                      </a:lnTo>
                      <a:lnTo>
                        <a:pt x="324" y="136"/>
                      </a:lnTo>
                      <a:lnTo>
                        <a:pt x="390" y="68"/>
                      </a:lnTo>
                      <a:lnTo>
                        <a:pt x="382" y="62"/>
                      </a:lnTo>
                      <a:lnTo>
                        <a:pt x="324" y="118"/>
                      </a:lnTo>
                      <a:lnTo>
                        <a:pt x="324" y="86"/>
                      </a:lnTo>
                      <a:lnTo>
                        <a:pt x="372" y="36"/>
                      </a:lnTo>
                      <a:lnTo>
                        <a:pt x="366" y="30"/>
                      </a:lnTo>
                      <a:lnTo>
                        <a:pt x="324" y="72"/>
                      </a:lnTo>
                      <a:lnTo>
                        <a:pt x="322" y="0"/>
                      </a:lnTo>
                      <a:lnTo>
                        <a:pt x="308" y="0"/>
                      </a:lnTo>
                      <a:lnTo>
                        <a:pt x="306" y="74"/>
                      </a:lnTo>
                      <a:lnTo>
                        <a:pt x="260" y="30"/>
                      </a:lnTo>
                      <a:lnTo>
                        <a:pt x="254" y="36"/>
                      </a:lnTo>
                      <a:lnTo>
                        <a:pt x="306" y="90"/>
                      </a:lnTo>
                      <a:lnTo>
                        <a:pt x="304" y="120"/>
                      </a:lnTo>
                      <a:lnTo>
                        <a:pt x="244" y="62"/>
                      </a:lnTo>
                      <a:lnTo>
                        <a:pt x="236" y="68"/>
                      </a:lnTo>
                      <a:lnTo>
                        <a:pt x="304" y="138"/>
                      </a:lnTo>
                      <a:lnTo>
                        <a:pt x="304" y="190"/>
                      </a:lnTo>
                      <a:lnTo>
                        <a:pt x="286" y="270"/>
                      </a:lnTo>
                      <a:lnTo>
                        <a:pt x="272" y="278"/>
                      </a:lnTo>
                      <a:lnTo>
                        <a:pt x="258" y="286"/>
                      </a:lnTo>
                      <a:lnTo>
                        <a:pt x="174" y="260"/>
                      </a:lnTo>
                      <a:lnTo>
                        <a:pt x="130" y="234"/>
                      </a:lnTo>
                      <a:lnTo>
                        <a:pt x="104" y="144"/>
                      </a:lnTo>
                      <a:lnTo>
                        <a:pt x="94" y="148"/>
                      </a:lnTo>
                      <a:lnTo>
                        <a:pt x="114" y="226"/>
                      </a:lnTo>
                      <a:lnTo>
                        <a:pt x="86" y="212"/>
                      </a:lnTo>
                      <a:lnTo>
                        <a:pt x="68" y="144"/>
                      </a:lnTo>
                      <a:lnTo>
                        <a:pt x="58" y="146"/>
                      </a:lnTo>
                      <a:lnTo>
                        <a:pt x="72" y="204"/>
                      </a:lnTo>
                      <a:lnTo>
                        <a:pt x="8" y="168"/>
                      </a:lnTo>
                      <a:lnTo>
                        <a:pt x="0" y="180"/>
                      </a:lnTo>
                      <a:lnTo>
                        <a:pt x="66" y="220"/>
                      </a:lnTo>
                      <a:lnTo>
                        <a:pt x="6" y="236"/>
                      </a:lnTo>
                      <a:lnTo>
                        <a:pt x="8" y="246"/>
                      </a:lnTo>
                      <a:lnTo>
                        <a:pt x="80" y="228"/>
                      </a:lnTo>
                      <a:lnTo>
                        <a:pt x="106" y="244"/>
                      </a:lnTo>
                      <a:lnTo>
                        <a:pt x="26" y="268"/>
                      </a:lnTo>
                      <a:lnTo>
                        <a:pt x="28" y="278"/>
                      </a:lnTo>
                      <a:lnTo>
                        <a:pt x="122" y="254"/>
                      </a:lnTo>
                      <a:lnTo>
                        <a:pt x="166" y="280"/>
                      </a:lnTo>
                      <a:lnTo>
                        <a:pt x="228" y="336"/>
                      </a:lnTo>
                      <a:lnTo>
                        <a:pt x="228" y="354"/>
                      </a:lnTo>
                      <a:lnTo>
                        <a:pt x="228" y="366"/>
                      </a:lnTo>
                      <a:lnTo>
                        <a:pt x="162" y="426"/>
                      </a:lnTo>
                      <a:lnTo>
                        <a:pt x="118" y="452"/>
                      </a:lnTo>
                      <a:lnTo>
                        <a:pt x="28" y="430"/>
                      </a:lnTo>
                      <a:lnTo>
                        <a:pt x="26" y="440"/>
                      </a:lnTo>
                      <a:lnTo>
                        <a:pt x="102" y="462"/>
                      </a:lnTo>
                      <a:lnTo>
                        <a:pt x="76" y="478"/>
                      </a:lnTo>
                      <a:lnTo>
                        <a:pt x="8" y="462"/>
                      </a:lnTo>
                      <a:lnTo>
                        <a:pt x="6" y="470"/>
                      </a:lnTo>
                      <a:lnTo>
                        <a:pt x="62" y="488"/>
                      </a:lnTo>
                      <a:lnTo>
                        <a:pt x="0" y="526"/>
                      </a:lnTo>
                      <a:lnTo>
                        <a:pt x="6" y="538"/>
                      </a:lnTo>
                      <a:lnTo>
                        <a:pt x="74" y="500"/>
                      </a:lnTo>
                      <a:lnTo>
                        <a:pt x="58" y="562"/>
                      </a:lnTo>
                      <a:lnTo>
                        <a:pt x="68" y="564"/>
                      </a:lnTo>
                      <a:lnTo>
                        <a:pt x="88" y="492"/>
                      </a:lnTo>
                      <a:lnTo>
                        <a:pt x="114" y="478"/>
                      </a:lnTo>
                      <a:lnTo>
                        <a:pt x="94" y="560"/>
                      </a:lnTo>
                      <a:lnTo>
                        <a:pt x="104" y="562"/>
                      </a:lnTo>
                      <a:lnTo>
                        <a:pt x="132" y="468"/>
                      </a:lnTo>
                      <a:lnTo>
                        <a:pt x="176" y="444"/>
                      </a:lnTo>
                      <a:lnTo>
                        <a:pt x="256" y="418"/>
                      </a:lnTo>
                      <a:lnTo>
                        <a:pt x="268" y="428"/>
                      </a:lnTo>
                      <a:lnTo>
                        <a:pt x="282" y="436"/>
                      </a:lnTo>
                      <a:lnTo>
                        <a:pt x="300" y="522"/>
                      </a:lnTo>
                      <a:lnTo>
                        <a:pt x="302" y="572"/>
                      </a:lnTo>
                      <a:lnTo>
                        <a:pt x="236" y="640"/>
                      </a:lnTo>
                      <a:lnTo>
                        <a:pt x="244" y="646"/>
                      </a:lnTo>
                      <a:lnTo>
                        <a:pt x="302" y="590"/>
                      </a:lnTo>
                      <a:lnTo>
                        <a:pt x="302" y="620"/>
                      </a:lnTo>
                      <a:lnTo>
                        <a:pt x="254" y="672"/>
                      </a:lnTo>
                      <a:lnTo>
                        <a:pt x="260" y="678"/>
                      </a:lnTo>
                      <a:lnTo>
                        <a:pt x="304" y="638"/>
                      </a:lnTo>
                      <a:lnTo>
                        <a:pt x="304" y="712"/>
                      </a:lnTo>
                      <a:lnTo>
                        <a:pt x="320" y="712"/>
                      </a:lnTo>
                      <a:lnTo>
                        <a:pt x="320" y="636"/>
                      </a:lnTo>
                      <a:lnTo>
                        <a:pt x="366" y="678"/>
                      </a:lnTo>
                      <a:lnTo>
                        <a:pt x="372" y="672"/>
                      </a:lnTo>
                      <a:lnTo>
                        <a:pt x="320" y="618"/>
                      </a:lnTo>
                      <a:lnTo>
                        <a:pt x="322" y="588"/>
                      </a:lnTo>
                      <a:lnTo>
                        <a:pt x="382" y="646"/>
                      </a:lnTo>
                      <a:lnTo>
                        <a:pt x="390" y="640"/>
                      </a:lnTo>
                      <a:lnTo>
                        <a:pt x="322" y="568"/>
                      </a:lnTo>
                      <a:lnTo>
                        <a:pt x="322" y="518"/>
                      </a:lnTo>
                      <a:lnTo>
                        <a:pt x="340" y="438"/>
                      </a:lnTo>
                      <a:lnTo>
                        <a:pt x="356" y="432"/>
                      </a:lnTo>
                      <a:lnTo>
                        <a:pt x="370" y="422"/>
                      </a:lnTo>
                      <a:lnTo>
                        <a:pt x="452" y="448"/>
                      </a:lnTo>
                      <a:lnTo>
                        <a:pt x="496" y="472"/>
                      </a:lnTo>
                      <a:lnTo>
                        <a:pt x="522" y="562"/>
                      </a:lnTo>
                      <a:lnTo>
                        <a:pt x="532" y="560"/>
                      </a:lnTo>
                      <a:lnTo>
                        <a:pt x="512" y="482"/>
                      </a:lnTo>
                      <a:lnTo>
                        <a:pt x="540" y="496"/>
                      </a:lnTo>
                      <a:lnTo>
                        <a:pt x="558" y="564"/>
                      </a:lnTo>
                      <a:lnTo>
                        <a:pt x="568" y="562"/>
                      </a:lnTo>
                      <a:lnTo>
                        <a:pt x="554" y="504"/>
                      </a:lnTo>
                      <a:lnTo>
                        <a:pt x="618" y="540"/>
                      </a:lnTo>
                      <a:lnTo>
                        <a:pt x="626" y="528"/>
                      </a:lnTo>
                      <a:lnTo>
                        <a:pt x="560" y="488"/>
                      </a:lnTo>
                      <a:lnTo>
                        <a:pt x="620" y="470"/>
                      </a:lnTo>
                      <a:close/>
                      <a:moveTo>
                        <a:pt x="314" y="410"/>
                      </a:moveTo>
                      <a:lnTo>
                        <a:pt x="314" y="410"/>
                      </a:lnTo>
                      <a:lnTo>
                        <a:pt x="304" y="408"/>
                      </a:lnTo>
                      <a:lnTo>
                        <a:pt x="294" y="406"/>
                      </a:lnTo>
                      <a:lnTo>
                        <a:pt x="284" y="400"/>
                      </a:lnTo>
                      <a:lnTo>
                        <a:pt x="276" y="394"/>
                      </a:lnTo>
                      <a:lnTo>
                        <a:pt x="268" y="384"/>
                      </a:lnTo>
                      <a:lnTo>
                        <a:pt x="264" y="376"/>
                      </a:lnTo>
                      <a:lnTo>
                        <a:pt x="260" y="364"/>
                      </a:lnTo>
                      <a:lnTo>
                        <a:pt x="260" y="354"/>
                      </a:lnTo>
                      <a:lnTo>
                        <a:pt x="260" y="342"/>
                      </a:lnTo>
                      <a:lnTo>
                        <a:pt x="264" y="332"/>
                      </a:lnTo>
                      <a:lnTo>
                        <a:pt x="268" y="322"/>
                      </a:lnTo>
                      <a:lnTo>
                        <a:pt x="276" y="314"/>
                      </a:lnTo>
                      <a:lnTo>
                        <a:pt x="284" y="308"/>
                      </a:lnTo>
                      <a:lnTo>
                        <a:pt x="294" y="302"/>
                      </a:lnTo>
                      <a:lnTo>
                        <a:pt x="304" y="300"/>
                      </a:lnTo>
                      <a:lnTo>
                        <a:pt x="314" y="298"/>
                      </a:lnTo>
                      <a:lnTo>
                        <a:pt x="326" y="300"/>
                      </a:lnTo>
                      <a:lnTo>
                        <a:pt x="336" y="302"/>
                      </a:lnTo>
                      <a:lnTo>
                        <a:pt x="346" y="308"/>
                      </a:lnTo>
                      <a:lnTo>
                        <a:pt x="354" y="314"/>
                      </a:lnTo>
                      <a:lnTo>
                        <a:pt x="362" y="322"/>
                      </a:lnTo>
                      <a:lnTo>
                        <a:pt x="366" y="332"/>
                      </a:lnTo>
                      <a:lnTo>
                        <a:pt x="370" y="342"/>
                      </a:lnTo>
                      <a:lnTo>
                        <a:pt x="370" y="354"/>
                      </a:lnTo>
                      <a:lnTo>
                        <a:pt x="370" y="364"/>
                      </a:lnTo>
                      <a:lnTo>
                        <a:pt x="366" y="376"/>
                      </a:lnTo>
                      <a:lnTo>
                        <a:pt x="362" y="384"/>
                      </a:lnTo>
                      <a:lnTo>
                        <a:pt x="354" y="394"/>
                      </a:lnTo>
                      <a:lnTo>
                        <a:pt x="346" y="400"/>
                      </a:lnTo>
                      <a:lnTo>
                        <a:pt x="336" y="406"/>
                      </a:lnTo>
                      <a:lnTo>
                        <a:pt x="326" y="408"/>
                      </a:lnTo>
                      <a:lnTo>
                        <a:pt x="314" y="410"/>
                      </a:lnTo>
                      <a:close/>
                    </a:path>
                  </a:pathLst>
                </a:custGeom>
                <a:solidFill>
                  <a:srgbClr val="feffff">
                    <a:alpha val="76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" name="Freeform 8"/>
            <p:cNvGrpSpPr/>
            <p:nvPr/>
          </p:nvGrpSpPr>
          <p:grpSpPr>
            <a:xfrm>
              <a:off x="8150400" y="2711880"/>
              <a:ext cx="982440" cy="1349280"/>
              <a:chOff x="8150400" y="2711880"/>
              <a:chExt cx="982440" cy="1349280"/>
            </a:xfrm>
          </p:grpSpPr>
          <p:pic>
            <p:nvPicPr>
              <p:cNvPr id="39" name="Freeform 8" descr=""/>
              <p:cNvPicPr/>
              <p:nvPr/>
            </p:nvPicPr>
            <p:blipFill>
              <a:blip r:embed="rId11"/>
              <a:stretch/>
            </p:blipFill>
            <p:spPr>
              <a:xfrm>
                <a:off x="8150400" y="2711880"/>
                <a:ext cx="982440" cy="1349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" name=""/>
              <p:cNvSpPr/>
              <p:nvPr/>
            </p:nvSpPr>
            <p:spPr>
              <a:xfrm>
                <a:off x="8241480" y="2810520"/>
                <a:ext cx="801720" cy="115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1" name="Freeform 12"/>
            <p:cNvGrpSpPr/>
            <p:nvPr/>
          </p:nvGrpSpPr>
          <p:grpSpPr>
            <a:xfrm>
              <a:off x="6558120" y="5795280"/>
              <a:ext cx="1394640" cy="1067400"/>
              <a:chOff x="6558120" y="5795280"/>
              <a:chExt cx="1394640" cy="1067400"/>
            </a:xfrm>
          </p:grpSpPr>
          <p:pic>
            <p:nvPicPr>
              <p:cNvPr id="42" name="Freeform 12" descr=""/>
              <p:cNvPicPr/>
              <p:nvPr/>
            </p:nvPicPr>
            <p:blipFill>
              <a:blip r:embed="rId12"/>
              <a:stretch/>
            </p:blipFill>
            <p:spPr>
              <a:xfrm>
                <a:off x="6558120" y="5795280"/>
                <a:ext cx="1394640" cy="1067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3" name=""/>
              <p:cNvSpPr/>
              <p:nvPr/>
            </p:nvSpPr>
            <p:spPr>
              <a:xfrm>
                <a:off x="6658200" y="5900400"/>
                <a:ext cx="1193760" cy="85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4" name="Freeform 16"/>
            <p:cNvSpPr/>
            <p:nvPr/>
          </p:nvSpPr>
          <p:spPr>
            <a:xfrm>
              <a:off x="8111160" y="6206760"/>
              <a:ext cx="903960" cy="541440"/>
            </a:xfrm>
            <a:custGeom>
              <a:avLst/>
              <a:gdLst/>
              <a:ahLst/>
              <a:rect l="l" t="t" r="r" b="b"/>
              <a:pathLst>
                <a:path w="972" h="548">
                  <a:moveTo>
                    <a:pt x="962" y="360"/>
                  </a:moveTo>
                  <a:lnTo>
                    <a:pt x="962" y="344"/>
                  </a:lnTo>
                  <a:lnTo>
                    <a:pt x="756" y="352"/>
                  </a:lnTo>
                  <a:lnTo>
                    <a:pt x="860" y="232"/>
                  </a:lnTo>
                  <a:lnTo>
                    <a:pt x="972" y="222"/>
                  </a:lnTo>
                  <a:lnTo>
                    <a:pt x="972" y="210"/>
                  </a:lnTo>
                  <a:lnTo>
                    <a:pt x="874" y="214"/>
                  </a:lnTo>
                  <a:lnTo>
                    <a:pt x="954" y="122"/>
                  </a:lnTo>
                  <a:lnTo>
                    <a:pt x="940" y="108"/>
                  </a:lnTo>
                  <a:lnTo>
                    <a:pt x="854" y="200"/>
                  </a:lnTo>
                  <a:lnTo>
                    <a:pt x="846" y="98"/>
                  </a:lnTo>
                  <a:lnTo>
                    <a:pt x="834" y="98"/>
                  </a:lnTo>
                  <a:lnTo>
                    <a:pt x="838" y="218"/>
                  </a:lnTo>
                  <a:lnTo>
                    <a:pt x="742" y="320"/>
                  </a:lnTo>
                  <a:lnTo>
                    <a:pt x="728" y="122"/>
                  </a:lnTo>
                  <a:lnTo>
                    <a:pt x="714" y="122"/>
                  </a:lnTo>
                  <a:lnTo>
                    <a:pt x="720" y="344"/>
                  </a:lnTo>
                  <a:lnTo>
                    <a:pt x="636" y="434"/>
                  </a:lnTo>
                  <a:lnTo>
                    <a:pt x="614" y="422"/>
                  </a:lnTo>
                  <a:lnTo>
                    <a:pt x="590" y="414"/>
                  </a:lnTo>
                  <a:lnTo>
                    <a:pt x="576" y="412"/>
                  </a:lnTo>
                  <a:lnTo>
                    <a:pt x="564" y="412"/>
                  </a:lnTo>
                  <a:lnTo>
                    <a:pt x="552" y="412"/>
                  </a:lnTo>
                  <a:lnTo>
                    <a:pt x="538" y="414"/>
                  </a:lnTo>
                  <a:lnTo>
                    <a:pt x="502" y="312"/>
                  </a:lnTo>
                  <a:lnTo>
                    <a:pt x="602" y="108"/>
                  </a:lnTo>
                  <a:lnTo>
                    <a:pt x="588" y="100"/>
                  </a:lnTo>
                  <a:lnTo>
                    <a:pt x="492" y="282"/>
                  </a:lnTo>
                  <a:lnTo>
                    <a:pt x="440" y="132"/>
                  </a:lnTo>
                  <a:lnTo>
                    <a:pt x="488" y="30"/>
                  </a:lnTo>
                  <a:lnTo>
                    <a:pt x="478" y="24"/>
                  </a:lnTo>
                  <a:lnTo>
                    <a:pt x="432" y="112"/>
                  </a:lnTo>
                  <a:lnTo>
                    <a:pt x="394" y="0"/>
                  </a:lnTo>
                  <a:lnTo>
                    <a:pt x="374" y="6"/>
                  </a:lnTo>
                  <a:lnTo>
                    <a:pt x="410" y="124"/>
                  </a:lnTo>
                  <a:lnTo>
                    <a:pt x="318" y="78"/>
                  </a:lnTo>
                  <a:lnTo>
                    <a:pt x="312" y="88"/>
                  </a:lnTo>
                  <a:lnTo>
                    <a:pt x="416" y="144"/>
                  </a:lnTo>
                  <a:lnTo>
                    <a:pt x="458" y="278"/>
                  </a:lnTo>
                  <a:lnTo>
                    <a:pt x="278" y="192"/>
                  </a:lnTo>
                  <a:lnTo>
                    <a:pt x="272" y="204"/>
                  </a:lnTo>
                  <a:lnTo>
                    <a:pt x="466" y="308"/>
                  </a:lnTo>
                  <a:lnTo>
                    <a:pt x="502" y="426"/>
                  </a:lnTo>
                  <a:lnTo>
                    <a:pt x="490" y="432"/>
                  </a:lnTo>
                  <a:lnTo>
                    <a:pt x="480" y="440"/>
                  </a:lnTo>
                  <a:lnTo>
                    <a:pt x="470" y="448"/>
                  </a:lnTo>
                  <a:lnTo>
                    <a:pt x="460" y="458"/>
                  </a:lnTo>
                  <a:lnTo>
                    <a:pt x="452" y="468"/>
                  </a:lnTo>
                  <a:lnTo>
                    <a:pt x="446" y="478"/>
                  </a:lnTo>
                  <a:lnTo>
                    <a:pt x="440" y="490"/>
                  </a:lnTo>
                  <a:lnTo>
                    <a:pt x="434" y="502"/>
                  </a:lnTo>
                  <a:lnTo>
                    <a:pt x="332" y="482"/>
                  </a:lnTo>
                  <a:lnTo>
                    <a:pt x="202" y="294"/>
                  </a:lnTo>
                  <a:lnTo>
                    <a:pt x="190" y="302"/>
                  </a:lnTo>
                  <a:lnTo>
                    <a:pt x="298" y="476"/>
                  </a:lnTo>
                  <a:lnTo>
                    <a:pt x="142" y="446"/>
                  </a:lnTo>
                  <a:lnTo>
                    <a:pt x="80" y="354"/>
                  </a:lnTo>
                  <a:lnTo>
                    <a:pt x="70" y="360"/>
                  </a:lnTo>
                  <a:lnTo>
                    <a:pt x="120" y="442"/>
                  </a:lnTo>
                  <a:lnTo>
                    <a:pt x="2" y="420"/>
                  </a:lnTo>
                  <a:lnTo>
                    <a:pt x="0" y="426"/>
                  </a:lnTo>
                  <a:lnTo>
                    <a:pt x="0" y="440"/>
                  </a:lnTo>
                  <a:lnTo>
                    <a:pt x="120" y="468"/>
                  </a:lnTo>
                  <a:lnTo>
                    <a:pt x="34" y="526"/>
                  </a:lnTo>
                  <a:lnTo>
                    <a:pt x="40" y="536"/>
                  </a:lnTo>
                  <a:lnTo>
                    <a:pt x="142" y="472"/>
                  </a:lnTo>
                  <a:lnTo>
                    <a:pt x="280" y="504"/>
                  </a:lnTo>
                  <a:lnTo>
                    <a:pt x="214" y="548"/>
                  </a:lnTo>
                  <a:lnTo>
                    <a:pt x="250" y="548"/>
                  </a:lnTo>
                  <a:lnTo>
                    <a:pt x="310" y="512"/>
                  </a:lnTo>
                  <a:lnTo>
                    <a:pt x="428" y="538"/>
                  </a:lnTo>
                  <a:lnTo>
                    <a:pt x="426" y="548"/>
                  </a:lnTo>
                  <a:lnTo>
                    <a:pt x="464" y="548"/>
                  </a:lnTo>
                  <a:lnTo>
                    <a:pt x="466" y="532"/>
                  </a:lnTo>
                  <a:lnTo>
                    <a:pt x="468" y="518"/>
                  </a:lnTo>
                  <a:lnTo>
                    <a:pt x="474" y="504"/>
                  </a:lnTo>
                  <a:lnTo>
                    <a:pt x="482" y="490"/>
                  </a:lnTo>
                  <a:lnTo>
                    <a:pt x="492" y="478"/>
                  </a:lnTo>
                  <a:lnTo>
                    <a:pt x="504" y="468"/>
                  </a:lnTo>
                  <a:lnTo>
                    <a:pt x="516" y="460"/>
                  </a:lnTo>
                  <a:lnTo>
                    <a:pt x="532" y="454"/>
                  </a:lnTo>
                  <a:lnTo>
                    <a:pt x="550" y="450"/>
                  </a:lnTo>
                  <a:lnTo>
                    <a:pt x="570" y="450"/>
                  </a:lnTo>
                  <a:lnTo>
                    <a:pt x="588" y="454"/>
                  </a:lnTo>
                  <a:lnTo>
                    <a:pt x="606" y="460"/>
                  </a:lnTo>
                  <a:lnTo>
                    <a:pt x="622" y="470"/>
                  </a:lnTo>
                  <a:lnTo>
                    <a:pt x="634" y="482"/>
                  </a:lnTo>
                  <a:lnTo>
                    <a:pt x="646" y="498"/>
                  </a:lnTo>
                  <a:lnTo>
                    <a:pt x="654" y="516"/>
                  </a:lnTo>
                  <a:lnTo>
                    <a:pt x="658" y="532"/>
                  </a:lnTo>
                  <a:lnTo>
                    <a:pt x="658" y="548"/>
                  </a:lnTo>
                  <a:lnTo>
                    <a:pt x="696" y="548"/>
                  </a:lnTo>
                  <a:lnTo>
                    <a:pt x="694" y="526"/>
                  </a:lnTo>
                  <a:lnTo>
                    <a:pt x="690" y="504"/>
                  </a:lnTo>
                  <a:lnTo>
                    <a:pt x="686" y="492"/>
                  </a:lnTo>
                  <a:lnTo>
                    <a:pt x="680" y="480"/>
                  </a:lnTo>
                  <a:lnTo>
                    <a:pt x="672" y="470"/>
                  </a:lnTo>
                  <a:lnTo>
                    <a:pt x="664" y="458"/>
                  </a:lnTo>
                  <a:lnTo>
                    <a:pt x="736" y="376"/>
                  </a:lnTo>
                  <a:lnTo>
                    <a:pt x="962" y="360"/>
                  </a:lnTo>
                  <a:close/>
                </a:path>
              </a:pathLst>
            </a:custGeom>
            <a:solidFill>
              <a:srgbClr val="feffff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c5e1fe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spcAft>
                <a:spcPts val="601"/>
              </a:spcAft>
              <a:buClr>
                <a:srgbClr val="c5e1fe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spcAft>
                <a:spcPts val="601"/>
              </a:spcAft>
              <a:buClr>
                <a:srgbClr val="c5e1fe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spcAft>
                <a:spcPts val="601"/>
              </a:spcAft>
              <a:buClr>
                <a:srgbClr val="c5e1fe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spcAft>
                <a:spcPts val="601"/>
              </a:spcAft>
              <a:buClr>
                <a:srgbClr val="c5e1fe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spcAft>
                <a:spcPts val="601"/>
              </a:spcAft>
              <a:buClr>
                <a:srgbClr val="ffffff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spcAft>
                <a:spcPts val="601"/>
              </a:spcAft>
              <a:buClr>
                <a:srgbClr val="ffffff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1"/>
          </p:nvPr>
        </p:nvSpPr>
        <p:spPr>
          <a:xfrm>
            <a:off x="6436800" y="5951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2"/>
          </p:nvPr>
        </p:nvSpPr>
        <p:spPr>
          <a:xfrm>
            <a:off x="1181160" y="5951520"/>
            <a:ext cx="5256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3"/>
          </p:nvPr>
        </p:nvSpPr>
        <p:spPr>
          <a:xfrm>
            <a:off x="572760" y="5951520"/>
            <a:ext cx="608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BEEE5-6BBC-4C49-9478-0CF82F9F67D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3"/>
    <p:sldLayoutId id="2147483650" r:id="rId14"/>
    <p:sldLayoutId id="2147483651" r:id="rId15"/>
    <p:sldLayoutId id="2147483652" r:id="rId16"/>
    <p:sldLayoutId id="2147483653" r:id="rId17"/>
    <p:sldLayoutId id="2147483654" r:id="rId18"/>
    <p:sldLayoutId id="2147483655" r:id="rId19"/>
    <p:sldLayoutId id="2147483656" r:id="rId20"/>
    <p:sldLayoutId id="2147483657" r:id="rId21"/>
    <p:sldLayoutId id="2147483658" r:id="rId22"/>
    <p:sldLayoutId id="2147483659" r:id="rId23"/>
    <p:sldLayoutId id="2147483660" r:id="rId2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6eb0"/>
            </a:gs>
            <a:gs pos="100000">
              <a:srgbClr val="61b9e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Group 218"/>
          <p:cNvGrpSpPr/>
          <p:nvPr/>
        </p:nvGrpSpPr>
        <p:grpSpPr>
          <a:xfrm>
            <a:off x="6558120" y="64080"/>
            <a:ext cx="2574720" cy="6798600"/>
            <a:chOff x="6558120" y="64080"/>
            <a:chExt cx="2574720" cy="6798600"/>
          </a:xfrm>
        </p:grpSpPr>
        <p:grpSp>
          <p:nvGrpSpPr>
            <p:cNvPr id="87" name="Group 62"/>
            <p:cNvGrpSpPr/>
            <p:nvPr/>
          </p:nvGrpSpPr>
          <p:grpSpPr>
            <a:xfrm>
              <a:off x="6951960" y="64080"/>
              <a:ext cx="2108880" cy="6617160"/>
              <a:chOff x="6951960" y="64080"/>
              <a:chExt cx="2108880" cy="6617160"/>
            </a:xfrm>
          </p:grpSpPr>
          <p:grpSp>
            <p:nvGrpSpPr>
              <p:cNvPr id="88" name="Group 44"/>
              <p:cNvGrpSpPr/>
              <p:nvPr/>
            </p:nvGrpSpPr>
            <p:grpSpPr>
              <a:xfrm>
                <a:off x="6951960" y="66600"/>
                <a:ext cx="2007720" cy="6614640"/>
                <a:chOff x="6951960" y="66600"/>
                <a:chExt cx="2007720" cy="6614640"/>
              </a:xfrm>
            </p:grpSpPr>
            <p:grpSp>
              <p:nvGrpSpPr>
                <p:cNvPr id="89" name="Freeform 233"/>
                <p:cNvGrpSpPr/>
                <p:nvPr/>
              </p:nvGrpSpPr>
              <p:grpSpPr>
                <a:xfrm>
                  <a:off x="7168320" y="66600"/>
                  <a:ext cx="693000" cy="785520"/>
                  <a:chOff x="7168320" y="66600"/>
                  <a:chExt cx="693000" cy="785520"/>
                </a:xfrm>
              </p:grpSpPr>
              <p:pic>
                <p:nvPicPr>
                  <p:cNvPr id="90" name="Freeform 23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68320" y="66600"/>
                    <a:ext cx="693000" cy="78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1" name=""/>
                  <p:cNvSpPr/>
                  <p:nvPr/>
                </p:nvSpPr>
                <p:spPr>
                  <a:xfrm rot="879600">
                    <a:off x="7253640" y="141840"/>
                    <a:ext cx="516960" cy="6368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Freeform 25"/>
                <p:cNvGrpSpPr/>
                <p:nvPr/>
              </p:nvGrpSpPr>
              <p:grpSpPr>
                <a:xfrm>
                  <a:off x="7552800" y="2259360"/>
                  <a:ext cx="1031040" cy="1126080"/>
                  <a:chOff x="7552800" y="2259360"/>
                  <a:chExt cx="1031040" cy="1126080"/>
                </a:xfrm>
              </p:grpSpPr>
              <p:pic>
                <p:nvPicPr>
                  <p:cNvPr id="93" name="Freeform 2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576920" y="2305800"/>
                    <a:ext cx="987840" cy="103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4" name=""/>
                  <p:cNvSpPr/>
                  <p:nvPr/>
                </p:nvSpPr>
                <p:spPr>
                  <a:xfrm rot="20016000">
                    <a:off x="7718400" y="2367360"/>
                    <a:ext cx="699480" cy="910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Freeform 29"/>
                <p:cNvGrpSpPr/>
                <p:nvPr/>
              </p:nvGrpSpPr>
              <p:grpSpPr>
                <a:xfrm>
                  <a:off x="8085960" y="922320"/>
                  <a:ext cx="873720" cy="884880"/>
                  <a:chOff x="8085960" y="922320"/>
                  <a:chExt cx="873720" cy="884880"/>
                </a:xfrm>
              </p:grpSpPr>
              <p:pic>
                <p:nvPicPr>
                  <p:cNvPr id="96" name="Freeform 2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130240" y="922320"/>
                    <a:ext cx="780840" cy="88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7" name=""/>
                  <p:cNvSpPr/>
                  <p:nvPr/>
                </p:nvSpPr>
                <p:spPr>
                  <a:xfrm rot="18879600">
                    <a:off x="8214120" y="1059120"/>
                    <a:ext cx="617400" cy="618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Freeform 33"/>
                <p:cNvGrpSpPr/>
                <p:nvPr/>
              </p:nvGrpSpPr>
              <p:grpSpPr>
                <a:xfrm>
                  <a:off x="7328520" y="3970800"/>
                  <a:ext cx="1003320" cy="1195560"/>
                  <a:chOff x="7328520" y="3970800"/>
                  <a:chExt cx="1003320" cy="1195560"/>
                </a:xfrm>
              </p:grpSpPr>
              <p:pic>
                <p:nvPicPr>
                  <p:cNvPr id="99" name="Freeform 3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328520" y="3970800"/>
                    <a:ext cx="1003320" cy="119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0" name=""/>
                  <p:cNvSpPr/>
                  <p:nvPr/>
                </p:nvSpPr>
                <p:spPr>
                  <a:xfrm rot="21141600">
                    <a:off x="7440120" y="4070520"/>
                    <a:ext cx="773280" cy="993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Freeform 37"/>
                <p:cNvGrpSpPr/>
                <p:nvPr/>
              </p:nvGrpSpPr>
              <p:grpSpPr>
                <a:xfrm>
                  <a:off x="7464600" y="5138640"/>
                  <a:ext cx="1353600" cy="1542600"/>
                  <a:chOff x="7464600" y="5138640"/>
                  <a:chExt cx="1353600" cy="1542600"/>
                </a:xfrm>
              </p:grpSpPr>
              <p:pic>
                <p:nvPicPr>
                  <p:cNvPr id="102" name="Freeform 3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494120" y="5184000"/>
                    <a:ext cx="1298160" cy="14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3" name=""/>
                  <p:cNvSpPr/>
                  <p:nvPr/>
                </p:nvSpPr>
                <p:spPr>
                  <a:xfrm rot="1068000">
                    <a:off x="7638840" y="5261040"/>
                    <a:ext cx="1005120" cy="129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Freeform 29"/>
                <p:cNvGrpSpPr/>
                <p:nvPr/>
              </p:nvGrpSpPr>
              <p:grpSpPr>
                <a:xfrm>
                  <a:off x="6951960" y="1848600"/>
                  <a:ext cx="873720" cy="879120"/>
                  <a:chOff x="6951960" y="1848600"/>
                  <a:chExt cx="873720" cy="879120"/>
                </a:xfrm>
              </p:grpSpPr>
              <p:pic>
                <p:nvPicPr>
                  <p:cNvPr id="105" name="Freeform 29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997680" y="1848600"/>
                    <a:ext cx="780840" cy="87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6" name=""/>
                  <p:cNvSpPr/>
                  <p:nvPr/>
                </p:nvSpPr>
                <p:spPr>
                  <a:xfrm rot="18879600">
                    <a:off x="7080120" y="1980720"/>
                    <a:ext cx="617400" cy="618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50"/>
              <p:cNvGrpSpPr/>
              <p:nvPr/>
            </p:nvGrpSpPr>
            <p:grpSpPr>
              <a:xfrm>
                <a:off x="7631280" y="78840"/>
                <a:ext cx="1429560" cy="5129640"/>
                <a:chOff x="7631280" y="78840"/>
                <a:chExt cx="1429560" cy="5129640"/>
              </a:xfrm>
            </p:grpSpPr>
            <p:grpSp>
              <p:nvGrpSpPr>
                <p:cNvPr id="108" name="Freeform 45"/>
                <p:cNvGrpSpPr/>
                <p:nvPr/>
              </p:nvGrpSpPr>
              <p:grpSpPr>
                <a:xfrm>
                  <a:off x="7852320" y="4016160"/>
                  <a:ext cx="986040" cy="1192320"/>
                  <a:chOff x="7852320" y="4016160"/>
                  <a:chExt cx="986040" cy="1192320"/>
                </a:xfrm>
              </p:grpSpPr>
              <p:pic>
                <p:nvPicPr>
                  <p:cNvPr id="109" name="Freeform 4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877520" y="4037040"/>
                    <a:ext cx="932400" cy="115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10" name=""/>
                  <p:cNvSpPr/>
                  <p:nvPr/>
                </p:nvSpPr>
                <p:spPr>
                  <a:xfrm rot="20600400">
                    <a:off x="7984440" y="4097880"/>
                    <a:ext cx="721440" cy="1028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1" name="Freeform 49"/>
                <p:cNvGrpSpPr/>
                <p:nvPr/>
              </p:nvGrpSpPr>
              <p:grpSpPr>
                <a:xfrm>
                  <a:off x="7631280" y="1014480"/>
                  <a:ext cx="1088640" cy="1142280"/>
                  <a:chOff x="7631280" y="1014480"/>
                  <a:chExt cx="1088640" cy="1142280"/>
                </a:xfrm>
              </p:grpSpPr>
              <p:pic>
                <p:nvPicPr>
                  <p:cNvPr id="112" name="Freeform 49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7709760" y="1031040"/>
                    <a:ext cx="927720" cy="110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13" name=""/>
                  <p:cNvSpPr/>
                  <p:nvPr/>
                </p:nvSpPr>
                <p:spPr>
                  <a:xfrm rot="19358400">
                    <a:off x="7849080" y="1116000"/>
                    <a:ext cx="652680" cy="93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4" name="Freeform 53"/>
                <p:cNvGrpSpPr/>
                <p:nvPr/>
              </p:nvGrpSpPr>
              <p:grpSpPr>
                <a:xfrm>
                  <a:off x="8192520" y="78840"/>
                  <a:ext cx="868320" cy="970200"/>
                  <a:chOff x="8192520" y="78840"/>
                  <a:chExt cx="868320" cy="970200"/>
                </a:xfrm>
              </p:grpSpPr>
              <p:pic>
                <p:nvPicPr>
                  <p:cNvPr id="115" name="Freeform 53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8245800" y="121320"/>
                    <a:ext cx="764640" cy="88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16" name=""/>
                  <p:cNvSpPr/>
                  <p:nvPr/>
                </p:nvSpPr>
                <p:spPr>
                  <a:xfrm rot="19929600">
                    <a:off x="8347320" y="162360"/>
                    <a:ext cx="558360" cy="802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Freeform 53"/>
                <p:cNvSpPr/>
                <p:nvPr/>
              </p:nvSpPr>
              <p:spPr>
                <a:xfrm rot="1159800">
                  <a:off x="8332200" y="3230640"/>
                  <a:ext cx="375840" cy="540360"/>
                </a:xfrm>
                <a:custGeom>
                  <a:avLst/>
                  <a:gdLst/>
                  <a:ahLst/>
                  <a:rect l="l" t="t" r="r" b="b"/>
                  <a:pathLst>
                    <a:path w="750" h="856">
                      <a:moveTo>
                        <a:pt x="680" y="580"/>
                      </a:moveTo>
                      <a:lnTo>
                        <a:pt x="746" y="560"/>
                      </a:lnTo>
                      <a:lnTo>
                        <a:pt x="744" y="552"/>
                      </a:lnTo>
                      <a:lnTo>
                        <a:pt x="664" y="570"/>
                      </a:lnTo>
                      <a:lnTo>
                        <a:pt x="634" y="554"/>
                      </a:lnTo>
                      <a:lnTo>
                        <a:pt x="604" y="538"/>
                      </a:lnTo>
                      <a:lnTo>
                        <a:pt x="732" y="502"/>
                      </a:lnTo>
                      <a:lnTo>
                        <a:pt x="730" y="490"/>
                      </a:lnTo>
                      <a:lnTo>
                        <a:pt x="582" y="526"/>
                      </a:lnTo>
                      <a:lnTo>
                        <a:pt x="570" y="522"/>
                      </a:lnTo>
                      <a:lnTo>
                        <a:pt x="530" y="502"/>
                      </a:lnTo>
                      <a:lnTo>
                        <a:pt x="490" y="480"/>
                      </a:lnTo>
                      <a:lnTo>
                        <a:pt x="452" y="458"/>
                      </a:lnTo>
                      <a:lnTo>
                        <a:pt x="416" y="432"/>
                      </a:lnTo>
                      <a:lnTo>
                        <a:pt x="454" y="404"/>
                      </a:lnTo>
                      <a:lnTo>
                        <a:pt x="492" y="380"/>
                      </a:lnTo>
                      <a:lnTo>
                        <a:pt x="532" y="358"/>
                      </a:lnTo>
                      <a:lnTo>
                        <a:pt x="572" y="338"/>
                      </a:lnTo>
                      <a:lnTo>
                        <a:pt x="586" y="332"/>
                      </a:lnTo>
                      <a:lnTo>
                        <a:pt x="730" y="366"/>
                      </a:lnTo>
                      <a:lnTo>
                        <a:pt x="732" y="356"/>
                      </a:lnTo>
                      <a:lnTo>
                        <a:pt x="608" y="320"/>
                      </a:lnTo>
                      <a:lnTo>
                        <a:pt x="666" y="288"/>
                      </a:lnTo>
                      <a:lnTo>
                        <a:pt x="744" y="306"/>
                      </a:lnTo>
                      <a:lnTo>
                        <a:pt x="746" y="296"/>
                      </a:lnTo>
                      <a:lnTo>
                        <a:pt x="682" y="278"/>
                      </a:lnTo>
                      <a:lnTo>
                        <a:pt x="716" y="254"/>
                      </a:lnTo>
                      <a:lnTo>
                        <a:pt x="748" y="228"/>
                      </a:lnTo>
                      <a:lnTo>
                        <a:pt x="750" y="226"/>
                      </a:lnTo>
                      <a:lnTo>
                        <a:pt x="748" y="224"/>
                      </a:lnTo>
                      <a:lnTo>
                        <a:pt x="744" y="214"/>
                      </a:lnTo>
                      <a:lnTo>
                        <a:pt x="738" y="206"/>
                      </a:lnTo>
                      <a:lnTo>
                        <a:pt x="736" y="208"/>
                      </a:lnTo>
                      <a:lnTo>
                        <a:pt x="696" y="222"/>
                      </a:lnTo>
                      <a:lnTo>
                        <a:pt x="658" y="240"/>
                      </a:lnTo>
                      <a:lnTo>
                        <a:pt x="674" y="174"/>
                      </a:lnTo>
                      <a:lnTo>
                        <a:pt x="664" y="170"/>
                      </a:lnTo>
                      <a:lnTo>
                        <a:pt x="642" y="248"/>
                      </a:lnTo>
                      <a:lnTo>
                        <a:pt x="614" y="266"/>
                      </a:lnTo>
                      <a:lnTo>
                        <a:pt x="584" y="284"/>
                      </a:lnTo>
                      <a:lnTo>
                        <a:pt x="618" y="154"/>
                      </a:lnTo>
                      <a:lnTo>
                        <a:pt x="606" y="152"/>
                      </a:lnTo>
                      <a:lnTo>
                        <a:pt x="562" y="298"/>
                      </a:lnTo>
                      <a:lnTo>
                        <a:pt x="552" y="306"/>
                      </a:lnTo>
                      <a:lnTo>
                        <a:pt x="516" y="330"/>
                      </a:lnTo>
                      <a:lnTo>
                        <a:pt x="478" y="354"/>
                      </a:lnTo>
                      <a:lnTo>
                        <a:pt x="438" y="376"/>
                      </a:lnTo>
                      <a:lnTo>
                        <a:pt x="398" y="394"/>
                      </a:lnTo>
                      <a:lnTo>
                        <a:pt x="392" y="348"/>
                      </a:lnTo>
                      <a:lnTo>
                        <a:pt x="392" y="302"/>
                      </a:lnTo>
                      <a:lnTo>
                        <a:pt x="392" y="258"/>
                      </a:lnTo>
                      <a:lnTo>
                        <a:pt x="394" y="212"/>
                      </a:lnTo>
                      <a:lnTo>
                        <a:pt x="396" y="198"/>
                      </a:lnTo>
                      <a:lnTo>
                        <a:pt x="498" y="90"/>
                      </a:lnTo>
                      <a:lnTo>
                        <a:pt x="490" y="82"/>
                      </a:lnTo>
                      <a:lnTo>
                        <a:pt x="398" y="172"/>
                      </a:lnTo>
                      <a:lnTo>
                        <a:pt x="398" y="106"/>
                      </a:lnTo>
                      <a:lnTo>
                        <a:pt x="452" y="48"/>
                      </a:lnTo>
                      <a:lnTo>
                        <a:pt x="446" y="42"/>
                      </a:lnTo>
                      <a:lnTo>
                        <a:pt x="398" y="88"/>
                      </a:lnTo>
                      <a:lnTo>
                        <a:pt x="394" y="46"/>
                      </a:lnTo>
                      <a:lnTo>
                        <a:pt x="388" y="4"/>
                      </a:lnTo>
                      <a:lnTo>
                        <a:pt x="388" y="0"/>
                      </a:lnTo>
                      <a:lnTo>
                        <a:pt x="384" y="0"/>
                      </a:lnTo>
                      <a:lnTo>
                        <a:pt x="368" y="0"/>
                      </a:lnTo>
                      <a:lnTo>
                        <a:pt x="364" y="0"/>
                      </a:lnTo>
                      <a:lnTo>
                        <a:pt x="364" y="4"/>
                      </a:lnTo>
                      <a:lnTo>
                        <a:pt x="356" y="46"/>
                      </a:lnTo>
                      <a:lnTo>
                        <a:pt x="354" y="88"/>
                      </a:lnTo>
                      <a:lnTo>
                        <a:pt x="304" y="42"/>
                      </a:lnTo>
                      <a:lnTo>
                        <a:pt x="296" y="48"/>
                      </a:lnTo>
                      <a:lnTo>
                        <a:pt x="352" y="108"/>
                      </a:lnTo>
                      <a:lnTo>
                        <a:pt x="354" y="140"/>
                      </a:lnTo>
                      <a:lnTo>
                        <a:pt x="354" y="174"/>
                      </a:lnTo>
                      <a:lnTo>
                        <a:pt x="258" y="82"/>
                      </a:lnTo>
                      <a:lnTo>
                        <a:pt x="250" y="90"/>
                      </a:lnTo>
                      <a:lnTo>
                        <a:pt x="356" y="200"/>
                      </a:lnTo>
                      <a:lnTo>
                        <a:pt x="358" y="214"/>
                      </a:lnTo>
                      <a:lnTo>
                        <a:pt x="360" y="258"/>
                      </a:lnTo>
                      <a:lnTo>
                        <a:pt x="362" y="302"/>
                      </a:lnTo>
                      <a:lnTo>
                        <a:pt x="360" y="346"/>
                      </a:lnTo>
                      <a:lnTo>
                        <a:pt x="356" y="392"/>
                      </a:lnTo>
                      <a:lnTo>
                        <a:pt x="314" y="374"/>
                      </a:lnTo>
                      <a:lnTo>
                        <a:pt x="274" y="352"/>
                      </a:lnTo>
                      <a:lnTo>
                        <a:pt x="236" y="328"/>
                      </a:lnTo>
                      <a:lnTo>
                        <a:pt x="198" y="304"/>
                      </a:lnTo>
                      <a:lnTo>
                        <a:pt x="186" y="294"/>
                      </a:lnTo>
                      <a:lnTo>
                        <a:pt x="144" y="152"/>
                      </a:lnTo>
                      <a:lnTo>
                        <a:pt x="132" y="154"/>
                      </a:lnTo>
                      <a:lnTo>
                        <a:pt x="164" y="282"/>
                      </a:lnTo>
                      <a:lnTo>
                        <a:pt x="106" y="246"/>
                      </a:lnTo>
                      <a:lnTo>
                        <a:pt x="84" y="170"/>
                      </a:lnTo>
                      <a:lnTo>
                        <a:pt x="74" y="174"/>
                      </a:lnTo>
                      <a:lnTo>
                        <a:pt x="90" y="238"/>
                      </a:lnTo>
                      <a:lnTo>
                        <a:pt x="54" y="220"/>
                      </a:lnTo>
                      <a:lnTo>
                        <a:pt x="14" y="206"/>
                      </a:lnTo>
                      <a:lnTo>
                        <a:pt x="12" y="204"/>
                      </a:lnTo>
                      <a:lnTo>
                        <a:pt x="10" y="208"/>
                      </a:lnTo>
                      <a:lnTo>
                        <a:pt x="2" y="222"/>
                      </a:lnTo>
                      <a:lnTo>
                        <a:pt x="0" y="224"/>
                      </a:lnTo>
                      <a:lnTo>
                        <a:pt x="2" y="226"/>
                      </a:lnTo>
                      <a:lnTo>
                        <a:pt x="36" y="254"/>
                      </a:lnTo>
                      <a:lnTo>
                        <a:pt x="70" y="278"/>
                      </a:lnTo>
                      <a:lnTo>
                        <a:pt x="4" y="296"/>
                      </a:lnTo>
                      <a:lnTo>
                        <a:pt x="6" y="306"/>
                      </a:lnTo>
                      <a:lnTo>
                        <a:pt x="86" y="288"/>
                      </a:lnTo>
                      <a:lnTo>
                        <a:pt x="114" y="304"/>
                      </a:lnTo>
                      <a:lnTo>
                        <a:pt x="144" y="318"/>
                      </a:lnTo>
                      <a:lnTo>
                        <a:pt x="16" y="356"/>
                      </a:lnTo>
                      <a:lnTo>
                        <a:pt x="20" y="366"/>
                      </a:lnTo>
                      <a:lnTo>
                        <a:pt x="168" y="330"/>
                      </a:lnTo>
                      <a:lnTo>
                        <a:pt x="180" y="336"/>
                      </a:lnTo>
                      <a:lnTo>
                        <a:pt x="220" y="356"/>
                      </a:lnTo>
                      <a:lnTo>
                        <a:pt x="258" y="376"/>
                      </a:lnTo>
                      <a:lnTo>
                        <a:pt x="296" y="400"/>
                      </a:lnTo>
                      <a:lnTo>
                        <a:pt x="334" y="426"/>
                      </a:lnTo>
                      <a:lnTo>
                        <a:pt x="296" y="454"/>
                      </a:lnTo>
                      <a:lnTo>
                        <a:pt x="258" y="478"/>
                      </a:lnTo>
                      <a:lnTo>
                        <a:pt x="218" y="498"/>
                      </a:lnTo>
                      <a:lnTo>
                        <a:pt x="178" y="520"/>
                      </a:lnTo>
                      <a:lnTo>
                        <a:pt x="164" y="526"/>
                      </a:lnTo>
                      <a:lnTo>
                        <a:pt x="20" y="490"/>
                      </a:lnTo>
                      <a:lnTo>
                        <a:pt x="16" y="502"/>
                      </a:lnTo>
                      <a:lnTo>
                        <a:pt x="142" y="538"/>
                      </a:lnTo>
                      <a:lnTo>
                        <a:pt x="112" y="554"/>
                      </a:lnTo>
                      <a:lnTo>
                        <a:pt x="82" y="570"/>
                      </a:lnTo>
                      <a:lnTo>
                        <a:pt x="6" y="552"/>
                      </a:lnTo>
                      <a:lnTo>
                        <a:pt x="4" y="560"/>
                      </a:lnTo>
                      <a:lnTo>
                        <a:pt x="68" y="580"/>
                      </a:lnTo>
                      <a:lnTo>
                        <a:pt x="34" y="602"/>
                      </a:lnTo>
                      <a:lnTo>
                        <a:pt x="2" y="628"/>
                      </a:lnTo>
                      <a:lnTo>
                        <a:pt x="0" y="630"/>
                      </a:lnTo>
                      <a:lnTo>
                        <a:pt x="6" y="644"/>
                      </a:lnTo>
                      <a:lnTo>
                        <a:pt x="8" y="648"/>
                      </a:lnTo>
                      <a:lnTo>
                        <a:pt x="10" y="650"/>
                      </a:lnTo>
                      <a:lnTo>
                        <a:pt x="14" y="650"/>
                      </a:lnTo>
                      <a:lnTo>
                        <a:pt x="54" y="636"/>
                      </a:lnTo>
                      <a:lnTo>
                        <a:pt x="92" y="618"/>
                      </a:lnTo>
                      <a:lnTo>
                        <a:pt x="74" y="684"/>
                      </a:lnTo>
                      <a:lnTo>
                        <a:pt x="84" y="686"/>
                      </a:lnTo>
                      <a:lnTo>
                        <a:pt x="108" y="608"/>
                      </a:lnTo>
                      <a:lnTo>
                        <a:pt x="136" y="592"/>
                      </a:lnTo>
                      <a:lnTo>
                        <a:pt x="164" y="574"/>
                      </a:lnTo>
                      <a:lnTo>
                        <a:pt x="132" y="702"/>
                      </a:lnTo>
                      <a:lnTo>
                        <a:pt x="144" y="706"/>
                      </a:lnTo>
                      <a:lnTo>
                        <a:pt x="186" y="558"/>
                      </a:lnTo>
                      <a:lnTo>
                        <a:pt x="196" y="552"/>
                      </a:lnTo>
                      <a:lnTo>
                        <a:pt x="234" y="526"/>
                      </a:lnTo>
                      <a:lnTo>
                        <a:pt x="272" y="504"/>
                      </a:lnTo>
                      <a:lnTo>
                        <a:pt x="310" y="482"/>
                      </a:lnTo>
                      <a:lnTo>
                        <a:pt x="352" y="464"/>
                      </a:lnTo>
                      <a:lnTo>
                        <a:pt x="356" y="508"/>
                      </a:lnTo>
                      <a:lnTo>
                        <a:pt x="358" y="554"/>
                      </a:lnTo>
                      <a:lnTo>
                        <a:pt x="356" y="600"/>
                      </a:lnTo>
                      <a:lnTo>
                        <a:pt x="354" y="644"/>
                      </a:lnTo>
                      <a:lnTo>
                        <a:pt x="354" y="660"/>
                      </a:lnTo>
                      <a:lnTo>
                        <a:pt x="250" y="768"/>
                      </a:lnTo>
                      <a:lnTo>
                        <a:pt x="258" y="776"/>
                      </a:lnTo>
                      <a:lnTo>
                        <a:pt x="352" y="686"/>
                      </a:lnTo>
                      <a:lnTo>
                        <a:pt x="352" y="718"/>
                      </a:lnTo>
                      <a:lnTo>
                        <a:pt x="352" y="752"/>
                      </a:lnTo>
                      <a:lnTo>
                        <a:pt x="296" y="808"/>
                      </a:lnTo>
                      <a:lnTo>
                        <a:pt x="304" y="816"/>
                      </a:lnTo>
                      <a:lnTo>
                        <a:pt x="352" y="770"/>
                      </a:lnTo>
                      <a:lnTo>
                        <a:pt x="354" y="812"/>
                      </a:lnTo>
                      <a:lnTo>
                        <a:pt x="362" y="852"/>
                      </a:lnTo>
                      <a:lnTo>
                        <a:pt x="362" y="856"/>
                      </a:lnTo>
                      <a:lnTo>
                        <a:pt x="366" y="856"/>
                      </a:lnTo>
                      <a:lnTo>
                        <a:pt x="382" y="856"/>
                      </a:lnTo>
                      <a:lnTo>
                        <a:pt x="386" y="856"/>
                      </a:lnTo>
                      <a:lnTo>
                        <a:pt x="386" y="852"/>
                      </a:lnTo>
                      <a:lnTo>
                        <a:pt x="394" y="810"/>
                      </a:lnTo>
                      <a:lnTo>
                        <a:pt x="396" y="768"/>
                      </a:lnTo>
                      <a:lnTo>
                        <a:pt x="446" y="816"/>
                      </a:lnTo>
                      <a:lnTo>
                        <a:pt x="452" y="808"/>
                      </a:lnTo>
                      <a:lnTo>
                        <a:pt x="396" y="750"/>
                      </a:lnTo>
                      <a:lnTo>
                        <a:pt x="396" y="716"/>
                      </a:lnTo>
                      <a:lnTo>
                        <a:pt x="394" y="682"/>
                      </a:lnTo>
                      <a:lnTo>
                        <a:pt x="490" y="776"/>
                      </a:lnTo>
                      <a:lnTo>
                        <a:pt x="498" y="768"/>
                      </a:lnTo>
                      <a:lnTo>
                        <a:pt x="392" y="656"/>
                      </a:lnTo>
                      <a:lnTo>
                        <a:pt x="392" y="644"/>
                      </a:lnTo>
                      <a:lnTo>
                        <a:pt x="390" y="600"/>
                      </a:lnTo>
                      <a:lnTo>
                        <a:pt x="388" y="556"/>
                      </a:lnTo>
                      <a:lnTo>
                        <a:pt x="388" y="510"/>
                      </a:lnTo>
                      <a:lnTo>
                        <a:pt x="394" y="466"/>
                      </a:lnTo>
                      <a:lnTo>
                        <a:pt x="436" y="484"/>
                      </a:lnTo>
                      <a:lnTo>
                        <a:pt x="476" y="506"/>
                      </a:lnTo>
                      <a:lnTo>
                        <a:pt x="514" y="530"/>
                      </a:lnTo>
                      <a:lnTo>
                        <a:pt x="552" y="554"/>
                      </a:lnTo>
                      <a:lnTo>
                        <a:pt x="564" y="562"/>
                      </a:lnTo>
                      <a:lnTo>
                        <a:pt x="606" y="706"/>
                      </a:lnTo>
                      <a:lnTo>
                        <a:pt x="618" y="702"/>
                      </a:lnTo>
                      <a:lnTo>
                        <a:pt x="586" y="576"/>
                      </a:lnTo>
                      <a:lnTo>
                        <a:pt x="614" y="594"/>
                      </a:lnTo>
                      <a:lnTo>
                        <a:pt x="642" y="610"/>
                      </a:lnTo>
                      <a:lnTo>
                        <a:pt x="664" y="686"/>
                      </a:lnTo>
                      <a:lnTo>
                        <a:pt x="674" y="684"/>
                      </a:lnTo>
                      <a:lnTo>
                        <a:pt x="658" y="620"/>
                      </a:lnTo>
                      <a:lnTo>
                        <a:pt x="696" y="636"/>
                      </a:lnTo>
                      <a:lnTo>
                        <a:pt x="734" y="652"/>
                      </a:lnTo>
                      <a:lnTo>
                        <a:pt x="738" y="652"/>
                      </a:lnTo>
                      <a:lnTo>
                        <a:pt x="746" y="638"/>
                      </a:lnTo>
                      <a:lnTo>
                        <a:pt x="746" y="636"/>
                      </a:lnTo>
                      <a:lnTo>
                        <a:pt x="750" y="632"/>
                      </a:lnTo>
                      <a:lnTo>
                        <a:pt x="746" y="630"/>
                      </a:lnTo>
                      <a:lnTo>
                        <a:pt x="714" y="604"/>
                      </a:lnTo>
                      <a:lnTo>
                        <a:pt x="680" y="580"/>
                      </a:lnTo>
                      <a:close/>
                    </a:path>
                  </a:pathLst>
                </a:custGeom>
                <a:solidFill>
                  <a:srgbClr val="feffff">
                    <a:alpha val="76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8" name="Freeform 53"/>
                <p:cNvSpPr/>
                <p:nvPr/>
              </p:nvSpPr>
              <p:spPr>
                <a:xfrm rot="20991000">
                  <a:off x="8629560" y="900000"/>
                  <a:ext cx="294120" cy="422640"/>
                </a:xfrm>
                <a:custGeom>
                  <a:avLst/>
                  <a:gdLst/>
                  <a:ahLst/>
                  <a:rect l="l" t="t" r="r" b="b"/>
                  <a:pathLst>
                    <a:path w="750" h="856">
                      <a:moveTo>
                        <a:pt x="680" y="580"/>
                      </a:moveTo>
                      <a:lnTo>
                        <a:pt x="746" y="560"/>
                      </a:lnTo>
                      <a:lnTo>
                        <a:pt x="744" y="552"/>
                      </a:lnTo>
                      <a:lnTo>
                        <a:pt x="664" y="570"/>
                      </a:lnTo>
                      <a:lnTo>
                        <a:pt x="634" y="554"/>
                      </a:lnTo>
                      <a:lnTo>
                        <a:pt x="604" y="538"/>
                      </a:lnTo>
                      <a:lnTo>
                        <a:pt x="732" y="502"/>
                      </a:lnTo>
                      <a:lnTo>
                        <a:pt x="730" y="490"/>
                      </a:lnTo>
                      <a:lnTo>
                        <a:pt x="582" y="526"/>
                      </a:lnTo>
                      <a:lnTo>
                        <a:pt x="570" y="522"/>
                      </a:lnTo>
                      <a:lnTo>
                        <a:pt x="530" y="502"/>
                      </a:lnTo>
                      <a:lnTo>
                        <a:pt x="490" y="480"/>
                      </a:lnTo>
                      <a:lnTo>
                        <a:pt x="452" y="458"/>
                      </a:lnTo>
                      <a:lnTo>
                        <a:pt x="416" y="432"/>
                      </a:lnTo>
                      <a:lnTo>
                        <a:pt x="454" y="404"/>
                      </a:lnTo>
                      <a:lnTo>
                        <a:pt x="492" y="380"/>
                      </a:lnTo>
                      <a:lnTo>
                        <a:pt x="532" y="358"/>
                      </a:lnTo>
                      <a:lnTo>
                        <a:pt x="572" y="338"/>
                      </a:lnTo>
                      <a:lnTo>
                        <a:pt x="586" y="332"/>
                      </a:lnTo>
                      <a:lnTo>
                        <a:pt x="730" y="366"/>
                      </a:lnTo>
                      <a:lnTo>
                        <a:pt x="732" y="356"/>
                      </a:lnTo>
                      <a:lnTo>
                        <a:pt x="608" y="320"/>
                      </a:lnTo>
                      <a:lnTo>
                        <a:pt x="666" y="288"/>
                      </a:lnTo>
                      <a:lnTo>
                        <a:pt x="744" y="306"/>
                      </a:lnTo>
                      <a:lnTo>
                        <a:pt x="746" y="296"/>
                      </a:lnTo>
                      <a:lnTo>
                        <a:pt x="682" y="278"/>
                      </a:lnTo>
                      <a:lnTo>
                        <a:pt x="716" y="254"/>
                      </a:lnTo>
                      <a:lnTo>
                        <a:pt x="748" y="228"/>
                      </a:lnTo>
                      <a:lnTo>
                        <a:pt x="750" y="226"/>
                      </a:lnTo>
                      <a:lnTo>
                        <a:pt x="748" y="224"/>
                      </a:lnTo>
                      <a:lnTo>
                        <a:pt x="744" y="214"/>
                      </a:lnTo>
                      <a:lnTo>
                        <a:pt x="738" y="206"/>
                      </a:lnTo>
                      <a:lnTo>
                        <a:pt x="736" y="208"/>
                      </a:lnTo>
                      <a:lnTo>
                        <a:pt x="696" y="222"/>
                      </a:lnTo>
                      <a:lnTo>
                        <a:pt x="658" y="240"/>
                      </a:lnTo>
                      <a:lnTo>
                        <a:pt x="674" y="174"/>
                      </a:lnTo>
                      <a:lnTo>
                        <a:pt x="664" y="170"/>
                      </a:lnTo>
                      <a:lnTo>
                        <a:pt x="642" y="248"/>
                      </a:lnTo>
                      <a:lnTo>
                        <a:pt x="614" y="266"/>
                      </a:lnTo>
                      <a:lnTo>
                        <a:pt x="584" y="284"/>
                      </a:lnTo>
                      <a:lnTo>
                        <a:pt x="618" y="154"/>
                      </a:lnTo>
                      <a:lnTo>
                        <a:pt x="606" y="152"/>
                      </a:lnTo>
                      <a:lnTo>
                        <a:pt x="562" y="298"/>
                      </a:lnTo>
                      <a:lnTo>
                        <a:pt x="552" y="306"/>
                      </a:lnTo>
                      <a:lnTo>
                        <a:pt x="516" y="330"/>
                      </a:lnTo>
                      <a:lnTo>
                        <a:pt x="478" y="354"/>
                      </a:lnTo>
                      <a:lnTo>
                        <a:pt x="438" y="376"/>
                      </a:lnTo>
                      <a:lnTo>
                        <a:pt x="398" y="394"/>
                      </a:lnTo>
                      <a:lnTo>
                        <a:pt x="392" y="348"/>
                      </a:lnTo>
                      <a:lnTo>
                        <a:pt x="392" y="302"/>
                      </a:lnTo>
                      <a:lnTo>
                        <a:pt x="392" y="258"/>
                      </a:lnTo>
                      <a:lnTo>
                        <a:pt x="394" y="212"/>
                      </a:lnTo>
                      <a:lnTo>
                        <a:pt x="396" y="198"/>
                      </a:lnTo>
                      <a:lnTo>
                        <a:pt x="498" y="90"/>
                      </a:lnTo>
                      <a:lnTo>
                        <a:pt x="490" y="82"/>
                      </a:lnTo>
                      <a:lnTo>
                        <a:pt x="398" y="172"/>
                      </a:lnTo>
                      <a:lnTo>
                        <a:pt x="398" y="106"/>
                      </a:lnTo>
                      <a:lnTo>
                        <a:pt x="452" y="48"/>
                      </a:lnTo>
                      <a:lnTo>
                        <a:pt x="446" y="42"/>
                      </a:lnTo>
                      <a:lnTo>
                        <a:pt x="398" y="88"/>
                      </a:lnTo>
                      <a:lnTo>
                        <a:pt x="394" y="46"/>
                      </a:lnTo>
                      <a:lnTo>
                        <a:pt x="388" y="4"/>
                      </a:lnTo>
                      <a:lnTo>
                        <a:pt x="388" y="0"/>
                      </a:lnTo>
                      <a:lnTo>
                        <a:pt x="384" y="0"/>
                      </a:lnTo>
                      <a:lnTo>
                        <a:pt x="368" y="0"/>
                      </a:lnTo>
                      <a:lnTo>
                        <a:pt x="364" y="0"/>
                      </a:lnTo>
                      <a:lnTo>
                        <a:pt x="364" y="4"/>
                      </a:lnTo>
                      <a:lnTo>
                        <a:pt x="356" y="46"/>
                      </a:lnTo>
                      <a:lnTo>
                        <a:pt x="354" y="88"/>
                      </a:lnTo>
                      <a:lnTo>
                        <a:pt x="304" y="42"/>
                      </a:lnTo>
                      <a:lnTo>
                        <a:pt x="296" y="48"/>
                      </a:lnTo>
                      <a:lnTo>
                        <a:pt x="352" y="108"/>
                      </a:lnTo>
                      <a:lnTo>
                        <a:pt x="354" y="140"/>
                      </a:lnTo>
                      <a:lnTo>
                        <a:pt x="354" y="174"/>
                      </a:lnTo>
                      <a:lnTo>
                        <a:pt x="258" y="82"/>
                      </a:lnTo>
                      <a:lnTo>
                        <a:pt x="250" y="90"/>
                      </a:lnTo>
                      <a:lnTo>
                        <a:pt x="356" y="200"/>
                      </a:lnTo>
                      <a:lnTo>
                        <a:pt x="358" y="214"/>
                      </a:lnTo>
                      <a:lnTo>
                        <a:pt x="360" y="258"/>
                      </a:lnTo>
                      <a:lnTo>
                        <a:pt x="362" y="302"/>
                      </a:lnTo>
                      <a:lnTo>
                        <a:pt x="360" y="346"/>
                      </a:lnTo>
                      <a:lnTo>
                        <a:pt x="356" y="392"/>
                      </a:lnTo>
                      <a:lnTo>
                        <a:pt x="314" y="374"/>
                      </a:lnTo>
                      <a:lnTo>
                        <a:pt x="274" y="352"/>
                      </a:lnTo>
                      <a:lnTo>
                        <a:pt x="236" y="328"/>
                      </a:lnTo>
                      <a:lnTo>
                        <a:pt x="198" y="304"/>
                      </a:lnTo>
                      <a:lnTo>
                        <a:pt x="186" y="294"/>
                      </a:lnTo>
                      <a:lnTo>
                        <a:pt x="144" y="152"/>
                      </a:lnTo>
                      <a:lnTo>
                        <a:pt x="132" y="154"/>
                      </a:lnTo>
                      <a:lnTo>
                        <a:pt x="164" y="282"/>
                      </a:lnTo>
                      <a:lnTo>
                        <a:pt x="106" y="246"/>
                      </a:lnTo>
                      <a:lnTo>
                        <a:pt x="84" y="170"/>
                      </a:lnTo>
                      <a:lnTo>
                        <a:pt x="74" y="174"/>
                      </a:lnTo>
                      <a:lnTo>
                        <a:pt x="90" y="238"/>
                      </a:lnTo>
                      <a:lnTo>
                        <a:pt x="54" y="220"/>
                      </a:lnTo>
                      <a:lnTo>
                        <a:pt x="14" y="206"/>
                      </a:lnTo>
                      <a:lnTo>
                        <a:pt x="12" y="204"/>
                      </a:lnTo>
                      <a:lnTo>
                        <a:pt x="10" y="208"/>
                      </a:lnTo>
                      <a:lnTo>
                        <a:pt x="2" y="222"/>
                      </a:lnTo>
                      <a:lnTo>
                        <a:pt x="0" y="224"/>
                      </a:lnTo>
                      <a:lnTo>
                        <a:pt x="2" y="226"/>
                      </a:lnTo>
                      <a:lnTo>
                        <a:pt x="36" y="254"/>
                      </a:lnTo>
                      <a:lnTo>
                        <a:pt x="70" y="278"/>
                      </a:lnTo>
                      <a:lnTo>
                        <a:pt x="4" y="296"/>
                      </a:lnTo>
                      <a:lnTo>
                        <a:pt x="6" y="306"/>
                      </a:lnTo>
                      <a:lnTo>
                        <a:pt x="86" y="288"/>
                      </a:lnTo>
                      <a:lnTo>
                        <a:pt x="114" y="304"/>
                      </a:lnTo>
                      <a:lnTo>
                        <a:pt x="144" y="318"/>
                      </a:lnTo>
                      <a:lnTo>
                        <a:pt x="16" y="356"/>
                      </a:lnTo>
                      <a:lnTo>
                        <a:pt x="20" y="366"/>
                      </a:lnTo>
                      <a:lnTo>
                        <a:pt x="168" y="330"/>
                      </a:lnTo>
                      <a:lnTo>
                        <a:pt x="180" y="336"/>
                      </a:lnTo>
                      <a:lnTo>
                        <a:pt x="220" y="356"/>
                      </a:lnTo>
                      <a:lnTo>
                        <a:pt x="258" y="376"/>
                      </a:lnTo>
                      <a:lnTo>
                        <a:pt x="296" y="400"/>
                      </a:lnTo>
                      <a:lnTo>
                        <a:pt x="334" y="426"/>
                      </a:lnTo>
                      <a:lnTo>
                        <a:pt x="296" y="454"/>
                      </a:lnTo>
                      <a:lnTo>
                        <a:pt x="258" y="478"/>
                      </a:lnTo>
                      <a:lnTo>
                        <a:pt x="218" y="498"/>
                      </a:lnTo>
                      <a:lnTo>
                        <a:pt x="178" y="520"/>
                      </a:lnTo>
                      <a:lnTo>
                        <a:pt x="164" y="526"/>
                      </a:lnTo>
                      <a:lnTo>
                        <a:pt x="20" y="490"/>
                      </a:lnTo>
                      <a:lnTo>
                        <a:pt x="16" y="502"/>
                      </a:lnTo>
                      <a:lnTo>
                        <a:pt x="142" y="538"/>
                      </a:lnTo>
                      <a:lnTo>
                        <a:pt x="112" y="554"/>
                      </a:lnTo>
                      <a:lnTo>
                        <a:pt x="82" y="570"/>
                      </a:lnTo>
                      <a:lnTo>
                        <a:pt x="6" y="552"/>
                      </a:lnTo>
                      <a:lnTo>
                        <a:pt x="4" y="560"/>
                      </a:lnTo>
                      <a:lnTo>
                        <a:pt x="68" y="580"/>
                      </a:lnTo>
                      <a:lnTo>
                        <a:pt x="34" y="602"/>
                      </a:lnTo>
                      <a:lnTo>
                        <a:pt x="2" y="628"/>
                      </a:lnTo>
                      <a:lnTo>
                        <a:pt x="0" y="630"/>
                      </a:lnTo>
                      <a:lnTo>
                        <a:pt x="6" y="644"/>
                      </a:lnTo>
                      <a:lnTo>
                        <a:pt x="8" y="648"/>
                      </a:lnTo>
                      <a:lnTo>
                        <a:pt x="10" y="650"/>
                      </a:lnTo>
                      <a:lnTo>
                        <a:pt x="14" y="650"/>
                      </a:lnTo>
                      <a:lnTo>
                        <a:pt x="54" y="636"/>
                      </a:lnTo>
                      <a:lnTo>
                        <a:pt x="92" y="618"/>
                      </a:lnTo>
                      <a:lnTo>
                        <a:pt x="74" y="684"/>
                      </a:lnTo>
                      <a:lnTo>
                        <a:pt x="84" y="686"/>
                      </a:lnTo>
                      <a:lnTo>
                        <a:pt x="108" y="608"/>
                      </a:lnTo>
                      <a:lnTo>
                        <a:pt x="136" y="592"/>
                      </a:lnTo>
                      <a:lnTo>
                        <a:pt x="164" y="574"/>
                      </a:lnTo>
                      <a:lnTo>
                        <a:pt x="132" y="702"/>
                      </a:lnTo>
                      <a:lnTo>
                        <a:pt x="144" y="706"/>
                      </a:lnTo>
                      <a:lnTo>
                        <a:pt x="186" y="558"/>
                      </a:lnTo>
                      <a:lnTo>
                        <a:pt x="196" y="552"/>
                      </a:lnTo>
                      <a:lnTo>
                        <a:pt x="234" y="526"/>
                      </a:lnTo>
                      <a:lnTo>
                        <a:pt x="272" y="504"/>
                      </a:lnTo>
                      <a:lnTo>
                        <a:pt x="310" y="482"/>
                      </a:lnTo>
                      <a:lnTo>
                        <a:pt x="352" y="464"/>
                      </a:lnTo>
                      <a:lnTo>
                        <a:pt x="356" y="508"/>
                      </a:lnTo>
                      <a:lnTo>
                        <a:pt x="358" y="554"/>
                      </a:lnTo>
                      <a:lnTo>
                        <a:pt x="356" y="600"/>
                      </a:lnTo>
                      <a:lnTo>
                        <a:pt x="354" y="644"/>
                      </a:lnTo>
                      <a:lnTo>
                        <a:pt x="354" y="660"/>
                      </a:lnTo>
                      <a:lnTo>
                        <a:pt x="250" y="768"/>
                      </a:lnTo>
                      <a:lnTo>
                        <a:pt x="258" y="776"/>
                      </a:lnTo>
                      <a:lnTo>
                        <a:pt x="352" y="686"/>
                      </a:lnTo>
                      <a:lnTo>
                        <a:pt x="352" y="718"/>
                      </a:lnTo>
                      <a:lnTo>
                        <a:pt x="352" y="752"/>
                      </a:lnTo>
                      <a:lnTo>
                        <a:pt x="296" y="808"/>
                      </a:lnTo>
                      <a:lnTo>
                        <a:pt x="304" y="816"/>
                      </a:lnTo>
                      <a:lnTo>
                        <a:pt x="352" y="770"/>
                      </a:lnTo>
                      <a:lnTo>
                        <a:pt x="354" y="812"/>
                      </a:lnTo>
                      <a:lnTo>
                        <a:pt x="362" y="852"/>
                      </a:lnTo>
                      <a:lnTo>
                        <a:pt x="362" y="856"/>
                      </a:lnTo>
                      <a:lnTo>
                        <a:pt x="366" y="856"/>
                      </a:lnTo>
                      <a:lnTo>
                        <a:pt x="382" y="856"/>
                      </a:lnTo>
                      <a:lnTo>
                        <a:pt x="386" y="856"/>
                      </a:lnTo>
                      <a:lnTo>
                        <a:pt x="386" y="852"/>
                      </a:lnTo>
                      <a:lnTo>
                        <a:pt x="394" y="810"/>
                      </a:lnTo>
                      <a:lnTo>
                        <a:pt x="396" y="768"/>
                      </a:lnTo>
                      <a:lnTo>
                        <a:pt x="446" y="816"/>
                      </a:lnTo>
                      <a:lnTo>
                        <a:pt x="452" y="808"/>
                      </a:lnTo>
                      <a:lnTo>
                        <a:pt x="396" y="750"/>
                      </a:lnTo>
                      <a:lnTo>
                        <a:pt x="396" y="716"/>
                      </a:lnTo>
                      <a:lnTo>
                        <a:pt x="394" y="682"/>
                      </a:lnTo>
                      <a:lnTo>
                        <a:pt x="490" y="776"/>
                      </a:lnTo>
                      <a:lnTo>
                        <a:pt x="498" y="768"/>
                      </a:lnTo>
                      <a:lnTo>
                        <a:pt x="392" y="656"/>
                      </a:lnTo>
                      <a:lnTo>
                        <a:pt x="392" y="644"/>
                      </a:lnTo>
                      <a:lnTo>
                        <a:pt x="390" y="600"/>
                      </a:lnTo>
                      <a:lnTo>
                        <a:pt x="388" y="556"/>
                      </a:lnTo>
                      <a:lnTo>
                        <a:pt x="388" y="510"/>
                      </a:lnTo>
                      <a:lnTo>
                        <a:pt x="394" y="466"/>
                      </a:lnTo>
                      <a:lnTo>
                        <a:pt x="436" y="484"/>
                      </a:lnTo>
                      <a:lnTo>
                        <a:pt x="476" y="506"/>
                      </a:lnTo>
                      <a:lnTo>
                        <a:pt x="514" y="530"/>
                      </a:lnTo>
                      <a:lnTo>
                        <a:pt x="552" y="554"/>
                      </a:lnTo>
                      <a:lnTo>
                        <a:pt x="564" y="562"/>
                      </a:lnTo>
                      <a:lnTo>
                        <a:pt x="606" y="706"/>
                      </a:lnTo>
                      <a:lnTo>
                        <a:pt x="618" y="702"/>
                      </a:lnTo>
                      <a:lnTo>
                        <a:pt x="586" y="576"/>
                      </a:lnTo>
                      <a:lnTo>
                        <a:pt x="614" y="594"/>
                      </a:lnTo>
                      <a:lnTo>
                        <a:pt x="642" y="610"/>
                      </a:lnTo>
                      <a:lnTo>
                        <a:pt x="664" y="686"/>
                      </a:lnTo>
                      <a:lnTo>
                        <a:pt x="674" y="684"/>
                      </a:lnTo>
                      <a:lnTo>
                        <a:pt x="658" y="620"/>
                      </a:lnTo>
                      <a:lnTo>
                        <a:pt x="696" y="636"/>
                      </a:lnTo>
                      <a:lnTo>
                        <a:pt x="734" y="652"/>
                      </a:lnTo>
                      <a:lnTo>
                        <a:pt x="738" y="652"/>
                      </a:lnTo>
                      <a:lnTo>
                        <a:pt x="746" y="638"/>
                      </a:lnTo>
                      <a:lnTo>
                        <a:pt x="746" y="636"/>
                      </a:lnTo>
                      <a:lnTo>
                        <a:pt x="750" y="632"/>
                      </a:lnTo>
                      <a:lnTo>
                        <a:pt x="746" y="630"/>
                      </a:lnTo>
                      <a:lnTo>
                        <a:pt x="714" y="604"/>
                      </a:lnTo>
                      <a:lnTo>
                        <a:pt x="680" y="580"/>
                      </a:lnTo>
                      <a:close/>
                    </a:path>
                  </a:pathLst>
                </a:custGeom>
                <a:solidFill>
                  <a:srgbClr val="feffff">
                    <a:alpha val="76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" name="Group 56"/>
              <p:cNvGrpSpPr/>
              <p:nvPr/>
            </p:nvGrpSpPr>
            <p:grpSpPr>
              <a:xfrm>
                <a:off x="7472520" y="64080"/>
                <a:ext cx="1554480" cy="6001920"/>
                <a:chOff x="7472520" y="64080"/>
                <a:chExt cx="1554480" cy="6001920"/>
              </a:xfrm>
            </p:grpSpPr>
            <p:sp>
              <p:nvSpPr>
                <p:cNvPr id="120" name="Freeform 69"/>
                <p:cNvSpPr/>
                <p:nvPr/>
              </p:nvSpPr>
              <p:spPr>
                <a:xfrm rot="474000">
                  <a:off x="7995240" y="4843080"/>
                  <a:ext cx="956160" cy="1162800"/>
                </a:xfrm>
                <a:custGeom>
                  <a:avLst/>
                  <a:gdLst/>
                  <a:ahLst/>
                  <a:rect l="l" t="t" r="r" b="b"/>
                  <a:pathLst>
                    <a:path w="760" h="870">
                      <a:moveTo>
                        <a:pt x="756" y="580"/>
                      </a:moveTo>
                      <a:lnTo>
                        <a:pt x="752" y="564"/>
                      </a:lnTo>
                      <a:lnTo>
                        <a:pt x="658" y="586"/>
                      </a:lnTo>
                      <a:lnTo>
                        <a:pt x="634" y="572"/>
                      </a:lnTo>
                      <a:lnTo>
                        <a:pt x="734" y="542"/>
                      </a:lnTo>
                      <a:lnTo>
                        <a:pt x="728" y="526"/>
                      </a:lnTo>
                      <a:lnTo>
                        <a:pt x="606" y="556"/>
                      </a:lnTo>
                      <a:lnTo>
                        <a:pt x="490" y="486"/>
                      </a:lnTo>
                      <a:lnTo>
                        <a:pt x="560" y="466"/>
                      </a:lnTo>
                      <a:lnTo>
                        <a:pt x="552" y="442"/>
                      </a:lnTo>
                      <a:lnTo>
                        <a:pt x="490" y="456"/>
                      </a:lnTo>
                      <a:lnTo>
                        <a:pt x="502" y="436"/>
                      </a:lnTo>
                      <a:lnTo>
                        <a:pt x="490" y="414"/>
                      </a:lnTo>
                      <a:lnTo>
                        <a:pt x="552" y="430"/>
                      </a:lnTo>
                      <a:lnTo>
                        <a:pt x="560" y="406"/>
                      </a:lnTo>
                      <a:lnTo>
                        <a:pt x="496" y="388"/>
                      </a:lnTo>
                      <a:lnTo>
                        <a:pt x="610" y="318"/>
                      </a:lnTo>
                      <a:lnTo>
                        <a:pt x="728" y="346"/>
                      </a:lnTo>
                      <a:lnTo>
                        <a:pt x="734" y="328"/>
                      </a:lnTo>
                      <a:lnTo>
                        <a:pt x="638" y="302"/>
                      </a:lnTo>
                      <a:lnTo>
                        <a:pt x="662" y="286"/>
                      </a:lnTo>
                      <a:lnTo>
                        <a:pt x="752" y="308"/>
                      </a:lnTo>
                      <a:lnTo>
                        <a:pt x="756" y="292"/>
                      </a:lnTo>
                      <a:lnTo>
                        <a:pt x="688" y="272"/>
                      </a:lnTo>
                      <a:lnTo>
                        <a:pt x="760" y="228"/>
                      </a:lnTo>
                      <a:lnTo>
                        <a:pt x="752" y="214"/>
                      </a:lnTo>
                      <a:lnTo>
                        <a:pt x="674" y="256"/>
                      </a:lnTo>
                      <a:lnTo>
                        <a:pt x="694" y="182"/>
                      </a:lnTo>
                      <a:lnTo>
                        <a:pt x="676" y="176"/>
                      </a:lnTo>
                      <a:lnTo>
                        <a:pt x="648" y="270"/>
                      </a:lnTo>
                      <a:lnTo>
                        <a:pt x="624" y="284"/>
                      </a:lnTo>
                      <a:lnTo>
                        <a:pt x="650" y="184"/>
                      </a:lnTo>
                      <a:lnTo>
                        <a:pt x="632" y="178"/>
                      </a:lnTo>
                      <a:lnTo>
                        <a:pt x="596" y="300"/>
                      </a:lnTo>
                      <a:lnTo>
                        <a:pt x="478" y="364"/>
                      </a:lnTo>
                      <a:lnTo>
                        <a:pt x="496" y="296"/>
                      </a:lnTo>
                      <a:lnTo>
                        <a:pt x="470" y="288"/>
                      </a:lnTo>
                      <a:lnTo>
                        <a:pt x="452" y="354"/>
                      </a:lnTo>
                      <a:lnTo>
                        <a:pt x="442" y="336"/>
                      </a:lnTo>
                      <a:lnTo>
                        <a:pt x="414" y="336"/>
                      </a:lnTo>
                      <a:lnTo>
                        <a:pt x="462" y="286"/>
                      </a:lnTo>
                      <a:lnTo>
                        <a:pt x="444" y="266"/>
                      </a:lnTo>
                      <a:lnTo>
                        <a:pt x="396" y="312"/>
                      </a:lnTo>
                      <a:lnTo>
                        <a:pt x="392" y="176"/>
                      </a:lnTo>
                      <a:lnTo>
                        <a:pt x="476" y="90"/>
                      </a:lnTo>
                      <a:lnTo>
                        <a:pt x="464" y="76"/>
                      </a:lnTo>
                      <a:lnTo>
                        <a:pt x="392" y="146"/>
                      </a:lnTo>
                      <a:lnTo>
                        <a:pt x="392" y="116"/>
                      </a:lnTo>
                      <a:lnTo>
                        <a:pt x="456" y="50"/>
                      </a:lnTo>
                      <a:lnTo>
                        <a:pt x="444" y="38"/>
                      </a:lnTo>
                      <a:lnTo>
                        <a:pt x="392" y="86"/>
                      </a:lnTo>
                      <a:lnTo>
                        <a:pt x="390" y="0"/>
                      </a:lnTo>
                      <a:lnTo>
                        <a:pt x="374" y="0"/>
                      </a:lnTo>
                      <a:lnTo>
                        <a:pt x="372" y="90"/>
                      </a:lnTo>
                      <a:lnTo>
                        <a:pt x="316" y="36"/>
                      </a:lnTo>
                      <a:lnTo>
                        <a:pt x="304" y="50"/>
                      </a:lnTo>
                      <a:lnTo>
                        <a:pt x="372" y="120"/>
                      </a:lnTo>
                      <a:lnTo>
                        <a:pt x="370" y="148"/>
                      </a:lnTo>
                      <a:lnTo>
                        <a:pt x="296" y="76"/>
                      </a:lnTo>
                      <a:lnTo>
                        <a:pt x="282" y="90"/>
                      </a:lnTo>
                      <a:lnTo>
                        <a:pt x="370" y="180"/>
                      </a:lnTo>
                      <a:lnTo>
                        <a:pt x="368" y="316"/>
                      </a:lnTo>
                      <a:lnTo>
                        <a:pt x="316" y="266"/>
                      </a:lnTo>
                      <a:lnTo>
                        <a:pt x="298" y="286"/>
                      </a:lnTo>
                      <a:lnTo>
                        <a:pt x="344" y="336"/>
                      </a:lnTo>
                      <a:lnTo>
                        <a:pt x="322" y="336"/>
                      </a:lnTo>
                      <a:lnTo>
                        <a:pt x="308" y="358"/>
                      </a:lnTo>
                      <a:lnTo>
                        <a:pt x="288" y="290"/>
                      </a:lnTo>
                      <a:lnTo>
                        <a:pt x="264" y="296"/>
                      </a:lnTo>
                      <a:lnTo>
                        <a:pt x="280" y="360"/>
                      </a:lnTo>
                      <a:lnTo>
                        <a:pt x="162" y="294"/>
                      </a:lnTo>
                      <a:lnTo>
                        <a:pt x="128" y="178"/>
                      </a:lnTo>
                      <a:lnTo>
                        <a:pt x="110" y="184"/>
                      </a:lnTo>
                      <a:lnTo>
                        <a:pt x="134" y="280"/>
                      </a:lnTo>
                      <a:lnTo>
                        <a:pt x="110" y="266"/>
                      </a:lnTo>
                      <a:lnTo>
                        <a:pt x="84" y="176"/>
                      </a:lnTo>
                      <a:lnTo>
                        <a:pt x="66" y="182"/>
                      </a:lnTo>
                      <a:lnTo>
                        <a:pt x="84" y="252"/>
                      </a:lnTo>
                      <a:lnTo>
                        <a:pt x="10" y="210"/>
                      </a:lnTo>
                      <a:lnTo>
                        <a:pt x="2" y="224"/>
                      </a:lnTo>
                      <a:lnTo>
                        <a:pt x="76" y="270"/>
                      </a:lnTo>
                      <a:lnTo>
                        <a:pt x="2" y="292"/>
                      </a:lnTo>
                      <a:lnTo>
                        <a:pt x="8" y="308"/>
                      </a:lnTo>
                      <a:lnTo>
                        <a:pt x="102" y="286"/>
                      </a:lnTo>
                      <a:lnTo>
                        <a:pt x="126" y="300"/>
                      </a:lnTo>
                      <a:lnTo>
                        <a:pt x="26" y="328"/>
                      </a:lnTo>
                      <a:lnTo>
                        <a:pt x="30" y="346"/>
                      </a:lnTo>
                      <a:lnTo>
                        <a:pt x="154" y="316"/>
                      </a:lnTo>
                      <a:lnTo>
                        <a:pt x="270" y="386"/>
                      </a:lnTo>
                      <a:lnTo>
                        <a:pt x="200" y="406"/>
                      </a:lnTo>
                      <a:lnTo>
                        <a:pt x="206" y="430"/>
                      </a:lnTo>
                      <a:lnTo>
                        <a:pt x="276" y="414"/>
                      </a:lnTo>
                      <a:lnTo>
                        <a:pt x="262" y="436"/>
                      </a:lnTo>
                      <a:lnTo>
                        <a:pt x="276" y="458"/>
                      </a:lnTo>
                      <a:lnTo>
                        <a:pt x="206" y="442"/>
                      </a:lnTo>
                      <a:lnTo>
                        <a:pt x="200" y="466"/>
                      </a:lnTo>
                      <a:lnTo>
                        <a:pt x="264" y="484"/>
                      </a:lnTo>
                      <a:lnTo>
                        <a:pt x="148" y="554"/>
                      </a:lnTo>
                      <a:lnTo>
                        <a:pt x="30" y="526"/>
                      </a:lnTo>
                      <a:lnTo>
                        <a:pt x="26" y="542"/>
                      </a:lnTo>
                      <a:lnTo>
                        <a:pt x="122" y="570"/>
                      </a:lnTo>
                      <a:lnTo>
                        <a:pt x="98" y="586"/>
                      </a:lnTo>
                      <a:lnTo>
                        <a:pt x="8" y="562"/>
                      </a:lnTo>
                      <a:lnTo>
                        <a:pt x="2" y="580"/>
                      </a:lnTo>
                      <a:lnTo>
                        <a:pt x="72" y="600"/>
                      </a:lnTo>
                      <a:lnTo>
                        <a:pt x="0" y="644"/>
                      </a:lnTo>
                      <a:lnTo>
                        <a:pt x="8" y="658"/>
                      </a:lnTo>
                      <a:lnTo>
                        <a:pt x="84" y="616"/>
                      </a:lnTo>
                      <a:lnTo>
                        <a:pt x="66" y="690"/>
                      </a:lnTo>
                      <a:lnTo>
                        <a:pt x="84" y="694"/>
                      </a:lnTo>
                      <a:lnTo>
                        <a:pt x="110" y="602"/>
                      </a:lnTo>
                      <a:lnTo>
                        <a:pt x="136" y="588"/>
                      </a:lnTo>
                      <a:lnTo>
                        <a:pt x="110" y="688"/>
                      </a:lnTo>
                      <a:lnTo>
                        <a:pt x="128" y="694"/>
                      </a:lnTo>
                      <a:lnTo>
                        <a:pt x="164" y="572"/>
                      </a:lnTo>
                      <a:lnTo>
                        <a:pt x="282" y="506"/>
                      </a:lnTo>
                      <a:lnTo>
                        <a:pt x="264" y="576"/>
                      </a:lnTo>
                      <a:lnTo>
                        <a:pt x="288" y="582"/>
                      </a:lnTo>
                      <a:lnTo>
                        <a:pt x="308" y="514"/>
                      </a:lnTo>
                      <a:lnTo>
                        <a:pt x="322" y="536"/>
                      </a:lnTo>
                      <a:lnTo>
                        <a:pt x="344" y="536"/>
                      </a:lnTo>
                      <a:lnTo>
                        <a:pt x="298" y="586"/>
                      </a:lnTo>
                      <a:lnTo>
                        <a:pt x="316" y="606"/>
                      </a:lnTo>
                      <a:lnTo>
                        <a:pt x="364" y="560"/>
                      </a:lnTo>
                      <a:lnTo>
                        <a:pt x="366" y="694"/>
                      </a:lnTo>
                      <a:lnTo>
                        <a:pt x="282" y="782"/>
                      </a:lnTo>
                      <a:lnTo>
                        <a:pt x="296" y="796"/>
                      </a:lnTo>
                      <a:lnTo>
                        <a:pt x="368" y="726"/>
                      </a:lnTo>
                      <a:lnTo>
                        <a:pt x="368" y="754"/>
                      </a:lnTo>
                      <a:lnTo>
                        <a:pt x="304" y="822"/>
                      </a:lnTo>
                      <a:lnTo>
                        <a:pt x="316" y="834"/>
                      </a:lnTo>
                      <a:lnTo>
                        <a:pt x="368" y="784"/>
                      </a:lnTo>
                      <a:lnTo>
                        <a:pt x="370" y="870"/>
                      </a:lnTo>
                      <a:lnTo>
                        <a:pt x="386" y="870"/>
                      </a:lnTo>
                      <a:lnTo>
                        <a:pt x="388" y="780"/>
                      </a:lnTo>
                      <a:lnTo>
                        <a:pt x="444" y="834"/>
                      </a:lnTo>
                      <a:lnTo>
                        <a:pt x="456" y="822"/>
                      </a:lnTo>
                      <a:lnTo>
                        <a:pt x="388" y="752"/>
                      </a:lnTo>
                      <a:lnTo>
                        <a:pt x="388" y="724"/>
                      </a:lnTo>
                      <a:lnTo>
                        <a:pt x="464" y="796"/>
                      </a:lnTo>
                      <a:lnTo>
                        <a:pt x="476" y="782"/>
                      </a:lnTo>
                      <a:lnTo>
                        <a:pt x="390" y="692"/>
                      </a:lnTo>
                      <a:lnTo>
                        <a:pt x="392" y="556"/>
                      </a:lnTo>
                      <a:lnTo>
                        <a:pt x="444" y="606"/>
                      </a:lnTo>
                      <a:lnTo>
                        <a:pt x="462" y="586"/>
                      </a:lnTo>
                      <a:lnTo>
                        <a:pt x="414" y="536"/>
                      </a:lnTo>
                      <a:lnTo>
                        <a:pt x="442" y="536"/>
                      </a:lnTo>
                      <a:lnTo>
                        <a:pt x="452" y="518"/>
                      </a:lnTo>
                      <a:lnTo>
                        <a:pt x="470" y="582"/>
                      </a:lnTo>
                      <a:lnTo>
                        <a:pt x="496" y="576"/>
                      </a:lnTo>
                      <a:lnTo>
                        <a:pt x="480" y="512"/>
                      </a:lnTo>
                      <a:lnTo>
                        <a:pt x="598" y="576"/>
                      </a:lnTo>
                      <a:lnTo>
                        <a:pt x="632" y="694"/>
                      </a:lnTo>
                      <a:lnTo>
                        <a:pt x="650" y="688"/>
                      </a:lnTo>
                      <a:lnTo>
                        <a:pt x="626" y="592"/>
                      </a:lnTo>
                      <a:lnTo>
                        <a:pt x="650" y="606"/>
                      </a:lnTo>
                      <a:lnTo>
                        <a:pt x="676" y="694"/>
                      </a:lnTo>
                      <a:lnTo>
                        <a:pt x="694" y="690"/>
                      </a:lnTo>
                      <a:lnTo>
                        <a:pt x="676" y="620"/>
                      </a:lnTo>
                      <a:lnTo>
                        <a:pt x="750" y="660"/>
                      </a:lnTo>
                      <a:lnTo>
                        <a:pt x="758" y="648"/>
                      </a:lnTo>
                      <a:lnTo>
                        <a:pt x="682" y="602"/>
                      </a:lnTo>
                      <a:lnTo>
                        <a:pt x="756" y="580"/>
                      </a:lnTo>
                      <a:close/>
                      <a:moveTo>
                        <a:pt x="418" y="496"/>
                      </a:moveTo>
                      <a:lnTo>
                        <a:pt x="346" y="496"/>
                      </a:lnTo>
                      <a:lnTo>
                        <a:pt x="308" y="436"/>
                      </a:lnTo>
                      <a:lnTo>
                        <a:pt x="346" y="376"/>
                      </a:lnTo>
                      <a:lnTo>
                        <a:pt x="418" y="376"/>
                      </a:lnTo>
                      <a:lnTo>
                        <a:pt x="456" y="436"/>
                      </a:lnTo>
                      <a:lnTo>
                        <a:pt x="418" y="496"/>
                      </a:lnTo>
                      <a:close/>
                    </a:path>
                  </a:pathLst>
                </a:custGeom>
                <a:solidFill>
                  <a:srgbClr val="feffff">
                    <a:alpha val="76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73"/>
                <p:cNvSpPr/>
                <p:nvPr/>
              </p:nvSpPr>
              <p:spPr>
                <a:xfrm rot="20414400">
                  <a:off x="7589880" y="153000"/>
                  <a:ext cx="669240" cy="811800"/>
                </a:xfrm>
                <a:custGeom>
                  <a:avLst/>
                  <a:gdLst/>
                  <a:ahLst/>
                  <a:rect l="l" t="t" r="r" b="b"/>
                  <a:pathLst>
                    <a:path w="820" h="936">
                      <a:moveTo>
                        <a:pt x="812" y="620"/>
                      </a:moveTo>
                      <a:lnTo>
                        <a:pt x="810" y="610"/>
                      </a:lnTo>
                      <a:lnTo>
                        <a:pt x="716" y="634"/>
                      </a:lnTo>
                      <a:lnTo>
                        <a:pt x="678" y="610"/>
                      </a:lnTo>
                      <a:lnTo>
                        <a:pt x="788" y="580"/>
                      </a:lnTo>
                      <a:lnTo>
                        <a:pt x="784" y="570"/>
                      </a:lnTo>
                      <a:lnTo>
                        <a:pt x="660" y="600"/>
                      </a:lnTo>
                      <a:lnTo>
                        <a:pt x="656" y="598"/>
                      </a:lnTo>
                      <a:lnTo>
                        <a:pt x="562" y="524"/>
                      </a:lnTo>
                      <a:lnTo>
                        <a:pt x="556" y="536"/>
                      </a:lnTo>
                      <a:lnTo>
                        <a:pt x="514" y="512"/>
                      </a:lnTo>
                      <a:lnTo>
                        <a:pt x="520" y="490"/>
                      </a:lnTo>
                      <a:lnTo>
                        <a:pt x="522" y="478"/>
                      </a:lnTo>
                      <a:lnTo>
                        <a:pt x="522" y="468"/>
                      </a:lnTo>
                      <a:lnTo>
                        <a:pt x="520" y="446"/>
                      </a:lnTo>
                      <a:lnTo>
                        <a:pt x="516" y="426"/>
                      </a:lnTo>
                      <a:lnTo>
                        <a:pt x="558" y="402"/>
                      </a:lnTo>
                      <a:lnTo>
                        <a:pt x="564" y="414"/>
                      </a:lnTo>
                      <a:lnTo>
                        <a:pt x="666" y="336"/>
                      </a:lnTo>
                      <a:lnTo>
                        <a:pt x="784" y="364"/>
                      </a:lnTo>
                      <a:lnTo>
                        <a:pt x="788" y="354"/>
                      </a:lnTo>
                      <a:lnTo>
                        <a:pt x="684" y="324"/>
                      </a:lnTo>
                      <a:lnTo>
                        <a:pt x="720" y="302"/>
                      </a:lnTo>
                      <a:lnTo>
                        <a:pt x="810" y="324"/>
                      </a:lnTo>
                      <a:lnTo>
                        <a:pt x="812" y="314"/>
                      </a:lnTo>
                      <a:lnTo>
                        <a:pt x="736" y="292"/>
                      </a:lnTo>
                      <a:lnTo>
                        <a:pt x="820" y="242"/>
                      </a:lnTo>
                      <a:lnTo>
                        <a:pt x="812" y="228"/>
                      </a:lnTo>
                      <a:lnTo>
                        <a:pt x="724" y="276"/>
                      </a:lnTo>
                      <a:lnTo>
                        <a:pt x="744" y="196"/>
                      </a:lnTo>
                      <a:lnTo>
                        <a:pt x="734" y="192"/>
                      </a:lnTo>
                      <a:lnTo>
                        <a:pt x="706" y="286"/>
                      </a:lnTo>
                      <a:lnTo>
                        <a:pt x="670" y="306"/>
                      </a:lnTo>
                      <a:lnTo>
                        <a:pt x="696" y="198"/>
                      </a:lnTo>
                      <a:lnTo>
                        <a:pt x="686" y="194"/>
                      </a:lnTo>
                      <a:lnTo>
                        <a:pt x="650" y="318"/>
                      </a:lnTo>
                      <a:lnTo>
                        <a:pt x="646" y="320"/>
                      </a:lnTo>
                      <a:lnTo>
                        <a:pt x="536" y="364"/>
                      </a:lnTo>
                      <a:lnTo>
                        <a:pt x="542" y="376"/>
                      </a:lnTo>
                      <a:lnTo>
                        <a:pt x="500" y="400"/>
                      </a:lnTo>
                      <a:lnTo>
                        <a:pt x="486" y="384"/>
                      </a:lnTo>
                      <a:lnTo>
                        <a:pt x="468" y="372"/>
                      </a:lnTo>
                      <a:lnTo>
                        <a:pt x="450" y="362"/>
                      </a:lnTo>
                      <a:lnTo>
                        <a:pt x="438" y="358"/>
                      </a:lnTo>
                      <a:lnTo>
                        <a:pt x="428" y="356"/>
                      </a:lnTo>
                      <a:lnTo>
                        <a:pt x="426" y="304"/>
                      </a:lnTo>
                      <a:lnTo>
                        <a:pt x="442" y="304"/>
                      </a:lnTo>
                      <a:lnTo>
                        <a:pt x="424" y="178"/>
                      </a:lnTo>
                      <a:lnTo>
                        <a:pt x="508" y="92"/>
                      </a:lnTo>
                      <a:lnTo>
                        <a:pt x="502" y="84"/>
                      </a:lnTo>
                      <a:lnTo>
                        <a:pt x="424" y="158"/>
                      </a:lnTo>
                      <a:lnTo>
                        <a:pt x="422" y="116"/>
                      </a:lnTo>
                      <a:lnTo>
                        <a:pt x="486" y="50"/>
                      </a:lnTo>
                      <a:lnTo>
                        <a:pt x="478" y="42"/>
                      </a:lnTo>
                      <a:lnTo>
                        <a:pt x="422" y="98"/>
                      </a:lnTo>
                      <a:lnTo>
                        <a:pt x="420" y="0"/>
                      </a:lnTo>
                      <a:lnTo>
                        <a:pt x="404" y="0"/>
                      </a:lnTo>
                      <a:lnTo>
                        <a:pt x="402" y="102"/>
                      </a:lnTo>
                      <a:lnTo>
                        <a:pt x="342" y="42"/>
                      </a:lnTo>
                      <a:lnTo>
                        <a:pt x="334" y="50"/>
                      </a:lnTo>
                      <a:lnTo>
                        <a:pt x="402" y="120"/>
                      </a:lnTo>
                      <a:lnTo>
                        <a:pt x="400" y="162"/>
                      </a:lnTo>
                      <a:lnTo>
                        <a:pt x="320" y="84"/>
                      </a:lnTo>
                      <a:lnTo>
                        <a:pt x="312" y="92"/>
                      </a:lnTo>
                      <a:lnTo>
                        <a:pt x="400" y="184"/>
                      </a:lnTo>
                      <a:lnTo>
                        <a:pt x="400" y="188"/>
                      </a:lnTo>
                      <a:lnTo>
                        <a:pt x="384" y="304"/>
                      </a:lnTo>
                      <a:lnTo>
                        <a:pt x="398" y="304"/>
                      </a:lnTo>
                      <a:lnTo>
                        <a:pt x="398" y="356"/>
                      </a:lnTo>
                      <a:lnTo>
                        <a:pt x="376" y="362"/>
                      </a:lnTo>
                      <a:lnTo>
                        <a:pt x="358" y="370"/>
                      </a:lnTo>
                      <a:lnTo>
                        <a:pt x="340" y="382"/>
                      </a:lnTo>
                      <a:lnTo>
                        <a:pt x="326" y="398"/>
                      </a:lnTo>
                      <a:lnTo>
                        <a:pt x="280" y="372"/>
                      </a:lnTo>
                      <a:lnTo>
                        <a:pt x="286" y="360"/>
                      </a:lnTo>
                      <a:lnTo>
                        <a:pt x="168" y="312"/>
                      </a:lnTo>
                      <a:lnTo>
                        <a:pt x="134" y="194"/>
                      </a:lnTo>
                      <a:lnTo>
                        <a:pt x="124" y="198"/>
                      </a:lnTo>
                      <a:lnTo>
                        <a:pt x="150" y="302"/>
                      </a:lnTo>
                      <a:lnTo>
                        <a:pt x="112" y="280"/>
                      </a:lnTo>
                      <a:lnTo>
                        <a:pt x="86" y="192"/>
                      </a:lnTo>
                      <a:lnTo>
                        <a:pt x="76" y="196"/>
                      </a:lnTo>
                      <a:lnTo>
                        <a:pt x="96" y="272"/>
                      </a:lnTo>
                      <a:lnTo>
                        <a:pt x="10" y="224"/>
                      </a:lnTo>
                      <a:lnTo>
                        <a:pt x="2" y="238"/>
                      </a:lnTo>
                      <a:lnTo>
                        <a:pt x="88" y="292"/>
                      </a:lnTo>
                      <a:lnTo>
                        <a:pt x="8" y="314"/>
                      </a:lnTo>
                      <a:lnTo>
                        <a:pt x="10" y="324"/>
                      </a:lnTo>
                      <a:lnTo>
                        <a:pt x="104" y="300"/>
                      </a:lnTo>
                      <a:lnTo>
                        <a:pt x="142" y="324"/>
                      </a:lnTo>
                      <a:lnTo>
                        <a:pt x="34" y="354"/>
                      </a:lnTo>
                      <a:lnTo>
                        <a:pt x="36" y="364"/>
                      </a:lnTo>
                      <a:lnTo>
                        <a:pt x="160" y="334"/>
                      </a:lnTo>
                      <a:lnTo>
                        <a:pt x="164" y="336"/>
                      </a:lnTo>
                      <a:lnTo>
                        <a:pt x="258" y="410"/>
                      </a:lnTo>
                      <a:lnTo>
                        <a:pt x="266" y="398"/>
                      </a:lnTo>
                      <a:lnTo>
                        <a:pt x="310" y="424"/>
                      </a:lnTo>
                      <a:lnTo>
                        <a:pt x="304" y="446"/>
                      </a:lnTo>
                      <a:lnTo>
                        <a:pt x="302" y="468"/>
                      </a:lnTo>
                      <a:lnTo>
                        <a:pt x="304" y="486"/>
                      </a:lnTo>
                      <a:lnTo>
                        <a:pt x="310" y="506"/>
                      </a:lnTo>
                      <a:lnTo>
                        <a:pt x="264" y="532"/>
                      </a:lnTo>
                      <a:lnTo>
                        <a:pt x="256" y="520"/>
                      </a:lnTo>
                      <a:lnTo>
                        <a:pt x="154" y="598"/>
                      </a:lnTo>
                      <a:lnTo>
                        <a:pt x="36" y="570"/>
                      </a:lnTo>
                      <a:lnTo>
                        <a:pt x="34" y="580"/>
                      </a:lnTo>
                      <a:lnTo>
                        <a:pt x="136" y="610"/>
                      </a:lnTo>
                      <a:lnTo>
                        <a:pt x="100" y="632"/>
                      </a:lnTo>
                      <a:lnTo>
                        <a:pt x="10" y="610"/>
                      </a:lnTo>
                      <a:lnTo>
                        <a:pt x="8" y="620"/>
                      </a:lnTo>
                      <a:lnTo>
                        <a:pt x="84" y="642"/>
                      </a:lnTo>
                      <a:lnTo>
                        <a:pt x="0" y="692"/>
                      </a:lnTo>
                      <a:lnTo>
                        <a:pt x="8" y="708"/>
                      </a:lnTo>
                      <a:lnTo>
                        <a:pt x="96" y="658"/>
                      </a:lnTo>
                      <a:lnTo>
                        <a:pt x="76" y="738"/>
                      </a:lnTo>
                      <a:lnTo>
                        <a:pt x="86" y="742"/>
                      </a:lnTo>
                      <a:lnTo>
                        <a:pt x="114" y="648"/>
                      </a:lnTo>
                      <a:lnTo>
                        <a:pt x="152" y="628"/>
                      </a:lnTo>
                      <a:lnTo>
                        <a:pt x="124" y="738"/>
                      </a:lnTo>
                      <a:lnTo>
                        <a:pt x="134" y="740"/>
                      </a:lnTo>
                      <a:lnTo>
                        <a:pt x="170" y="618"/>
                      </a:lnTo>
                      <a:lnTo>
                        <a:pt x="174" y="616"/>
                      </a:lnTo>
                      <a:lnTo>
                        <a:pt x="284" y="570"/>
                      </a:lnTo>
                      <a:lnTo>
                        <a:pt x="278" y="558"/>
                      </a:lnTo>
                      <a:lnTo>
                        <a:pt x="324" y="532"/>
                      </a:lnTo>
                      <a:lnTo>
                        <a:pt x="338" y="548"/>
                      </a:lnTo>
                      <a:lnTo>
                        <a:pt x="354" y="560"/>
                      </a:lnTo>
                      <a:lnTo>
                        <a:pt x="372" y="568"/>
                      </a:lnTo>
                      <a:lnTo>
                        <a:pt x="392" y="574"/>
                      </a:lnTo>
                      <a:lnTo>
                        <a:pt x="394" y="624"/>
                      </a:lnTo>
                      <a:lnTo>
                        <a:pt x="380" y="624"/>
                      </a:lnTo>
                      <a:lnTo>
                        <a:pt x="396" y="752"/>
                      </a:lnTo>
                      <a:lnTo>
                        <a:pt x="312" y="842"/>
                      </a:lnTo>
                      <a:lnTo>
                        <a:pt x="320" y="850"/>
                      </a:lnTo>
                      <a:lnTo>
                        <a:pt x="396" y="774"/>
                      </a:lnTo>
                      <a:lnTo>
                        <a:pt x="398" y="818"/>
                      </a:lnTo>
                      <a:lnTo>
                        <a:pt x="334" y="884"/>
                      </a:lnTo>
                      <a:lnTo>
                        <a:pt x="342" y="892"/>
                      </a:lnTo>
                      <a:lnTo>
                        <a:pt x="398" y="838"/>
                      </a:lnTo>
                      <a:lnTo>
                        <a:pt x="400" y="936"/>
                      </a:lnTo>
                      <a:lnTo>
                        <a:pt x="416" y="936"/>
                      </a:lnTo>
                      <a:lnTo>
                        <a:pt x="418" y="834"/>
                      </a:lnTo>
                      <a:lnTo>
                        <a:pt x="478" y="892"/>
                      </a:lnTo>
                      <a:lnTo>
                        <a:pt x="486" y="884"/>
                      </a:lnTo>
                      <a:lnTo>
                        <a:pt x="420" y="814"/>
                      </a:lnTo>
                      <a:lnTo>
                        <a:pt x="420" y="772"/>
                      </a:lnTo>
                      <a:lnTo>
                        <a:pt x="502" y="850"/>
                      </a:lnTo>
                      <a:lnTo>
                        <a:pt x="508" y="842"/>
                      </a:lnTo>
                      <a:lnTo>
                        <a:pt x="420" y="750"/>
                      </a:lnTo>
                      <a:lnTo>
                        <a:pt x="420" y="744"/>
                      </a:lnTo>
                      <a:lnTo>
                        <a:pt x="436" y="624"/>
                      </a:lnTo>
                      <a:lnTo>
                        <a:pt x="422" y="624"/>
                      </a:lnTo>
                      <a:lnTo>
                        <a:pt x="424" y="576"/>
                      </a:lnTo>
                      <a:lnTo>
                        <a:pt x="444" y="570"/>
                      </a:lnTo>
                      <a:lnTo>
                        <a:pt x="464" y="564"/>
                      </a:lnTo>
                      <a:lnTo>
                        <a:pt x="482" y="552"/>
                      </a:lnTo>
                      <a:lnTo>
                        <a:pt x="498" y="536"/>
                      </a:lnTo>
                      <a:lnTo>
                        <a:pt x="540" y="562"/>
                      </a:lnTo>
                      <a:lnTo>
                        <a:pt x="534" y="574"/>
                      </a:lnTo>
                      <a:lnTo>
                        <a:pt x="652" y="622"/>
                      </a:lnTo>
                      <a:lnTo>
                        <a:pt x="686" y="740"/>
                      </a:lnTo>
                      <a:lnTo>
                        <a:pt x="696" y="738"/>
                      </a:lnTo>
                      <a:lnTo>
                        <a:pt x="670" y="632"/>
                      </a:lnTo>
                      <a:lnTo>
                        <a:pt x="708" y="654"/>
                      </a:lnTo>
                      <a:lnTo>
                        <a:pt x="734" y="742"/>
                      </a:lnTo>
                      <a:lnTo>
                        <a:pt x="744" y="738"/>
                      </a:lnTo>
                      <a:lnTo>
                        <a:pt x="724" y="662"/>
                      </a:lnTo>
                      <a:lnTo>
                        <a:pt x="812" y="710"/>
                      </a:lnTo>
                      <a:lnTo>
                        <a:pt x="820" y="696"/>
                      </a:lnTo>
                      <a:lnTo>
                        <a:pt x="732" y="644"/>
                      </a:lnTo>
                      <a:lnTo>
                        <a:pt x="812" y="620"/>
                      </a:lnTo>
                      <a:close/>
                      <a:moveTo>
                        <a:pt x="412" y="546"/>
                      </a:moveTo>
                      <a:lnTo>
                        <a:pt x="412" y="546"/>
                      </a:lnTo>
                      <a:lnTo>
                        <a:pt x="396" y="544"/>
                      </a:lnTo>
                      <a:lnTo>
                        <a:pt x="382" y="540"/>
                      </a:lnTo>
                      <a:lnTo>
                        <a:pt x="368" y="532"/>
                      </a:lnTo>
                      <a:lnTo>
                        <a:pt x="358" y="522"/>
                      </a:lnTo>
                      <a:lnTo>
                        <a:pt x="348" y="510"/>
                      </a:lnTo>
                      <a:lnTo>
                        <a:pt x="340" y="498"/>
                      </a:lnTo>
                      <a:lnTo>
                        <a:pt x="336" y="482"/>
                      </a:lnTo>
                      <a:lnTo>
                        <a:pt x="334" y="468"/>
                      </a:lnTo>
                      <a:lnTo>
                        <a:pt x="336" y="452"/>
                      </a:lnTo>
                      <a:lnTo>
                        <a:pt x="340" y="436"/>
                      </a:lnTo>
                      <a:lnTo>
                        <a:pt x="348" y="424"/>
                      </a:lnTo>
                      <a:lnTo>
                        <a:pt x="358" y="412"/>
                      </a:lnTo>
                      <a:lnTo>
                        <a:pt x="368" y="402"/>
                      </a:lnTo>
                      <a:lnTo>
                        <a:pt x="382" y="394"/>
                      </a:lnTo>
                      <a:lnTo>
                        <a:pt x="396" y="390"/>
                      </a:lnTo>
                      <a:lnTo>
                        <a:pt x="412" y="388"/>
                      </a:lnTo>
                      <a:lnTo>
                        <a:pt x="428" y="390"/>
                      </a:lnTo>
                      <a:lnTo>
                        <a:pt x="442" y="394"/>
                      </a:lnTo>
                      <a:lnTo>
                        <a:pt x="456" y="402"/>
                      </a:lnTo>
                      <a:lnTo>
                        <a:pt x="468" y="412"/>
                      </a:lnTo>
                      <a:lnTo>
                        <a:pt x="478" y="424"/>
                      </a:lnTo>
                      <a:lnTo>
                        <a:pt x="484" y="436"/>
                      </a:lnTo>
                      <a:lnTo>
                        <a:pt x="490" y="452"/>
                      </a:lnTo>
                      <a:lnTo>
                        <a:pt x="490" y="468"/>
                      </a:lnTo>
                      <a:lnTo>
                        <a:pt x="490" y="482"/>
                      </a:lnTo>
                      <a:lnTo>
                        <a:pt x="484" y="498"/>
                      </a:lnTo>
                      <a:lnTo>
                        <a:pt x="478" y="510"/>
                      </a:lnTo>
                      <a:lnTo>
                        <a:pt x="468" y="522"/>
                      </a:lnTo>
                      <a:lnTo>
                        <a:pt x="456" y="532"/>
                      </a:lnTo>
                      <a:lnTo>
                        <a:pt x="442" y="540"/>
                      </a:lnTo>
                      <a:lnTo>
                        <a:pt x="428" y="544"/>
                      </a:lnTo>
                      <a:lnTo>
                        <a:pt x="412" y="546"/>
                      </a:lnTo>
                      <a:close/>
                    </a:path>
                  </a:pathLst>
                </a:custGeom>
                <a:solidFill>
                  <a:srgbClr val="feffff">
                    <a:alpha val="76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Freeform 77"/>
                <p:cNvSpPr/>
                <p:nvPr/>
              </p:nvSpPr>
              <p:spPr>
                <a:xfrm rot="20957400">
                  <a:off x="7871760" y="3769200"/>
                  <a:ext cx="592200" cy="717480"/>
                </a:xfrm>
                <a:custGeom>
                  <a:avLst/>
                  <a:gdLst/>
                  <a:ahLst/>
                  <a:rect l="l" t="t" r="r" b="b"/>
                  <a:pathLst>
                    <a:path w="826" h="942">
                      <a:moveTo>
                        <a:pt x="818" y="628"/>
                      </a:moveTo>
                      <a:lnTo>
                        <a:pt x="814" y="610"/>
                      </a:lnTo>
                      <a:lnTo>
                        <a:pt x="718" y="634"/>
                      </a:lnTo>
                      <a:lnTo>
                        <a:pt x="690" y="616"/>
                      </a:lnTo>
                      <a:lnTo>
                        <a:pt x="792" y="588"/>
                      </a:lnTo>
                      <a:lnTo>
                        <a:pt x="788" y="570"/>
                      </a:lnTo>
                      <a:lnTo>
                        <a:pt x="662" y="600"/>
                      </a:lnTo>
                      <a:lnTo>
                        <a:pt x="518" y="514"/>
                      </a:lnTo>
                      <a:lnTo>
                        <a:pt x="542" y="472"/>
                      </a:lnTo>
                      <a:lnTo>
                        <a:pt x="520" y="436"/>
                      </a:lnTo>
                      <a:lnTo>
                        <a:pt x="668" y="346"/>
                      </a:lnTo>
                      <a:lnTo>
                        <a:pt x="788" y="376"/>
                      </a:lnTo>
                      <a:lnTo>
                        <a:pt x="792" y="358"/>
                      </a:lnTo>
                      <a:lnTo>
                        <a:pt x="694" y="330"/>
                      </a:lnTo>
                      <a:lnTo>
                        <a:pt x="722" y="314"/>
                      </a:lnTo>
                      <a:lnTo>
                        <a:pt x="814" y="336"/>
                      </a:lnTo>
                      <a:lnTo>
                        <a:pt x="818" y="318"/>
                      </a:lnTo>
                      <a:lnTo>
                        <a:pt x="748" y="298"/>
                      </a:lnTo>
                      <a:lnTo>
                        <a:pt x="826" y="250"/>
                      </a:lnTo>
                      <a:lnTo>
                        <a:pt x="814" y="228"/>
                      </a:lnTo>
                      <a:lnTo>
                        <a:pt x="730" y="276"/>
                      </a:lnTo>
                      <a:lnTo>
                        <a:pt x="750" y="200"/>
                      </a:lnTo>
                      <a:lnTo>
                        <a:pt x="732" y="196"/>
                      </a:lnTo>
                      <a:lnTo>
                        <a:pt x="704" y="290"/>
                      </a:lnTo>
                      <a:lnTo>
                        <a:pt x="676" y="306"/>
                      </a:lnTo>
                      <a:lnTo>
                        <a:pt x="702" y="202"/>
                      </a:lnTo>
                      <a:lnTo>
                        <a:pt x="684" y="196"/>
                      </a:lnTo>
                      <a:lnTo>
                        <a:pt x="648" y="320"/>
                      </a:lnTo>
                      <a:lnTo>
                        <a:pt x="502" y="400"/>
                      </a:lnTo>
                      <a:lnTo>
                        <a:pt x="478" y="360"/>
                      </a:lnTo>
                      <a:lnTo>
                        <a:pt x="434" y="360"/>
                      </a:lnTo>
                      <a:lnTo>
                        <a:pt x="432" y="188"/>
                      </a:lnTo>
                      <a:lnTo>
                        <a:pt x="516" y="100"/>
                      </a:lnTo>
                      <a:lnTo>
                        <a:pt x="504" y="86"/>
                      </a:lnTo>
                      <a:lnTo>
                        <a:pt x="430" y="158"/>
                      </a:lnTo>
                      <a:lnTo>
                        <a:pt x="430" y="124"/>
                      </a:lnTo>
                      <a:lnTo>
                        <a:pt x="494" y="58"/>
                      </a:lnTo>
                      <a:lnTo>
                        <a:pt x="482" y="46"/>
                      </a:lnTo>
                      <a:lnTo>
                        <a:pt x="430" y="94"/>
                      </a:lnTo>
                      <a:lnTo>
                        <a:pt x="428" y="0"/>
                      </a:lnTo>
                      <a:lnTo>
                        <a:pt x="402" y="0"/>
                      </a:lnTo>
                      <a:lnTo>
                        <a:pt x="402" y="98"/>
                      </a:lnTo>
                      <a:lnTo>
                        <a:pt x="346" y="44"/>
                      </a:lnTo>
                      <a:lnTo>
                        <a:pt x="332" y="58"/>
                      </a:lnTo>
                      <a:lnTo>
                        <a:pt x="400" y="128"/>
                      </a:lnTo>
                      <a:lnTo>
                        <a:pt x="400" y="160"/>
                      </a:lnTo>
                      <a:lnTo>
                        <a:pt x="324" y="86"/>
                      </a:lnTo>
                      <a:lnTo>
                        <a:pt x="310" y="100"/>
                      </a:lnTo>
                      <a:lnTo>
                        <a:pt x="400" y="192"/>
                      </a:lnTo>
                      <a:lnTo>
                        <a:pt x="396" y="360"/>
                      </a:lnTo>
                      <a:lnTo>
                        <a:pt x="352" y="360"/>
                      </a:lnTo>
                      <a:lnTo>
                        <a:pt x="332" y="398"/>
                      </a:lnTo>
                      <a:lnTo>
                        <a:pt x="178" y="314"/>
                      </a:lnTo>
                      <a:lnTo>
                        <a:pt x="142" y="196"/>
                      </a:lnTo>
                      <a:lnTo>
                        <a:pt x="124" y="202"/>
                      </a:lnTo>
                      <a:lnTo>
                        <a:pt x="150" y="300"/>
                      </a:lnTo>
                      <a:lnTo>
                        <a:pt x="120" y="284"/>
                      </a:lnTo>
                      <a:lnTo>
                        <a:pt x="94" y="194"/>
                      </a:lnTo>
                      <a:lnTo>
                        <a:pt x="78" y="200"/>
                      </a:lnTo>
                      <a:lnTo>
                        <a:pt x="94" y="270"/>
                      </a:lnTo>
                      <a:lnTo>
                        <a:pt x="14" y="226"/>
                      </a:lnTo>
                      <a:lnTo>
                        <a:pt x="2" y="246"/>
                      </a:lnTo>
                      <a:lnTo>
                        <a:pt x="84" y="296"/>
                      </a:lnTo>
                      <a:lnTo>
                        <a:pt x="10" y="318"/>
                      </a:lnTo>
                      <a:lnTo>
                        <a:pt x="14" y="336"/>
                      </a:lnTo>
                      <a:lnTo>
                        <a:pt x="110" y="312"/>
                      </a:lnTo>
                      <a:lnTo>
                        <a:pt x="136" y="328"/>
                      </a:lnTo>
                      <a:lnTo>
                        <a:pt x="34" y="358"/>
                      </a:lnTo>
                      <a:lnTo>
                        <a:pt x="40" y="376"/>
                      </a:lnTo>
                      <a:lnTo>
                        <a:pt x="164" y="346"/>
                      </a:lnTo>
                      <a:lnTo>
                        <a:pt x="312" y="434"/>
                      </a:lnTo>
                      <a:lnTo>
                        <a:pt x="290" y="472"/>
                      </a:lnTo>
                      <a:lnTo>
                        <a:pt x="310" y="508"/>
                      </a:lnTo>
                      <a:lnTo>
                        <a:pt x="160" y="598"/>
                      </a:lnTo>
                      <a:lnTo>
                        <a:pt x="40" y="570"/>
                      </a:lnTo>
                      <a:lnTo>
                        <a:pt x="34" y="588"/>
                      </a:lnTo>
                      <a:lnTo>
                        <a:pt x="132" y="616"/>
                      </a:lnTo>
                      <a:lnTo>
                        <a:pt x="104" y="632"/>
                      </a:lnTo>
                      <a:lnTo>
                        <a:pt x="14" y="610"/>
                      </a:lnTo>
                      <a:lnTo>
                        <a:pt x="10" y="628"/>
                      </a:lnTo>
                      <a:lnTo>
                        <a:pt x="80" y="648"/>
                      </a:lnTo>
                      <a:lnTo>
                        <a:pt x="0" y="696"/>
                      </a:lnTo>
                      <a:lnTo>
                        <a:pt x="12" y="716"/>
                      </a:lnTo>
                      <a:lnTo>
                        <a:pt x="96" y="670"/>
                      </a:lnTo>
                      <a:lnTo>
                        <a:pt x="78" y="746"/>
                      </a:lnTo>
                      <a:lnTo>
                        <a:pt x="94" y="750"/>
                      </a:lnTo>
                      <a:lnTo>
                        <a:pt x="122" y="656"/>
                      </a:lnTo>
                      <a:lnTo>
                        <a:pt x="150" y="640"/>
                      </a:lnTo>
                      <a:lnTo>
                        <a:pt x="124" y="744"/>
                      </a:lnTo>
                      <a:lnTo>
                        <a:pt x="142" y="748"/>
                      </a:lnTo>
                      <a:lnTo>
                        <a:pt x="178" y="624"/>
                      </a:lnTo>
                      <a:lnTo>
                        <a:pt x="328" y="542"/>
                      </a:lnTo>
                      <a:lnTo>
                        <a:pt x="352" y="584"/>
                      </a:lnTo>
                      <a:lnTo>
                        <a:pt x="392" y="584"/>
                      </a:lnTo>
                      <a:lnTo>
                        <a:pt x="396" y="756"/>
                      </a:lnTo>
                      <a:lnTo>
                        <a:pt x="310" y="846"/>
                      </a:lnTo>
                      <a:lnTo>
                        <a:pt x="324" y="858"/>
                      </a:lnTo>
                      <a:lnTo>
                        <a:pt x="396" y="788"/>
                      </a:lnTo>
                      <a:lnTo>
                        <a:pt x="396" y="820"/>
                      </a:lnTo>
                      <a:lnTo>
                        <a:pt x="332" y="888"/>
                      </a:lnTo>
                      <a:lnTo>
                        <a:pt x="346" y="900"/>
                      </a:lnTo>
                      <a:lnTo>
                        <a:pt x="398" y="850"/>
                      </a:lnTo>
                      <a:lnTo>
                        <a:pt x="400" y="942"/>
                      </a:lnTo>
                      <a:lnTo>
                        <a:pt x="424" y="942"/>
                      </a:lnTo>
                      <a:lnTo>
                        <a:pt x="426" y="846"/>
                      </a:lnTo>
                      <a:lnTo>
                        <a:pt x="482" y="900"/>
                      </a:lnTo>
                      <a:lnTo>
                        <a:pt x="494" y="888"/>
                      </a:lnTo>
                      <a:lnTo>
                        <a:pt x="426" y="816"/>
                      </a:lnTo>
                      <a:lnTo>
                        <a:pt x="426" y="784"/>
                      </a:lnTo>
                      <a:lnTo>
                        <a:pt x="504" y="858"/>
                      </a:lnTo>
                      <a:lnTo>
                        <a:pt x="516" y="844"/>
                      </a:lnTo>
                      <a:lnTo>
                        <a:pt x="428" y="752"/>
                      </a:lnTo>
                      <a:lnTo>
                        <a:pt x="430" y="584"/>
                      </a:lnTo>
                      <a:lnTo>
                        <a:pt x="478" y="584"/>
                      </a:lnTo>
                      <a:lnTo>
                        <a:pt x="500" y="548"/>
                      </a:lnTo>
                      <a:lnTo>
                        <a:pt x="650" y="630"/>
                      </a:lnTo>
                      <a:lnTo>
                        <a:pt x="684" y="748"/>
                      </a:lnTo>
                      <a:lnTo>
                        <a:pt x="702" y="744"/>
                      </a:lnTo>
                      <a:lnTo>
                        <a:pt x="678" y="646"/>
                      </a:lnTo>
                      <a:lnTo>
                        <a:pt x="706" y="660"/>
                      </a:lnTo>
                      <a:lnTo>
                        <a:pt x="732" y="750"/>
                      </a:lnTo>
                      <a:lnTo>
                        <a:pt x="750" y="746"/>
                      </a:lnTo>
                      <a:lnTo>
                        <a:pt x="732" y="674"/>
                      </a:lnTo>
                      <a:lnTo>
                        <a:pt x="812" y="720"/>
                      </a:lnTo>
                      <a:lnTo>
                        <a:pt x="826" y="698"/>
                      </a:lnTo>
                      <a:lnTo>
                        <a:pt x="742" y="648"/>
                      </a:lnTo>
                      <a:lnTo>
                        <a:pt x="818" y="628"/>
                      </a:lnTo>
                      <a:close/>
                      <a:moveTo>
                        <a:pt x="456" y="544"/>
                      </a:moveTo>
                      <a:lnTo>
                        <a:pt x="376" y="544"/>
                      </a:lnTo>
                      <a:lnTo>
                        <a:pt x="336" y="472"/>
                      </a:lnTo>
                      <a:lnTo>
                        <a:pt x="376" y="400"/>
                      </a:lnTo>
                      <a:lnTo>
                        <a:pt x="456" y="400"/>
                      </a:lnTo>
                      <a:lnTo>
                        <a:pt x="496" y="472"/>
                      </a:lnTo>
                      <a:lnTo>
                        <a:pt x="456" y="544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feffff">
                      <a:alpha val="26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Freeform 81"/>
                <p:cNvSpPr/>
                <p:nvPr/>
              </p:nvSpPr>
              <p:spPr>
                <a:xfrm rot="924000">
                  <a:off x="8018640" y="1771200"/>
                  <a:ext cx="709920" cy="855000"/>
                </a:xfrm>
                <a:custGeom>
                  <a:avLst/>
                  <a:gdLst/>
                  <a:ahLst/>
                  <a:rect l="l" t="t" r="r" b="b"/>
                  <a:pathLst>
                    <a:path w="628" h="712">
                      <a:moveTo>
                        <a:pt x="620" y="470"/>
                      </a:moveTo>
                      <a:lnTo>
                        <a:pt x="618" y="462"/>
                      </a:lnTo>
                      <a:lnTo>
                        <a:pt x="546" y="480"/>
                      </a:lnTo>
                      <a:lnTo>
                        <a:pt x="520" y="464"/>
                      </a:lnTo>
                      <a:lnTo>
                        <a:pt x="602" y="440"/>
                      </a:lnTo>
                      <a:lnTo>
                        <a:pt x="598" y="430"/>
                      </a:lnTo>
                      <a:lnTo>
                        <a:pt x="504" y="454"/>
                      </a:lnTo>
                      <a:lnTo>
                        <a:pt x="460" y="428"/>
                      </a:lnTo>
                      <a:lnTo>
                        <a:pt x="400" y="374"/>
                      </a:lnTo>
                      <a:lnTo>
                        <a:pt x="402" y="354"/>
                      </a:lnTo>
                      <a:lnTo>
                        <a:pt x="402" y="338"/>
                      </a:lnTo>
                      <a:lnTo>
                        <a:pt x="464" y="282"/>
                      </a:lnTo>
                      <a:lnTo>
                        <a:pt x="508" y="254"/>
                      </a:lnTo>
                      <a:lnTo>
                        <a:pt x="598" y="278"/>
                      </a:lnTo>
                      <a:lnTo>
                        <a:pt x="602" y="268"/>
                      </a:lnTo>
                      <a:lnTo>
                        <a:pt x="524" y="246"/>
                      </a:lnTo>
                      <a:lnTo>
                        <a:pt x="550" y="230"/>
                      </a:lnTo>
                      <a:lnTo>
                        <a:pt x="618" y="246"/>
                      </a:lnTo>
                      <a:lnTo>
                        <a:pt x="620" y="236"/>
                      </a:lnTo>
                      <a:lnTo>
                        <a:pt x="564" y="220"/>
                      </a:lnTo>
                      <a:lnTo>
                        <a:pt x="628" y="182"/>
                      </a:lnTo>
                      <a:lnTo>
                        <a:pt x="620" y="170"/>
                      </a:lnTo>
                      <a:lnTo>
                        <a:pt x="554" y="206"/>
                      </a:lnTo>
                      <a:lnTo>
                        <a:pt x="568" y="146"/>
                      </a:lnTo>
                      <a:lnTo>
                        <a:pt x="558" y="144"/>
                      </a:lnTo>
                      <a:lnTo>
                        <a:pt x="538" y="214"/>
                      </a:lnTo>
                      <a:lnTo>
                        <a:pt x="512" y="230"/>
                      </a:lnTo>
                      <a:lnTo>
                        <a:pt x="532" y="148"/>
                      </a:lnTo>
                      <a:lnTo>
                        <a:pt x="522" y="144"/>
                      </a:lnTo>
                      <a:lnTo>
                        <a:pt x="494" y="238"/>
                      </a:lnTo>
                      <a:lnTo>
                        <a:pt x="450" y="264"/>
                      </a:lnTo>
                      <a:lnTo>
                        <a:pt x="374" y="288"/>
                      </a:lnTo>
                      <a:lnTo>
                        <a:pt x="360" y="278"/>
                      </a:lnTo>
                      <a:lnTo>
                        <a:pt x="344" y="272"/>
                      </a:lnTo>
                      <a:lnTo>
                        <a:pt x="326" y="186"/>
                      </a:lnTo>
                      <a:lnTo>
                        <a:pt x="324" y="136"/>
                      </a:lnTo>
                      <a:lnTo>
                        <a:pt x="390" y="68"/>
                      </a:lnTo>
                      <a:lnTo>
                        <a:pt x="382" y="62"/>
                      </a:lnTo>
                      <a:lnTo>
                        <a:pt x="324" y="118"/>
                      </a:lnTo>
                      <a:lnTo>
                        <a:pt x="324" y="86"/>
                      </a:lnTo>
                      <a:lnTo>
                        <a:pt x="372" y="36"/>
                      </a:lnTo>
                      <a:lnTo>
                        <a:pt x="366" y="30"/>
                      </a:lnTo>
                      <a:lnTo>
                        <a:pt x="324" y="72"/>
                      </a:lnTo>
                      <a:lnTo>
                        <a:pt x="322" y="0"/>
                      </a:lnTo>
                      <a:lnTo>
                        <a:pt x="308" y="0"/>
                      </a:lnTo>
                      <a:lnTo>
                        <a:pt x="306" y="74"/>
                      </a:lnTo>
                      <a:lnTo>
                        <a:pt x="260" y="30"/>
                      </a:lnTo>
                      <a:lnTo>
                        <a:pt x="254" y="36"/>
                      </a:lnTo>
                      <a:lnTo>
                        <a:pt x="306" y="90"/>
                      </a:lnTo>
                      <a:lnTo>
                        <a:pt x="304" y="120"/>
                      </a:lnTo>
                      <a:lnTo>
                        <a:pt x="244" y="62"/>
                      </a:lnTo>
                      <a:lnTo>
                        <a:pt x="236" y="68"/>
                      </a:lnTo>
                      <a:lnTo>
                        <a:pt x="304" y="138"/>
                      </a:lnTo>
                      <a:lnTo>
                        <a:pt x="304" y="190"/>
                      </a:lnTo>
                      <a:lnTo>
                        <a:pt x="286" y="270"/>
                      </a:lnTo>
                      <a:lnTo>
                        <a:pt x="272" y="278"/>
                      </a:lnTo>
                      <a:lnTo>
                        <a:pt x="258" y="286"/>
                      </a:lnTo>
                      <a:lnTo>
                        <a:pt x="174" y="260"/>
                      </a:lnTo>
                      <a:lnTo>
                        <a:pt x="130" y="234"/>
                      </a:lnTo>
                      <a:lnTo>
                        <a:pt x="104" y="144"/>
                      </a:lnTo>
                      <a:lnTo>
                        <a:pt x="94" y="148"/>
                      </a:lnTo>
                      <a:lnTo>
                        <a:pt x="114" y="226"/>
                      </a:lnTo>
                      <a:lnTo>
                        <a:pt x="86" y="212"/>
                      </a:lnTo>
                      <a:lnTo>
                        <a:pt x="68" y="144"/>
                      </a:lnTo>
                      <a:lnTo>
                        <a:pt x="58" y="146"/>
                      </a:lnTo>
                      <a:lnTo>
                        <a:pt x="72" y="204"/>
                      </a:lnTo>
                      <a:lnTo>
                        <a:pt x="8" y="168"/>
                      </a:lnTo>
                      <a:lnTo>
                        <a:pt x="0" y="180"/>
                      </a:lnTo>
                      <a:lnTo>
                        <a:pt x="66" y="220"/>
                      </a:lnTo>
                      <a:lnTo>
                        <a:pt x="6" y="236"/>
                      </a:lnTo>
                      <a:lnTo>
                        <a:pt x="8" y="246"/>
                      </a:lnTo>
                      <a:lnTo>
                        <a:pt x="80" y="228"/>
                      </a:lnTo>
                      <a:lnTo>
                        <a:pt x="106" y="244"/>
                      </a:lnTo>
                      <a:lnTo>
                        <a:pt x="26" y="268"/>
                      </a:lnTo>
                      <a:lnTo>
                        <a:pt x="28" y="278"/>
                      </a:lnTo>
                      <a:lnTo>
                        <a:pt x="122" y="254"/>
                      </a:lnTo>
                      <a:lnTo>
                        <a:pt x="166" y="280"/>
                      </a:lnTo>
                      <a:lnTo>
                        <a:pt x="228" y="336"/>
                      </a:lnTo>
                      <a:lnTo>
                        <a:pt x="228" y="354"/>
                      </a:lnTo>
                      <a:lnTo>
                        <a:pt x="228" y="366"/>
                      </a:lnTo>
                      <a:lnTo>
                        <a:pt x="162" y="426"/>
                      </a:lnTo>
                      <a:lnTo>
                        <a:pt x="118" y="452"/>
                      </a:lnTo>
                      <a:lnTo>
                        <a:pt x="28" y="430"/>
                      </a:lnTo>
                      <a:lnTo>
                        <a:pt x="26" y="440"/>
                      </a:lnTo>
                      <a:lnTo>
                        <a:pt x="102" y="462"/>
                      </a:lnTo>
                      <a:lnTo>
                        <a:pt x="76" y="478"/>
                      </a:lnTo>
                      <a:lnTo>
                        <a:pt x="8" y="462"/>
                      </a:lnTo>
                      <a:lnTo>
                        <a:pt x="6" y="470"/>
                      </a:lnTo>
                      <a:lnTo>
                        <a:pt x="62" y="488"/>
                      </a:lnTo>
                      <a:lnTo>
                        <a:pt x="0" y="526"/>
                      </a:lnTo>
                      <a:lnTo>
                        <a:pt x="6" y="538"/>
                      </a:lnTo>
                      <a:lnTo>
                        <a:pt x="74" y="500"/>
                      </a:lnTo>
                      <a:lnTo>
                        <a:pt x="58" y="562"/>
                      </a:lnTo>
                      <a:lnTo>
                        <a:pt x="68" y="564"/>
                      </a:lnTo>
                      <a:lnTo>
                        <a:pt x="88" y="492"/>
                      </a:lnTo>
                      <a:lnTo>
                        <a:pt x="114" y="478"/>
                      </a:lnTo>
                      <a:lnTo>
                        <a:pt x="94" y="560"/>
                      </a:lnTo>
                      <a:lnTo>
                        <a:pt x="104" y="562"/>
                      </a:lnTo>
                      <a:lnTo>
                        <a:pt x="132" y="468"/>
                      </a:lnTo>
                      <a:lnTo>
                        <a:pt x="176" y="444"/>
                      </a:lnTo>
                      <a:lnTo>
                        <a:pt x="256" y="418"/>
                      </a:lnTo>
                      <a:lnTo>
                        <a:pt x="268" y="428"/>
                      </a:lnTo>
                      <a:lnTo>
                        <a:pt x="282" y="436"/>
                      </a:lnTo>
                      <a:lnTo>
                        <a:pt x="300" y="522"/>
                      </a:lnTo>
                      <a:lnTo>
                        <a:pt x="302" y="572"/>
                      </a:lnTo>
                      <a:lnTo>
                        <a:pt x="236" y="640"/>
                      </a:lnTo>
                      <a:lnTo>
                        <a:pt x="244" y="646"/>
                      </a:lnTo>
                      <a:lnTo>
                        <a:pt x="302" y="590"/>
                      </a:lnTo>
                      <a:lnTo>
                        <a:pt x="302" y="620"/>
                      </a:lnTo>
                      <a:lnTo>
                        <a:pt x="254" y="672"/>
                      </a:lnTo>
                      <a:lnTo>
                        <a:pt x="260" y="678"/>
                      </a:lnTo>
                      <a:lnTo>
                        <a:pt x="304" y="638"/>
                      </a:lnTo>
                      <a:lnTo>
                        <a:pt x="304" y="712"/>
                      </a:lnTo>
                      <a:lnTo>
                        <a:pt x="320" y="712"/>
                      </a:lnTo>
                      <a:lnTo>
                        <a:pt x="320" y="636"/>
                      </a:lnTo>
                      <a:lnTo>
                        <a:pt x="366" y="678"/>
                      </a:lnTo>
                      <a:lnTo>
                        <a:pt x="372" y="672"/>
                      </a:lnTo>
                      <a:lnTo>
                        <a:pt x="320" y="618"/>
                      </a:lnTo>
                      <a:lnTo>
                        <a:pt x="322" y="588"/>
                      </a:lnTo>
                      <a:lnTo>
                        <a:pt x="382" y="646"/>
                      </a:lnTo>
                      <a:lnTo>
                        <a:pt x="390" y="640"/>
                      </a:lnTo>
                      <a:lnTo>
                        <a:pt x="322" y="568"/>
                      </a:lnTo>
                      <a:lnTo>
                        <a:pt x="322" y="518"/>
                      </a:lnTo>
                      <a:lnTo>
                        <a:pt x="340" y="438"/>
                      </a:lnTo>
                      <a:lnTo>
                        <a:pt x="356" y="432"/>
                      </a:lnTo>
                      <a:lnTo>
                        <a:pt x="370" y="422"/>
                      </a:lnTo>
                      <a:lnTo>
                        <a:pt x="452" y="448"/>
                      </a:lnTo>
                      <a:lnTo>
                        <a:pt x="496" y="472"/>
                      </a:lnTo>
                      <a:lnTo>
                        <a:pt x="522" y="562"/>
                      </a:lnTo>
                      <a:lnTo>
                        <a:pt x="532" y="560"/>
                      </a:lnTo>
                      <a:lnTo>
                        <a:pt x="512" y="482"/>
                      </a:lnTo>
                      <a:lnTo>
                        <a:pt x="540" y="496"/>
                      </a:lnTo>
                      <a:lnTo>
                        <a:pt x="558" y="564"/>
                      </a:lnTo>
                      <a:lnTo>
                        <a:pt x="568" y="562"/>
                      </a:lnTo>
                      <a:lnTo>
                        <a:pt x="554" y="504"/>
                      </a:lnTo>
                      <a:lnTo>
                        <a:pt x="618" y="540"/>
                      </a:lnTo>
                      <a:lnTo>
                        <a:pt x="626" y="528"/>
                      </a:lnTo>
                      <a:lnTo>
                        <a:pt x="560" y="488"/>
                      </a:lnTo>
                      <a:lnTo>
                        <a:pt x="620" y="470"/>
                      </a:lnTo>
                      <a:close/>
                      <a:moveTo>
                        <a:pt x="314" y="410"/>
                      </a:moveTo>
                      <a:lnTo>
                        <a:pt x="314" y="410"/>
                      </a:lnTo>
                      <a:lnTo>
                        <a:pt x="304" y="408"/>
                      </a:lnTo>
                      <a:lnTo>
                        <a:pt x="294" y="406"/>
                      </a:lnTo>
                      <a:lnTo>
                        <a:pt x="284" y="400"/>
                      </a:lnTo>
                      <a:lnTo>
                        <a:pt x="276" y="394"/>
                      </a:lnTo>
                      <a:lnTo>
                        <a:pt x="268" y="384"/>
                      </a:lnTo>
                      <a:lnTo>
                        <a:pt x="264" y="376"/>
                      </a:lnTo>
                      <a:lnTo>
                        <a:pt x="260" y="364"/>
                      </a:lnTo>
                      <a:lnTo>
                        <a:pt x="260" y="354"/>
                      </a:lnTo>
                      <a:lnTo>
                        <a:pt x="260" y="342"/>
                      </a:lnTo>
                      <a:lnTo>
                        <a:pt x="264" y="332"/>
                      </a:lnTo>
                      <a:lnTo>
                        <a:pt x="268" y="322"/>
                      </a:lnTo>
                      <a:lnTo>
                        <a:pt x="276" y="314"/>
                      </a:lnTo>
                      <a:lnTo>
                        <a:pt x="284" y="308"/>
                      </a:lnTo>
                      <a:lnTo>
                        <a:pt x="294" y="302"/>
                      </a:lnTo>
                      <a:lnTo>
                        <a:pt x="304" y="300"/>
                      </a:lnTo>
                      <a:lnTo>
                        <a:pt x="314" y="298"/>
                      </a:lnTo>
                      <a:lnTo>
                        <a:pt x="326" y="300"/>
                      </a:lnTo>
                      <a:lnTo>
                        <a:pt x="336" y="302"/>
                      </a:lnTo>
                      <a:lnTo>
                        <a:pt x="346" y="308"/>
                      </a:lnTo>
                      <a:lnTo>
                        <a:pt x="354" y="314"/>
                      </a:lnTo>
                      <a:lnTo>
                        <a:pt x="362" y="322"/>
                      </a:lnTo>
                      <a:lnTo>
                        <a:pt x="366" y="332"/>
                      </a:lnTo>
                      <a:lnTo>
                        <a:pt x="370" y="342"/>
                      </a:lnTo>
                      <a:lnTo>
                        <a:pt x="370" y="354"/>
                      </a:lnTo>
                      <a:lnTo>
                        <a:pt x="370" y="364"/>
                      </a:lnTo>
                      <a:lnTo>
                        <a:pt x="366" y="376"/>
                      </a:lnTo>
                      <a:lnTo>
                        <a:pt x="362" y="384"/>
                      </a:lnTo>
                      <a:lnTo>
                        <a:pt x="354" y="394"/>
                      </a:lnTo>
                      <a:lnTo>
                        <a:pt x="346" y="400"/>
                      </a:lnTo>
                      <a:lnTo>
                        <a:pt x="336" y="406"/>
                      </a:lnTo>
                      <a:lnTo>
                        <a:pt x="326" y="408"/>
                      </a:lnTo>
                      <a:lnTo>
                        <a:pt x="314" y="410"/>
                      </a:lnTo>
                      <a:close/>
                    </a:path>
                  </a:pathLst>
                </a:custGeom>
                <a:solidFill>
                  <a:srgbClr val="feffff">
                    <a:alpha val="76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4" name="Freeform 8"/>
            <p:cNvGrpSpPr/>
            <p:nvPr/>
          </p:nvGrpSpPr>
          <p:grpSpPr>
            <a:xfrm>
              <a:off x="8150400" y="2711880"/>
              <a:ext cx="982440" cy="1349280"/>
              <a:chOff x="8150400" y="2711880"/>
              <a:chExt cx="982440" cy="1349280"/>
            </a:xfrm>
          </p:grpSpPr>
          <p:pic>
            <p:nvPicPr>
              <p:cNvPr id="125" name="Freeform 8" descr=""/>
              <p:cNvPicPr/>
              <p:nvPr/>
            </p:nvPicPr>
            <p:blipFill>
              <a:blip r:embed="rId11"/>
              <a:stretch/>
            </p:blipFill>
            <p:spPr>
              <a:xfrm>
                <a:off x="8150400" y="2711880"/>
                <a:ext cx="982440" cy="1349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6" name=""/>
              <p:cNvSpPr/>
              <p:nvPr/>
            </p:nvSpPr>
            <p:spPr>
              <a:xfrm>
                <a:off x="8241480" y="2810520"/>
                <a:ext cx="801720" cy="115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7" name="Freeform 12"/>
            <p:cNvGrpSpPr/>
            <p:nvPr/>
          </p:nvGrpSpPr>
          <p:grpSpPr>
            <a:xfrm>
              <a:off x="6558120" y="5795280"/>
              <a:ext cx="1394640" cy="1067400"/>
              <a:chOff x="6558120" y="5795280"/>
              <a:chExt cx="1394640" cy="1067400"/>
            </a:xfrm>
          </p:grpSpPr>
          <p:pic>
            <p:nvPicPr>
              <p:cNvPr id="128" name="Freeform 12" descr=""/>
              <p:cNvPicPr/>
              <p:nvPr/>
            </p:nvPicPr>
            <p:blipFill>
              <a:blip r:embed="rId12"/>
              <a:stretch/>
            </p:blipFill>
            <p:spPr>
              <a:xfrm>
                <a:off x="6558120" y="5795280"/>
                <a:ext cx="1394640" cy="1067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" name=""/>
              <p:cNvSpPr/>
              <p:nvPr/>
            </p:nvSpPr>
            <p:spPr>
              <a:xfrm>
                <a:off x="6658200" y="5900400"/>
                <a:ext cx="1193760" cy="85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30" name="Freeform 16"/>
            <p:cNvSpPr/>
            <p:nvPr/>
          </p:nvSpPr>
          <p:spPr>
            <a:xfrm>
              <a:off x="8111160" y="6206760"/>
              <a:ext cx="903960" cy="541440"/>
            </a:xfrm>
            <a:custGeom>
              <a:avLst/>
              <a:gdLst/>
              <a:ahLst/>
              <a:rect l="l" t="t" r="r" b="b"/>
              <a:pathLst>
                <a:path w="972" h="548">
                  <a:moveTo>
                    <a:pt x="962" y="360"/>
                  </a:moveTo>
                  <a:lnTo>
                    <a:pt x="962" y="344"/>
                  </a:lnTo>
                  <a:lnTo>
                    <a:pt x="756" y="352"/>
                  </a:lnTo>
                  <a:lnTo>
                    <a:pt x="860" y="232"/>
                  </a:lnTo>
                  <a:lnTo>
                    <a:pt x="972" y="222"/>
                  </a:lnTo>
                  <a:lnTo>
                    <a:pt x="972" y="210"/>
                  </a:lnTo>
                  <a:lnTo>
                    <a:pt x="874" y="214"/>
                  </a:lnTo>
                  <a:lnTo>
                    <a:pt x="954" y="122"/>
                  </a:lnTo>
                  <a:lnTo>
                    <a:pt x="940" y="108"/>
                  </a:lnTo>
                  <a:lnTo>
                    <a:pt x="854" y="200"/>
                  </a:lnTo>
                  <a:lnTo>
                    <a:pt x="846" y="98"/>
                  </a:lnTo>
                  <a:lnTo>
                    <a:pt x="834" y="98"/>
                  </a:lnTo>
                  <a:lnTo>
                    <a:pt x="838" y="218"/>
                  </a:lnTo>
                  <a:lnTo>
                    <a:pt x="742" y="320"/>
                  </a:lnTo>
                  <a:lnTo>
                    <a:pt x="728" y="122"/>
                  </a:lnTo>
                  <a:lnTo>
                    <a:pt x="714" y="122"/>
                  </a:lnTo>
                  <a:lnTo>
                    <a:pt x="720" y="344"/>
                  </a:lnTo>
                  <a:lnTo>
                    <a:pt x="636" y="434"/>
                  </a:lnTo>
                  <a:lnTo>
                    <a:pt x="614" y="422"/>
                  </a:lnTo>
                  <a:lnTo>
                    <a:pt x="590" y="414"/>
                  </a:lnTo>
                  <a:lnTo>
                    <a:pt x="576" y="412"/>
                  </a:lnTo>
                  <a:lnTo>
                    <a:pt x="564" y="412"/>
                  </a:lnTo>
                  <a:lnTo>
                    <a:pt x="552" y="412"/>
                  </a:lnTo>
                  <a:lnTo>
                    <a:pt x="538" y="414"/>
                  </a:lnTo>
                  <a:lnTo>
                    <a:pt x="502" y="312"/>
                  </a:lnTo>
                  <a:lnTo>
                    <a:pt x="602" y="108"/>
                  </a:lnTo>
                  <a:lnTo>
                    <a:pt x="588" y="100"/>
                  </a:lnTo>
                  <a:lnTo>
                    <a:pt x="492" y="282"/>
                  </a:lnTo>
                  <a:lnTo>
                    <a:pt x="440" y="132"/>
                  </a:lnTo>
                  <a:lnTo>
                    <a:pt x="488" y="30"/>
                  </a:lnTo>
                  <a:lnTo>
                    <a:pt x="478" y="24"/>
                  </a:lnTo>
                  <a:lnTo>
                    <a:pt x="432" y="112"/>
                  </a:lnTo>
                  <a:lnTo>
                    <a:pt x="394" y="0"/>
                  </a:lnTo>
                  <a:lnTo>
                    <a:pt x="374" y="6"/>
                  </a:lnTo>
                  <a:lnTo>
                    <a:pt x="410" y="124"/>
                  </a:lnTo>
                  <a:lnTo>
                    <a:pt x="318" y="78"/>
                  </a:lnTo>
                  <a:lnTo>
                    <a:pt x="312" y="88"/>
                  </a:lnTo>
                  <a:lnTo>
                    <a:pt x="416" y="144"/>
                  </a:lnTo>
                  <a:lnTo>
                    <a:pt x="458" y="278"/>
                  </a:lnTo>
                  <a:lnTo>
                    <a:pt x="278" y="192"/>
                  </a:lnTo>
                  <a:lnTo>
                    <a:pt x="272" y="204"/>
                  </a:lnTo>
                  <a:lnTo>
                    <a:pt x="466" y="308"/>
                  </a:lnTo>
                  <a:lnTo>
                    <a:pt x="502" y="426"/>
                  </a:lnTo>
                  <a:lnTo>
                    <a:pt x="490" y="432"/>
                  </a:lnTo>
                  <a:lnTo>
                    <a:pt x="480" y="440"/>
                  </a:lnTo>
                  <a:lnTo>
                    <a:pt x="470" y="448"/>
                  </a:lnTo>
                  <a:lnTo>
                    <a:pt x="460" y="458"/>
                  </a:lnTo>
                  <a:lnTo>
                    <a:pt x="452" y="468"/>
                  </a:lnTo>
                  <a:lnTo>
                    <a:pt x="446" y="478"/>
                  </a:lnTo>
                  <a:lnTo>
                    <a:pt x="440" y="490"/>
                  </a:lnTo>
                  <a:lnTo>
                    <a:pt x="434" y="502"/>
                  </a:lnTo>
                  <a:lnTo>
                    <a:pt x="332" y="482"/>
                  </a:lnTo>
                  <a:lnTo>
                    <a:pt x="202" y="294"/>
                  </a:lnTo>
                  <a:lnTo>
                    <a:pt x="190" y="302"/>
                  </a:lnTo>
                  <a:lnTo>
                    <a:pt x="298" y="476"/>
                  </a:lnTo>
                  <a:lnTo>
                    <a:pt x="142" y="446"/>
                  </a:lnTo>
                  <a:lnTo>
                    <a:pt x="80" y="354"/>
                  </a:lnTo>
                  <a:lnTo>
                    <a:pt x="70" y="360"/>
                  </a:lnTo>
                  <a:lnTo>
                    <a:pt x="120" y="442"/>
                  </a:lnTo>
                  <a:lnTo>
                    <a:pt x="2" y="420"/>
                  </a:lnTo>
                  <a:lnTo>
                    <a:pt x="0" y="426"/>
                  </a:lnTo>
                  <a:lnTo>
                    <a:pt x="0" y="440"/>
                  </a:lnTo>
                  <a:lnTo>
                    <a:pt x="120" y="468"/>
                  </a:lnTo>
                  <a:lnTo>
                    <a:pt x="34" y="526"/>
                  </a:lnTo>
                  <a:lnTo>
                    <a:pt x="40" y="536"/>
                  </a:lnTo>
                  <a:lnTo>
                    <a:pt x="142" y="472"/>
                  </a:lnTo>
                  <a:lnTo>
                    <a:pt x="280" y="504"/>
                  </a:lnTo>
                  <a:lnTo>
                    <a:pt x="214" y="548"/>
                  </a:lnTo>
                  <a:lnTo>
                    <a:pt x="250" y="548"/>
                  </a:lnTo>
                  <a:lnTo>
                    <a:pt x="310" y="512"/>
                  </a:lnTo>
                  <a:lnTo>
                    <a:pt x="428" y="538"/>
                  </a:lnTo>
                  <a:lnTo>
                    <a:pt x="426" y="548"/>
                  </a:lnTo>
                  <a:lnTo>
                    <a:pt x="464" y="548"/>
                  </a:lnTo>
                  <a:lnTo>
                    <a:pt x="466" y="532"/>
                  </a:lnTo>
                  <a:lnTo>
                    <a:pt x="468" y="518"/>
                  </a:lnTo>
                  <a:lnTo>
                    <a:pt x="474" y="504"/>
                  </a:lnTo>
                  <a:lnTo>
                    <a:pt x="482" y="490"/>
                  </a:lnTo>
                  <a:lnTo>
                    <a:pt x="492" y="478"/>
                  </a:lnTo>
                  <a:lnTo>
                    <a:pt x="504" y="468"/>
                  </a:lnTo>
                  <a:lnTo>
                    <a:pt x="516" y="460"/>
                  </a:lnTo>
                  <a:lnTo>
                    <a:pt x="532" y="454"/>
                  </a:lnTo>
                  <a:lnTo>
                    <a:pt x="550" y="450"/>
                  </a:lnTo>
                  <a:lnTo>
                    <a:pt x="570" y="450"/>
                  </a:lnTo>
                  <a:lnTo>
                    <a:pt x="588" y="454"/>
                  </a:lnTo>
                  <a:lnTo>
                    <a:pt x="606" y="460"/>
                  </a:lnTo>
                  <a:lnTo>
                    <a:pt x="622" y="470"/>
                  </a:lnTo>
                  <a:lnTo>
                    <a:pt x="634" y="482"/>
                  </a:lnTo>
                  <a:lnTo>
                    <a:pt x="646" y="498"/>
                  </a:lnTo>
                  <a:lnTo>
                    <a:pt x="654" y="516"/>
                  </a:lnTo>
                  <a:lnTo>
                    <a:pt x="658" y="532"/>
                  </a:lnTo>
                  <a:lnTo>
                    <a:pt x="658" y="548"/>
                  </a:lnTo>
                  <a:lnTo>
                    <a:pt x="696" y="548"/>
                  </a:lnTo>
                  <a:lnTo>
                    <a:pt x="694" y="526"/>
                  </a:lnTo>
                  <a:lnTo>
                    <a:pt x="690" y="504"/>
                  </a:lnTo>
                  <a:lnTo>
                    <a:pt x="686" y="492"/>
                  </a:lnTo>
                  <a:lnTo>
                    <a:pt x="680" y="480"/>
                  </a:lnTo>
                  <a:lnTo>
                    <a:pt x="672" y="470"/>
                  </a:lnTo>
                  <a:lnTo>
                    <a:pt x="664" y="458"/>
                  </a:lnTo>
                  <a:lnTo>
                    <a:pt x="736" y="376"/>
                  </a:lnTo>
                  <a:lnTo>
                    <a:pt x="962" y="360"/>
                  </a:lnTo>
                  <a:close/>
                </a:path>
              </a:pathLst>
            </a:custGeom>
            <a:solidFill>
              <a:srgbClr val="feffff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1" name="Oval 29"/>
          <p:cNvGrpSpPr/>
          <p:nvPr/>
        </p:nvGrpSpPr>
        <p:grpSpPr>
          <a:xfrm>
            <a:off x="5456160" y="1414440"/>
            <a:ext cx="1133640" cy="1133640"/>
            <a:chOff x="5456160" y="1414440"/>
            <a:chExt cx="1133640" cy="1133640"/>
          </a:xfrm>
        </p:grpSpPr>
        <p:pic>
          <p:nvPicPr>
            <p:cNvPr id="132" name="Oval 29" descr=""/>
            <p:cNvPicPr/>
            <p:nvPr/>
          </p:nvPicPr>
          <p:blipFill>
            <a:blip r:embed="rId13"/>
            <a:stretch/>
          </p:blipFill>
          <p:spPr>
            <a:xfrm>
              <a:off x="5456160" y="1414440"/>
              <a:ext cx="1133640" cy="113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"/>
            <p:cNvSpPr/>
            <p:nvPr/>
          </p:nvSpPr>
          <p:spPr>
            <a:xfrm>
              <a:off x="5638680" y="1595520"/>
              <a:ext cx="768600" cy="76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4" name="Oval 30"/>
          <p:cNvGrpSpPr/>
          <p:nvPr/>
        </p:nvGrpSpPr>
        <p:grpSpPr>
          <a:xfrm>
            <a:off x="5626080" y="1390680"/>
            <a:ext cx="878040" cy="871560"/>
            <a:chOff x="5626080" y="1390680"/>
            <a:chExt cx="878040" cy="871560"/>
          </a:xfrm>
        </p:grpSpPr>
        <p:pic>
          <p:nvPicPr>
            <p:cNvPr id="135" name="Oval 30" descr=""/>
            <p:cNvPicPr/>
            <p:nvPr/>
          </p:nvPicPr>
          <p:blipFill>
            <a:blip r:embed="rId14"/>
            <a:stretch/>
          </p:blipFill>
          <p:spPr>
            <a:xfrm>
              <a:off x="5626080" y="1390680"/>
              <a:ext cx="87804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"/>
            <p:cNvSpPr/>
            <p:nvPr/>
          </p:nvSpPr>
          <p:spPr>
            <a:xfrm>
              <a:off x="5772240" y="1533600"/>
              <a:ext cx="587160" cy="58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7" name="Oval 31"/>
          <p:cNvGrpSpPr/>
          <p:nvPr/>
        </p:nvGrpSpPr>
        <p:grpSpPr>
          <a:xfrm>
            <a:off x="5237280" y="1871640"/>
            <a:ext cx="645840" cy="646200"/>
            <a:chOff x="5237280" y="1871640"/>
            <a:chExt cx="645840" cy="646200"/>
          </a:xfrm>
        </p:grpSpPr>
        <p:pic>
          <p:nvPicPr>
            <p:cNvPr id="138" name="Oval 31" descr=""/>
            <p:cNvPicPr/>
            <p:nvPr/>
          </p:nvPicPr>
          <p:blipFill>
            <a:blip r:embed="rId15"/>
            <a:stretch/>
          </p:blipFill>
          <p:spPr>
            <a:xfrm>
              <a:off x="5237280" y="1871640"/>
              <a:ext cx="64584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"/>
            <p:cNvSpPr/>
            <p:nvPr/>
          </p:nvSpPr>
          <p:spPr>
            <a:xfrm>
              <a:off x="5345280" y="1982880"/>
              <a:ext cx="425160" cy="42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0" name="Oval 32"/>
          <p:cNvGrpSpPr/>
          <p:nvPr/>
        </p:nvGrpSpPr>
        <p:grpSpPr>
          <a:xfrm>
            <a:off x="5400720" y="1792440"/>
            <a:ext cx="536400" cy="529920"/>
            <a:chOff x="5400720" y="1792440"/>
            <a:chExt cx="536400" cy="529920"/>
          </a:xfrm>
        </p:grpSpPr>
        <p:pic>
          <p:nvPicPr>
            <p:cNvPr id="141" name="Oval 32" descr=""/>
            <p:cNvPicPr/>
            <p:nvPr/>
          </p:nvPicPr>
          <p:blipFill>
            <a:blip r:embed="rId16"/>
            <a:stretch/>
          </p:blipFill>
          <p:spPr>
            <a:xfrm>
              <a:off x="5400720" y="1792440"/>
              <a:ext cx="536400" cy="52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"/>
            <p:cNvSpPr/>
            <p:nvPr/>
          </p:nvSpPr>
          <p:spPr>
            <a:xfrm>
              <a:off x="5495760" y="1882800"/>
              <a:ext cx="346320" cy="3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3" name="Oval 33"/>
          <p:cNvGrpSpPr/>
          <p:nvPr/>
        </p:nvGrpSpPr>
        <p:grpSpPr>
          <a:xfrm>
            <a:off x="4700520" y="2060640"/>
            <a:ext cx="298440" cy="298440"/>
            <a:chOff x="4700520" y="2060640"/>
            <a:chExt cx="298440" cy="298440"/>
          </a:xfrm>
        </p:grpSpPr>
        <p:pic>
          <p:nvPicPr>
            <p:cNvPr id="144" name="Oval 33" descr=""/>
            <p:cNvPicPr/>
            <p:nvPr/>
          </p:nvPicPr>
          <p:blipFill>
            <a:blip r:embed="rId17"/>
            <a:stretch/>
          </p:blipFill>
          <p:spPr>
            <a:xfrm>
              <a:off x="4700520" y="2060640"/>
              <a:ext cx="298440" cy="2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4756320" y="2120760"/>
              <a:ext cx="180720" cy="1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6" name="Oval 34"/>
          <p:cNvGrpSpPr/>
          <p:nvPr/>
        </p:nvGrpSpPr>
        <p:grpSpPr>
          <a:xfrm>
            <a:off x="6108840" y="969840"/>
            <a:ext cx="304560" cy="304920"/>
            <a:chOff x="6108840" y="969840"/>
            <a:chExt cx="304560" cy="304920"/>
          </a:xfrm>
        </p:grpSpPr>
        <p:pic>
          <p:nvPicPr>
            <p:cNvPr id="147" name="Oval 34" descr=""/>
            <p:cNvPicPr/>
            <p:nvPr/>
          </p:nvPicPr>
          <p:blipFill>
            <a:blip r:embed="rId18"/>
            <a:stretch/>
          </p:blipFill>
          <p:spPr>
            <a:xfrm>
              <a:off x="6108840" y="969840"/>
              <a:ext cx="30456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"/>
            <p:cNvSpPr/>
            <p:nvPr/>
          </p:nvSpPr>
          <p:spPr>
            <a:xfrm>
              <a:off x="6168960" y="1030320"/>
              <a:ext cx="18252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9" name="Oval 35"/>
          <p:cNvGrpSpPr/>
          <p:nvPr/>
        </p:nvGrpSpPr>
        <p:grpSpPr>
          <a:xfrm>
            <a:off x="5035680" y="1871640"/>
            <a:ext cx="242640" cy="243000"/>
            <a:chOff x="5035680" y="1871640"/>
            <a:chExt cx="242640" cy="243000"/>
          </a:xfrm>
        </p:grpSpPr>
        <p:pic>
          <p:nvPicPr>
            <p:cNvPr id="150" name="Oval 35" descr=""/>
            <p:cNvPicPr/>
            <p:nvPr/>
          </p:nvPicPr>
          <p:blipFill>
            <a:blip r:embed="rId19"/>
            <a:stretch/>
          </p:blipFill>
          <p:spPr>
            <a:xfrm>
              <a:off x="5035680" y="1871640"/>
              <a:ext cx="242640" cy="24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"/>
            <p:cNvSpPr/>
            <p:nvPr/>
          </p:nvSpPr>
          <p:spPr>
            <a:xfrm>
              <a:off x="5087880" y="1924200"/>
              <a:ext cx="139680" cy="13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2" name="Oval 36"/>
          <p:cNvGrpSpPr/>
          <p:nvPr/>
        </p:nvGrpSpPr>
        <p:grpSpPr>
          <a:xfrm>
            <a:off x="6126120" y="1036800"/>
            <a:ext cx="244440" cy="242640"/>
            <a:chOff x="6126120" y="1036800"/>
            <a:chExt cx="244440" cy="242640"/>
          </a:xfrm>
        </p:grpSpPr>
        <p:pic>
          <p:nvPicPr>
            <p:cNvPr id="153" name="Oval 36" descr=""/>
            <p:cNvPicPr/>
            <p:nvPr/>
          </p:nvPicPr>
          <p:blipFill>
            <a:blip r:embed="rId20"/>
            <a:stretch/>
          </p:blipFill>
          <p:spPr>
            <a:xfrm>
              <a:off x="6126120" y="1036800"/>
              <a:ext cx="244440" cy="24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"/>
            <p:cNvSpPr/>
            <p:nvPr/>
          </p:nvSpPr>
          <p:spPr>
            <a:xfrm>
              <a:off x="6176880" y="1089000"/>
              <a:ext cx="139680" cy="13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c5e1fe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spcAft>
                <a:spcPts val="601"/>
              </a:spcAft>
              <a:buClr>
                <a:srgbClr val="c5e1fe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spcAft>
                <a:spcPts val="601"/>
              </a:spcAft>
              <a:buClr>
                <a:srgbClr val="c5e1fe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spcAft>
                <a:spcPts val="601"/>
              </a:spcAft>
              <a:buClr>
                <a:srgbClr val="c5e1fe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spcAft>
                <a:spcPts val="601"/>
              </a:spcAft>
              <a:buClr>
                <a:srgbClr val="c5e1fe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spcAft>
                <a:spcPts val="601"/>
              </a:spcAft>
              <a:buClr>
                <a:srgbClr val="ffffff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spcAft>
                <a:spcPts val="601"/>
              </a:spcAft>
              <a:buClr>
                <a:srgbClr val="ffffff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 type="dt" idx="4"/>
          </p:nvPr>
        </p:nvSpPr>
        <p:spPr>
          <a:xfrm>
            <a:off x="6436800" y="5951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 type="ftr" idx="5"/>
          </p:nvPr>
        </p:nvSpPr>
        <p:spPr>
          <a:xfrm>
            <a:off x="1181160" y="5951520"/>
            <a:ext cx="5256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 type="sldNum" idx="6"/>
          </p:nvPr>
        </p:nvSpPr>
        <p:spPr>
          <a:xfrm>
            <a:off x="572760" y="5951520"/>
            <a:ext cx="608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B3654-4C3F-4D11-B19F-8F4DBCEBE53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1"/>
    <p:sldLayoutId id="2147483663" r:id="rId22"/>
    <p:sldLayoutId id="2147483664" r:id="rId23"/>
    <p:sldLayoutId id="2147483665" r:id="rId24"/>
    <p:sldLayoutId id="2147483666" r:id="rId25"/>
    <p:sldLayoutId id="2147483667" r:id="rId26"/>
    <p:sldLayoutId id="2147483668" r:id="rId27"/>
    <p:sldLayoutId id="2147483669" r:id="rId28"/>
    <p:sldLayoutId id="2147483670" r:id="rId29"/>
    <p:sldLayoutId id="2147483671" r:id="rId30"/>
    <p:sldLayoutId id="2147483672" r:id="rId31"/>
    <p:sldLayoutId id="2147483673" r:id="rId3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waterforlife.ca/_borders/water%20dark%20blue.jpg" TargetMode="External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waterforlife.ca/_borders/water%20dark%20blue.jpg" TargetMode="External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09800" y="3306600"/>
            <a:ext cx="7116480" cy="147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7.2 Similar Polygon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1009800" y="4776840"/>
            <a:ext cx="7116480" cy="86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2376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olution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1295280" y="1599840"/>
            <a:ext cx="739152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c5e1fe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o find the length of the enlargement, you can compare the enlargement to the original measurements of the photo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4" name="Text Box 4"/>
          <p:cNvSpPr/>
          <p:nvPr/>
        </p:nvSpPr>
        <p:spPr>
          <a:xfrm>
            <a:off x="1523880" y="350532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6 in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Text Box 5"/>
          <p:cNvSpPr/>
          <p:nvPr/>
        </p:nvSpPr>
        <p:spPr>
          <a:xfrm>
            <a:off x="1523880" y="388620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.5 i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Line 6"/>
          <p:cNvSpPr/>
          <p:nvPr/>
        </p:nvSpPr>
        <p:spPr>
          <a:xfrm>
            <a:off x="1600200" y="3886200"/>
            <a:ext cx="609480" cy="0"/>
          </a:xfrm>
          <a:prstGeom prst="line">
            <a:avLst/>
          </a:prstGeom>
          <a:ln cap="sq"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Text Box 7"/>
          <p:cNvSpPr/>
          <p:nvPr/>
        </p:nvSpPr>
        <p:spPr>
          <a:xfrm>
            <a:off x="2362320" y="36576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Text Box 8"/>
          <p:cNvSpPr/>
          <p:nvPr/>
        </p:nvSpPr>
        <p:spPr>
          <a:xfrm>
            <a:off x="2743200" y="350532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 i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Text Box 9"/>
          <p:cNvSpPr/>
          <p:nvPr/>
        </p:nvSpPr>
        <p:spPr>
          <a:xfrm>
            <a:off x="2743200" y="38862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 i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Line 10"/>
          <p:cNvSpPr/>
          <p:nvPr/>
        </p:nvSpPr>
        <p:spPr>
          <a:xfrm>
            <a:off x="2743200" y="3886200"/>
            <a:ext cx="609480" cy="0"/>
          </a:xfrm>
          <a:prstGeom prst="line">
            <a:avLst/>
          </a:prstGeom>
          <a:ln cap="sq"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Text Box 11"/>
          <p:cNvSpPr/>
          <p:nvPr/>
        </p:nvSpPr>
        <p:spPr>
          <a:xfrm>
            <a:off x="2057400" y="44197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Text Box 12"/>
          <p:cNvSpPr/>
          <p:nvPr/>
        </p:nvSpPr>
        <p:spPr>
          <a:xfrm>
            <a:off x="2362320" y="44197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Text Box 13"/>
          <p:cNvSpPr/>
          <p:nvPr/>
        </p:nvSpPr>
        <p:spPr>
          <a:xfrm>
            <a:off x="2743200" y="419112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Text Box 14"/>
          <p:cNvSpPr/>
          <p:nvPr/>
        </p:nvSpPr>
        <p:spPr>
          <a:xfrm>
            <a:off x="2743200" y="45720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.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Line 15"/>
          <p:cNvSpPr/>
          <p:nvPr/>
        </p:nvSpPr>
        <p:spPr>
          <a:xfrm>
            <a:off x="2743200" y="4572000"/>
            <a:ext cx="609480" cy="0"/>
          </a:xfrm>
          <a:prstGeom prst="line">
            <a:avLst/>
          </a:prstGeom>
          <a:ln cap="sq"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Text Box 16"/>
          <p:cNvSpPr/>
          <p:nvPr/>
        </p:nvSpPr>
        <p:spPr>
          <a:xfrm>
            <a:off x="3429000" y="441972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∙ 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Text Box 17"/>
          <p:cNvSpPr/>
          <p:nvPr/>
        </p:nvSpPr>
        <p:spPr>
          <a:xfrm>
            <a:off x="2057400" y="495288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≈ 22.9 inch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Text Box 18"/>
          <p:cNvSpPr/>
          <p:nvPr/>
        </p:nvSpPr>
        <p:spPr>
          <a:xfrm>
            <a:off x="1828800" y="5486400"/>
            <a:ext cx="35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Monotype Sorts"/>
                <a:ea typeface="Monotype Sorts"/>
              </a:rPr>
              <a:t></a:t>
            </a: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The length of the enlargement will be about 23 inch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Rectangle 19"/>
          <p:cNvSpPr/>
          <p:nvPr/>
        </p:nvSpPr>
        <p:spPr>
          <a:xfrm>
            <a:off x="5029200" y="3429000"/>
            <a:ext cx="1523880" cy="1905120"/>
          </a:xfrm>
          <a:prstGeom prst="rect">
            <a:avLst/>
          </a:prstGeom>
          <a:solidFill>
            <a:srgbClr val="000000"/>
          </a:solidFill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0" name="Picture 21" descr="liberty-bell"/>
          <p:cNvPicPr/>
          <p:nvPr/>
        </p:nvPicPr>
        <p:blipFill>
          <a:blip r:embed="rId1"/>
          <a:stretch/>
        </p:blipFill>
        <p:spPr>
          <a:xfrm>
            <a:off x="155520" y="46080"/>
            <a:ext cx="1523880" cy="152388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23" descr="liberty-bell"/>
          <p:cNvPicPr/>
          <p:nvPr/>
        </p:nvPicPr>
        <p:blipFill>
          <a:blip r:embed="rId2"/>
          <a:stretch/>
        </p:blipFill>
        <p:spPr>
          <a:xfrm>
            <a:off x="6858000" y="3429000"/>
            <a:ext cx="1447920" cy="190512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25" descr="liberty_bell"/>
          <p:cNvPicPr/>
          <p:nvPr/>
        </p:nvPicPr>
        <p:blipFill>
          <a:blip r:embed="rId3"/>
          <a:stretch/>
        </p:blipFill>
        <p:spPr>
          <a:xfrm>
            <a:off x="5029200" y="3429000"/>
            <a:ext cx="533520" cy="609480"/>
          </a:xfrm>
          <a:prstGeom prst="rect">
            <a:avLst/>
          </a:prstGeom>
          <a:ln w="0">
            <a:noFill/>
          </a:ln>
        </p:spPr>
      </p:pic>
      <p:sp>
        <p:nvSpPr>
          <p:cNvPr id="363" name="Text Box 26"/>
          <p:cNvSpPr/>
          <p:nvPr/>
        </p:nvSpPr>
        <p:spPr>
          <a:xfrm>
            <a:off x="5562720" y="350532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Text Box 27"/>
          <p:cNvSpPr/>
          <p:nvPr/>
        </p:nvSpPr>
        <p:spPr>
          <a:xfrm>
            <a:off x="5105520" y="403848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3.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Text Box 28"/>
          <p:cNvSpPr/>
          <p:nvPr/>
        </p:nvSpPr>
        <p:spPr>
          <a:xfrm>
            <a:off x="6781680" y="365760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Trip to Liberty Bel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Text Box 29"/>
          <p:cNvSpPr/>
          <p:nvPr/>
        </p:nvSpPr>
        <p:spPr>
          <a:xfrm>
            <a:off x="7086600" y="4572000"/>
            <a:ext cx="990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March 24</a:t>
            </a:r>
            <a:r>
              <a:rPr b="0" lang="en-US" sz="1200" spc="-1" strike="noStrike" baseline="30000">
                <a:solidFill>
                  <a:srgbClr val="ffff00"/>
                </a:solidFill>
                <a:latin typeface="Arial"/>
              </a:rPr>
              <a:t>th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, Sign up today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Using similar polygons in real lif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1295280" y="1600200"/>
            <a:ext cx="7391520" cy="26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c5e1fe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If two polygons are similar, then the ratio of lengths of two corresponding sides is called the scale factor.  In Example 2 on the previous page, the common ratio of    is the scale factor of WXYZ to PQRS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9" name="Text Box 4"/>
          <p:cNvSpPr/>
          <p:nvPr/>
        </p:nvSpPr>
        <p:spPr>
          <a:xfrm>
            <a:off x="8229600" y="30481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Text Box 5"/>
          <p:cNvSpPr/>
          <p:nvPr/>
        </p:nvSpPr>
        <p:spPr>
          <a:xfrm>
            <a:off x="8229600" y="34290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Line 6"/>
          <p:cNvSpPr/>
          <p:nvPr/>
        </p:nvSpPr>
        <p:spPr>
          <a:xfrm>
            <a:off x="8229600" y="3429000"/>
            <a:ext cx="304920" cy="0"/>
          </a:xfrm>
          <a:prstGeom prst="line">
            <a:avLst/>
          </a:prstGeom>
          <a:ln cap="sq"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10"/>
          <p:cNvSpPr/>
          <p:nvPr/>
        </p:nvSpPr>
        <p:spPr>
          <a:xfrm>
            <a:off x="5257800" y="2438280"/>
            <a:ext cx="2895480" cy="1828800"/>
          </a:xfrm>
          <a:prstGeom prst="rect">
            <a:avLst/>
          </a:prstGeom>
          <a:solidFill>
            <a:srgbClr val="cc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296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x. 4:  Using similar polygon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1009800" y="1809720"/>
            <a:ext cx="3471840" cy="405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c5e1fe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he rectangular patio around a pool is similar to the pool as shown.  Calculate the scale factor of the patio to the pool, and find the ratio of their perimeters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75" name="Picture 9" descr="water%2520dark%2520blu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562720" y="2819520"/>
            <a:ext cx="2209680" cy="1066680"/>
          </a:xfrm>
          <a:prstGeom prst="rect">
            <a:avLst/>
          </a:prstGeom>
          <a:ln w="0">
            <a:noFill/>
          </a:ln>
        </p:spPr>
      </p:pic>
      <p:sp>
        <p:nvSpPr>
          <p:cNvPr id="376" name="Text Box 11"/>
          <p:cNvSpPr/>
          <p:nvPr/>
        </p:nvSpPr>
        <p:spPr>
          <a:xfrm>
            <a:off x="7162920" y="32004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6 f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Text Box 12"/>
          <p:cNvSpPr/>
          <p:nvPr/>
        </p:nvSpPr>
        <p:spPr>
          <a:xfrm>
            <a:off x="8229600" y="32004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4 f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Text Box 13"/>
          <p:cNvSpPr/>
          <p:nvPr/>
        </p:nvSpPr>
        <p:spPr>
          <a:xfrm>
            <a:off x="6172200" y="35053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32 f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Text Box 14"/>
          <p:cNvSpPr/>
          <p:nvPr/>
        </p:nvSpPr>
        <p:spPr>
          <a:xfrm>
            <a:off x="6095880" y="42670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8 f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2"/>
          <p:cNvSpPr/>
          <p:nvPr/>
        </p:nvSpPr>
        <p:spPr>
          <a:xfrm>
            <a:off x="5257800" y="2438280"/>
            <a:ext cx="2895480" cy="1828800"/>
          </a:xfrm>
          <a:prstGeom prst="rect">
            <a:avLst/>
          </a:prstGeom>
          <a:solidFill>
            <a:srgbClr val="cc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380520" y="152280"/>
            <a:ext cx="4534200" cy="597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c5e1fe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Because the rectangles are similar, the scale factor of the patio to the pool is 48 ft: 32 ft. , which is 3:2 in simplified form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c5e1fe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he perimeter of the patio is 2(24) + 2(48) = 144 feet and the perimeter of the pool is 2(16) + 2(32) = 96 feet  The ratio of the perimeters is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82" name="Picture 5" descr="water%2520dark%2520blu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562720" y="2819520"/>
            <a:ext cx="2209680" cy="1066680"/>
          </a:xfrm>
          <a:prstGeom prst="rect">
            <a:avLst/>
          </a:prstGeom>
          <a:ln w="0">
            <a:noFill/>
          </a:ln>
        </p:spPr>
      </p:pic>
      <p:sp>
        <p:nvSpPr>
          <p:cNvPr id="383" name="Text Box 6"/>
          <p:cNvSpPr/>
          <p:nvPr/>
        </p:nvSpPr>
        <p:spPr>
          <a:xfrm>
            <a:off x="7162920" y="32004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6 f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Text Box 7"/>
          <p:cNvSpPr/>
          <p:nvPr/>
        </p:nvSpPr>
        <p:spPr>
          <a:xfrm>
            <a:off x="8229600" y="32004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4 f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Text Box 8"/>
          <p:cNvSpPr/>
          <p:nvPr/>
        </p:nvSpPr>
        <p:spPr>
          <a:xfrm>
            <a:off x="6172200" y="35053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32 f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Text Box 9"/>
          <p:cNvSpPr/>
          <p:nvPr/>
        </p:nvSpPr>
        <p:spPr>
          <a:xfrm>
            <a:off x="6095880" y="42670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8 f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Text Box 11"/>
          <p:cNvSpPr/>
          <p:nvPr/>
        </p:nvSpPr>
        <p:spPr>
          <a:xfrm>
            <a:off x="2590920" y="44956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4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Text Box 12"/>
          <p:cNvSpPr/>
          <p:nvPr/>
        </p:nvSpPr>
        <p:spPr>
          <a:xfrm>
            <a:off x="2666880" y="487692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9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Line 13"/>
          <p:cNvSpPr/>
          <p:nvPr/>
        </p:nvSpPr>
        <p:spPr>
          <a:xfrm>
            <a:off x="2743200" y="4876920"/>
            <a:ext cx="304920" cy="0"/>
          </a:xfrm>
          <a:prstGeom prst="line">
            <a:avLst/>
          </a:prstGeom>
          <a:ln cap="sq"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Text Box 14"/>
          <p:cNvSpPr/>
          <p:nvPr/>
        </p:nvSpPr>
        <p:spPr>
          <a:xfrm>
            <a:off x="3657600" y="44956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Text Box 15"/>
          <p:cNvSpPr/>
          <p:nvPr/>
        </p:nvSpPr>
        <p:spPr>
          <a:xfrm>
            <a:off x="3657600" y="48769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Line 16"/>
          <p:cNvSpPr/>
          <p:nvPr/>
        </p:nvSpPr>
        <p:spPr>
          <a:xfrm>
            <a:off x="3657600" y="4876920"/>
            <a:ext cx="304920" cy="0"/>
          </a:xfrm>
          <a:prstGeom prst="line">
            <a:avLst/>
          </a:prstGeom>
          <a:ln cap="sq"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Text Box 18"/>
          <p:cNvSpPr/>
          <p:nvPr/>
        </p:nvSpPr>
        <p:spPr>
          <a:xfrm>
            <a:off x="3124080" y="47242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NOTE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1295280" y="1600200"/>
            <a:ext cx="73915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c5e1fe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Notice in Example 4 that the ratio of perimeters is the same as the scale factor of the rectangles.  This observation is generalized in the following theorem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296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457200" y="1523520"/>
            <a:ext cx="3619440" cy="259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buClr>
                <a:srgbClr val="c5e1fe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Theorem 8.1:  If two polygons are similar, then the ratio of their perimeters is equal to the ratios of their corresponding parts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buClr>
                <a:srgbClr val="c5e1fe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If KLMN ~ PQRS, then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98" name="Picture 7" descr=""/>
          <p:cNvPicPr/>
          <p:nvPr/>
        </p:nvPicPr>
        <p:blipFill>
          <a:blip r:embed="rId1"/>
          <a:stretch/>
        </p:blipFill>
        <p:spPr>
          <a:xfrm>
            <a:off x="6248520" y="1676520"/>
            <a:ext cx="2085840" cy="320040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8" descr=""/>
          <p:cNvPicPr/>
          <p:nvPr/>
        </p:nvPicPr>
        <p:blipFill>
          <a:blip r:embed="rId2"/>
          <a:stretch/>
        </p:blipFill>
        <p:spPr>
          <a:xfrm>
            <a:off x="6553080" y="4648320"/>
            <a:ext cx="1343160" cy="2038320"/>
          </a:xfrm>
          <a:prstGeom prst="rect">
            <a:avLst/>
          </a:prstGeom>
          <a:ln w="0">
            <a:noFill/>
          </a:ln>
        </p:spPr>
      </p:pic>
      <p:sp>
        <p:nvSpPr>
          <p:cNvPr id="400" name="Text Box 9"/>
          <p:cNvSpPr/>
          <p:nvPr/>
        </p:nvSpPr>
        <p:spPr>
          <a:xfrm>
            <a:off x="1523880" y="41911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L + LM + MN + N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Text Box 10"/>
          <p:cNvSpPr/>
          <p:nvPr/>
        </p:nvSpPr>
        <p:spPr>
          <a:xfrm>
            <a:off x="1523880" y="46483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Q + QR + RS + S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Line 11"/>
          <p:cNvSpPr/>
          <p:nvPr/>
        </p:nvSpPr>
        <p:spPr>
          <a:xfrm>
            <a:off x="1523880" y="4572000"/>
            <a:ext cx="22100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Text Box 12"/>
          <p:cNvSpPr/>
          <p:nvPr/>
        </p:nvSpPr>
        <p:spPr>
          <a:xfrm>
            <a:off x="3809880" y="44197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Text Box 13"/>
          <p:cNvSpPr/>
          <p:nvPr/>
        </p:nvSpPr>
        <p:spPr>
          <a:xfrm>
            <a:off x="1600200" y="51814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Text Box 14"/>
          <p:cNvSpPr/>
          <p:nvPr/>
        </p:nvSpPr>
        <p:spPr>
          <a:xfrm>
            <a:off x="1600200" y="54864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Q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Line 15"/>
          <p:cNvSpPr/>
          <p:nvPr/>
        </p:nvSpPr>
        <p:spPr>
          <a:xfrm>
            <a:off x="1676520" y="5486400"/>
            <a:ext cx="53316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Text Box 16"/>
          <p:cNvSpPr/>
          <p:nvPr/>
        </p:nvSpPr>
        <p:spPr>
          <a:xfrm>
            <a:off x="2590920" y="51814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Text Box 17"/>
          <p:cNvSpPr/>
          <p:nvPr/>
        </p:nvSpPr>
        <p:spPr>
          <a:xfrm>
            <a:off x="2590920" y="54864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Line 18"/>
          <p:cNvSpPr/>
          <p:nvPr/>
        </p:nvSpPr>
        <p:spPr>
          <a:xfrm>
            <a:off x="2666880" y="5486400"/>
            <a:ext cx="53352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Text Box 19"/>
          <p:cNvSpPr/>
          <p:nvPr/>
        </p:nvSpPr>
        <p:spPr>
          <a:xfrm>
            <a:off x="3352680" y="51814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Text Box 20"/>
          <p:cNvSpPr/>
          <p:nvPr/>
        </p:nvSpPr>
        <p:spPr>
          <a:xfrm>
            <a:off x="3352680" y="54864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Line 21"/>
          <p:cNvSpPr/>
          <p:nvPr/>
        </p:nvSpPr>
        <p:spPr>
          <a:xfrm>
            <a:off x="3429000" y="5486400"/>
            <a:ext cx="53352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4267080" y="51814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Text Box 27"/>
          <p:cNvSpPr/>
          <p:nvPr/>
        </p:nvSpPr>
        <p:spPr>
          <a:xfrm>
            <a:off x="4267080" y="54864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Line 28"/>
          <p:cNvSpPr/>
          <p:nvPr/>
        </p:nvSpPr>
        <p:spPr>
          <a:xfrm>
            <a:off x="4343400" y="5486400"/>
            <a:ext cx="53352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Text Box 29"/>
          <p:cNvSpPr/>
          <p:nvPr/>
        </p:nvSpPr>
        <p:spPr>
          <a:xfrm>
            <a:off x="2209680" y="53341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Text Box 30"/>
          <p:cNvSpPr/>
          <p:nvPr/>
        </p:nvSpPr>
        <p:spPr>
          <a:xfrm>
            <a:off x="3200400" y="52578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Text Box 31"/>
          <p:cNvSpPr/>
          <p:nvPr/>
        </p:nvSpPr>
        <p:spPr>
          <a:xfrm>
            <a:off x="3962520" y="53341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296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x. 5:  Using Similar Polygon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380520" y="1600200"/>
            <a:ext cx="45342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c5e1fe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Quadrilateral JKLM is similar to PQRS.  Find the value of z. 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t up a proportion that contains PQ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21" name="Picture 6" descr=""/>
          <p:cNvPicPr/>
          <p:nvPr/>
        </p:nvPicPr>
        <p:blipFill>
          <a:blip r:embed="rId1"/>
          <a:stretch/>
        </p:blipFill>
        <p:spPr>
          <a:xfrm>
            <a:off x="4876920" y="1295280"/>
            <a:ext cx="2286000" cy="176400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8" descr=""/>
          <p:cNvPicPr/>
          <p:nvPr/>
        </p:nvPicPr>
        <p:blipFill>
          <a:blip r:embed="rId2"/>
          <a:stretch/>
        </p:blipFill>
        <p:spPr>
          <a:xfrm>
            <a:off x="7315200" y="1143000"/>
            <a:ext cx="1271520" cy="1020600"/>
          </a:xfrm>
          <a:prstGeom prst="rect">
            <a:avLst/>
          </a:prstGeom>
          <a:ln w="0">
            <a:noFill/>
          </a:ln>
        </p:spPr>
      </p:pic>
      <p:sp>
        <p:nvSpPr>
          <p:cNvPr id="423" name="Text Box 16"/>
          <p:cNvSpPr/>
          <p:nvPr/>
        </p:nvSpPr>
        <p:spPr>
          <a:xfrm>
            <a:off x="3200400" y="38862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Text Box 17"/>
          <p:cNvSpPr/>
          <p:nvPr/>
        </p:nvSpPr>
        <p:spPr>
          <a:xfrm>
            <a:off x="3200400" y="41911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Line 18"/>
          <p:cNvSpPr/>
          <p:nvPr/>
        </p:nvSpPr>
        <p:spPr>
          <a:xfrm>
            <a:off x="3276720" y="4191120"/>
            <a:ext cx="53316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Text Box 19"/>
          <p:cNvSpPr/>
          <p:nvPr/>
        </p:nvSpPr>
        <p:spPr>
          <a:xfrm>
            <a:off x="4191120" y="38862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Text Box 20"/>
          <p:cNvSpPr/>
          <p:nvPr/>
        </p:nvSpPr>
        <p:spPr>
          <a:xfrm>
            <a:off x="4191120" y="41911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Q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Line 21"/>
          <p:cNvSpPr/>
          <p:nvPr/>
        </p:nvSpPr>
        <p:spPr>
          <a:xfrm>
            <a:off x="4267080" y="4191120"/>
            <a:ext cx="53352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Text Box 22"/>
          <p:cNvSpPr/>
          <p:nvPr/>
        </p:nvSpPr>
        <p:spPr>
          <a:xfrm>
            <a:off x="3809880" y="40384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Text Box 23"/>
          <p:cNvSpPr/>
          <p:nvPr/>
        </p:nvSpPr>
        <p:spPr>
          <a:xfrm>
            <a:off x="3200400" y="45720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Text Box 24"/>
          <p:cNvSpPr/>
          <p:nvPr/>
        </p:nvSpPr>
        <p:spPr>
          <a:xfrm>
            <a:off x="3200400" y="48769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Line 25"/>
          <p:cNvSpPr/>
          <p:nvPr/>
        </p:nvSpPr>
        <p:spPr>
          <a:xfrm>
            <a:off x="3276720" y="4876920"/>
            <a:ext cx="53316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Text Box 26"/>
          <p:cNvSpPr/>
          <p:nvPr/>
        </p:nvSpPr>
        <p:spPr>
          <a:xfrm>
            <a:off x="4191120" y="45720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Text Box 27"/>
          <p:cNvSpPr/>
          <p:nvPr/>
        </p:nvSpPr>
        <p:spPr>
          <a:xfrm>
            <a:off x="4191120" y="48769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Line 28"/>
          <p:cNvSpPr/>
          <p:nvPr/>
        </p:nvSpPr>
        <p:spPr>
          <a:xfrm>
            <a:off x="4267080" y="4876920"/>
            <a:ext cx="53352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Text Box 29"/>
          <p:cNvSpPr/>
          <p:nvPr/>
        </p:nvSpPr>
        <p:spPr>
          <a:xfrm>
            <a:off x="3809880" y="47242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Text Box 30"/>
          <p:cNvSpPr/>
          <p:nvPr/>
        </p:nvSpPr>
        <p:spPr>
          <a:xfrm>
            <a:off x="3581280" y="556272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Z = 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Text Box 31"/>
          <p:cNvSpPr/>
          <p:nvPr/>
        </p:nvSpPr>
        <p:spPr>
          <a:xfrm>
            <a:off x="5334120" y="3505320"/>
            <a:ext cx="342900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Write the propor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Substitu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Cross multiply and divide by 15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296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Objectiv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1009800" y="1809720"/>
            <a:ext cx="3471840" cy="405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c5e1fe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Identify similar polygon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c5e1fe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Use similar polygons to solve real-life problems, such as making an enlargement similar to an original photo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662360" y="1809720"/>
            <a:ext cx="3470400" cy="405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c5e1fe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dentifying similar polygon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buClr>
                <a:srgbClr val="c5e1fe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When there is a correspondence between two polygons such that their corresponding angles are congruent and the lengths of corresponding sides are proportional the two polygons are called similar polygons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buClr>
                <a:srgbClr val="c5e1fe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In the next slide, ABCD is similar to EFGH.  The symbol ~ is used to indicate similarity.  So, ABCD ~ EFGH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milar polygon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4" name="Picture 5" descr=""/>
          <p:cNvPicPr/>
          <p:nvPr/>
        </p:nvPicPr>
        <p:blipFill>
          <a:blip r:embed="rId1"/>
          <a:stretch/>
        </p:blipFill>
        <p:spPr>
          <a:xfrm>
            <a:off x="696960" y="990720"/>
            <a:ext cx="2589120" cy="335268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6" descr=""/>
          <p:cNvPicPr/>
          <p:nvPr/>
        </p:nvPicPr>
        <p:blipFill>
          <a:blip r:embed="rId2"/>
          <a:stretch/>
        </p:blipFill>
        <p:spPr>
          <a:xfrm>
            <a:off x="4114800" y="1676520"/>
            <a:ext cx="1266840" cy="164772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7"/>
          <p:cNvSpPr/>
          <p:nvPr/>
        </p:nvSpPr>
        <p:spPr>
          <a:xfrm>
            <a:off x="3886200" y="19051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Text Box 8"/>
          <p:cNvSpPr/>
          <p:nvPr/>
        </p:nvSpPr>
        <p:spPr>
          <a:xfrm>
            <a:off x="4800600" y="14479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Text Box 9"/>
          <p:cNvSpPr/>
          <p:nvPr/>
        </p:nvSpPr>
        <p:spPr>
          <a:xfrm>
            <a:off x="3886200" y="32004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Text Box 10"/>
          <p:cNvSpPr/>
          <p:nvPr/>
        </p:nvSpPr>
        <p:spPr>
          <a:xfrm>
            <a:off x="5334120" y="297180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Arc 11"/>
          <p:cNvSpPr/>
          <p:nvPr/>
        </p:nvSpPr>
        <p:spPr>
          <a:xfrm rot="10168200">
            <a:off x="1905120" y="1599480"/>
            <a:ext cx="304560" cy="2286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sq" w="1260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Arc 12"/>
          <p:cNvSpPr/>
          <p:nvPr/>
        </p:nvSpPr>
        <p:spPr>
          <a:xfrm rot="10168200">
            <a:off x="4600080" y="1825200"/>
            <a:ext cx="274680" cy="228600"/>
          </a:xfrm>
          <a:custGeom>
            <a:avLst/>
            <a:gdLst/>
            <a:ahLst/>
            <a:rect l="l" t="t" r="r" b="b"/>
            <a:pathLst>
              <a:path fill="none" w="19418" h="21600">
                <a:moveTo>
                  <a:pt x="-1" y="0"/>
                </a:moveTo>
                <a:cubicBezTo>
                  <a:pt x="8261" y="0"/>
                  <a:pt x="15799" y="4712"/>
                  <a:pt x="19418" y="12139"/>
                </a:cubicBezTo>
              </a:path>
              <a:path stroke="0" w="19418" h="21600">
                <a:moveTo>
                  <a:pt x="-1" y="0"/>
                </a:moveTo>
                <a:cubicBezTo>
                  <a:pt x="8261" y="0"/>
                  <a:pt x="15799" y="4712"/>
                  <a:pt x="19418" y="12139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sq" w="1260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Arc 13"/>
          <p:cNvSpPr/>
          <p:nvPr/>
        </p:nvSpPr>
        <p:spPr>
          <a:xfrm flipH="1" rot="20663400">
            <a:off x="2361240" y="3276360"/>
            <a:ext cx="380880" cy="3042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sq" w="1260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Arc 14"/>
          <p:cNvSpPr/>
          <p:nvPr/>
        </p:nvSpPr>
        <p:spPr>
          <a:xfrm flipH="1" rot="21127200">
            <a:off x="2512080" y="3349800"/>
            <a:ext cx="226800" cy="2286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sq" w="1260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Arc 15"/>
          <p:cNvSpPr/>
          <p:nvPr/>
        </p:nvSpPr>
        <p:spPr>
          <a:xfrm flipH="1" rot="20663400">
            <a:off x="4801680" y="2822040"/>
            <a:ext cx="381240" cy="30492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sq" w="1260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Arc 16"/>
          <p:cNvSpPr/>
          <p:nvPr/>
        </p:nvSpPr>
        <p:spPr>
          <a:xfrm flipH="1" rot="21127200">
            <a:off x="4952520" y="2895480"/>
            <a:ext cx="227160" cy="2286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sq" w="1260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Arc 17"/>
          <p:cNvSpPr/>
          <p:nvPr/>
        </p:nvSpPr>
        <p:spPr>
          <a:xfrm>
            <a:off x="4267080" y="3048120"/>
            <a:ext cx="152640" cy="1522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sq" w="1260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Arc 18"/>
          <p:cNvSpPr/>
          <p:nvPr/>
        </p:nvSpPr>
        <p:spPr>
          <a:xfrm rot="20643000">
            <a:off x="4276800" y="2893680"/>
            <a:ext cx="152280" cy="30492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sq" w="1260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Arc 19"/>
          <p:cNvSpPr/>
          <p:nvPr/>
        </p:nvSpPr>
        <p:spPr>
          <a:xfrm rot="427200">
            <a:off x="4265640" y="2898720"/>
            <a:ext cx="304920" cy="2286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sq" w="1260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Arc 20"/>
          <p:cNvSpPr/>
          <p:nvPr/>
        </p:nvSpPr>
        <p:spPr>
          <a:xfrm>
            <a:off x="1143000" y="3581280"/>
            <a:ext cx="152280" cy="15264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sq" w="1260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Arc 21"/>
          <p:cNvSpPr/>
          <p:nvPr/>
        </p:nvSpPr>
        <p:spPr>
          <a:xfrm>
            <a:off x="1143000" y="3429000"/>
            <a:ext cx="304920" cy="380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sq" w="1260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Arc 22"/>
          <p:cNvSpPr/>
          <p:nvPr/>
        </p:nvSpPr>
        <p:spPr>
          <a:xfrm>
            <a:off x="1143000" y="3200400"/>
            <a:ext cx="457200" cy="53352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sq" w="1260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Arc 23"/>
          <p:cNvSpPr/>
          <p:nvPr/>
        </p:nvSpPr>
        <p:spPr>
          <a:xfrm flipH="1" rot="11415600">
            <a:off x="4267080" y="2133360"/>
            <a:ext cx="76320" cy="30456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sq" w="1260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Arc 24"/>
          <p:cNvSpPr/>
          <p:nvPr/>
        </p:nvSpPr>
        <p:spPr>
          <a:xfrm flipH="1" rot="11206800">
            <a:off x="4266000" y="2057400"/>
            <a:ext cx="152640" cy="4572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sq" w="1260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Arc 25"/>
          <p:cNvSpPr/>
          <p:nvPr/>
        </p:nvSpPr>
        <p:spPr>
          <a:xfrm flipH="1" rot="11005800">
            <a:off x="4266000" y="2057400"/>
            <a:ext cx="228600" cy="53352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sq" w="1260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Arc 26"/>
          <p:cNvSpPr/>
          <p:nvPr/>
        </p:nvSpPr>
        <p:spPr>
          <a:xfrm flipH="1" rot="10800000">
            <a:off x="4266000" y="2057040"/>
            <a:ext cx="304920" cy="6094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sq" w="1260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Arc 27"/>
          <p:cNvSpPr/>
          <p:nvPr/>
        </p:nvSpPr>
        <p:spPr>
          <a:xfrm flipH="1" rot="10800000">
            <a:off x="1141920" y="2057040"/>
            <a:ext cx="152280" cy="30492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sq" w="1260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Arc 28"/>
          <p:cNvSpPr/>
          <p:nvPr/>
        </p:nvSpPr>
        <p:spPr>
          <a:xfrm flipH="1" rot="11088000">
            <a:off x="1141920" y="1981080"/>
            <a:ext cx="228600" cy="45684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sq" w="1260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Arc 29"/>
          <p:cNvSpPr/>
          <p:nvPr/>
        </p:nvSpPr>
        <p:spPr>
          <a:xfrm flipH="1" rot="10800000">
            <a:off x="1141920" y="1981080"/>
            <a:ext cx="304920" cy="60984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sq" w="1260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Arc 30"/>
          <p:cNvSpPr/>
          <p:nvPr/>
        </p:nvSpPr>
        <p:spPr>
          <a:xfrm flipH="1" rot="10656600">
            <a:off x="1141920" y="1904760"/>
            <a:ext cx="380880" cy="76176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sq" w="1260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Text Box 31"/>
          <p:cNvSpPr/>
          <p:nvPr/>
        </p:nvSpPr>
        <p:spPr>
          <a:xfrm>
            <a:off x="1676520" y="472428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A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Line 33"/>
          <p:cNvSpPr/>
          <p:nvPr/>
        </p:nvSpPr>
        <p:spPr>
          <a:xfrm>
            <a:off x="1676520" y="5257800"/>
            <a:ext cx="609480" cy="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Text Box 34"/>
          <p:cNvSpPr/>
          <p:nvPr/>
        </p:nvSpPr>
        <p:spPr>
          <a:xfrm>
            <a:off x="2133720" y="495288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Line 37"/>
          <p:cNvSpPr/>
          <p:nvPr/>
        </p:nvSpPr>
        <p:spPr>
          <a:xfrm>
            <a:off x="2590920" y="5257800"/>
            <a:ext cx="609480" cy="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Line 40"/>
          <p:cNvSpPr/>
          <p:nvPr/>
        </p:nvSpPr>
        <p:spPr>
          <a:xfrm>
            <a:off x="4038480" y="5257800"/>
            <a:ext cx="609840" cy="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Text Box 41"/>
          <p:cNvSpPr/>
          <p:nvPr/>
        </p:nvSpPr>
        <p:spPr>
          <a:xfrm>
            <a:off x="4495680" y="495288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Line 44"/>
          <p:cNvSpPr/>
          <p:nvPr/>
        </p:nvSpPr>
        <p:spPr>
          <a:xfrm>
            <a:off x="4952880" y="5257800"/>
            <a:ext cx="609840" cy="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Text Box 45"/>
          <p:cNvSpPr/>
          <p:nvPr/>
        </p:nvSpPr>
        <p:spPr>
          <a:xfrm>
            <a:off x="1676520" y="53341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Text Box 46"/>
          <p:cNvSpPr/>
          <p:nvPr/>
        </p:nvSpPr>
        <p:spPr>
          <a:xfrm>
            <a:off x="2514600" y="4648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B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Text Box 47"/>
          <p:cNvSpPr/>
          <p:nvPr/>
        </p:nvSpPr>
        <p:spPr>
          <a:xfrm>
            <a:off x="2514600" y="53341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F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 Box 48"/>
          <p:cNvSpPr/>
          <p:nvPr/>
        </p:nvSpPr>
        <p:spPr>
          <a:xfrm>
            <a:off x="3276720" y="502920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Text Box 49"/>
          <p:cNvSpPr/>
          <p:nvPr/>
        </p:nvSpPr>
        <p:spPr>
          <a:xfrm>
            <a:off x="3962520" y="4800600"/>
            <a:ext cx="76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C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Text Box 50"/>
          <p:cNvSpPr/>
          <p:nvPr/>
        </p:nvSpPr>
        <p:spPr>
          <a:xfrm>
            <a:off x="3962520" y="52578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G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Text Box 51"/>
          <p:cNvSpPr/>
          <p:nvPr/>
        </p:nvSpPr>
        <p:spPr>
          <a:xfrm>
            <a:off x="4876920" y="4800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D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Text Box 52"/>
          <p:cNvSpPr/>
          <p:nvPr/>
        </p:nvSpPr>
        <p:spPr>
          <a:xfrm>
            <a:off x="4876920" y="52578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H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Text Box 53"/>
          <p:cNvSpPr/>
          <p:nvPr/>
        </p:nvSpPr>
        <p:spPr>
          <a:xfrm>
            <a:off x="1676520" y="472428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A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Line 54"/>
          <p:cNvSpPr/>
          <p:nvPr/>
        </p:nvSpPr>
        <p:spPr>
          <a:xfrm>
            <a:off x="1676520" y="5257800"/>
            <a:ext cx="609480" cy="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Text Box 55"/>
          <p:cNvSpPr/>
          <p:nvPr/>
        </p:nvSpPr>
        <p:spPr>
          <a:xfrm>
            <a:off x="2133720" y="495288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Text Box 56"/>
          <p:cNvSpPr/>
          <p:nvPr/>
        </p:nvSpPr>
        <p:spPr>
          <a:xfrm>
            <a:off x="1676520" y="53341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Ex. 1:  Writing Similarity Statement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c5e1fe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Pentagons JKLMN and STUVW are similar.  List all the pairs of congruent angles.  Write the ratios of the corresponding sides in a statement of proportionality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51" name="Picture 4" descr=""/>
          <p:cNvPicPr/>
          <p:nvPr/>
        </p:nvPicPr>
        <p:blipFill>
          <a:blip r:embed="rId1"/>
          <a:stretch/>
        </p:blipFill>
        <p:spPr>
          <a:xfrm>
            <a:off x="1963800" y="4191120"/>
            <a:ext cx="2054160" cy="297180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5" descr=""/>
          <p:cNvPicPr/>
          <p:nvPr/>
        </p:nvPicPr>
        <p:blipFill>
          <a:blip r:embed="rId2"/>
          <a:stretch/>
        </p:blipFill>
        <p:spPr>
          <a:xfrm>
            <a:off x="5105520" y="4114800"/>
            <a:ext cx="14382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Ex. 1:  Writing Similarity Statement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54" name="Picture 4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2054520" cy="297180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5" descr=""/>
          <p:cNvPicPr/>
          <p:nvPr/>
        </p:nvPicPr>
        <p:blipFill>
          <a:blip r:embed="rId2"/>
          <a:stretch/>
        </p:blipFill>
        <p:spPr>
          <a:xfrm>
            <a:off x="2438280" y="1600200"/>
            <a:ext cx="1438560" cy="2057400"/>
          </a:xfrm>
          <a:prstGeom prst="rect">
            <a:avLst/>
          </a:prstGeom>
          <a:ln w="0">
            <a:noFill/>
          </a:ln>
        </p:spPr>
      </p:pic>
      <p:sp>
        <p:nvSpPr>
          <p:cNvPr id="256" name="Text Box 6"/>
          <p:cNvSpPr/>
          <p:nvPr/>
        </p:nvSpPr>
        <p:spPr>
          <a:xfrm>
            <a:off x="3962520" y="1714680"/>
            <a:ext cx="4267080" cy="28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ecause JKLMN ~ STUVW, you can write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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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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S,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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K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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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,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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L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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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U,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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M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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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V AND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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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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W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You can write the proportionality statement as follow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Line 7"/>
          <p:cNvSpPr/>
          <p:nvPr/>
        </p:nvSpPr>
        <p:spPr>
          <a:xfrm>
            <a:off x="2590920" y="5257800"/>
            <a:ext cx="609480" cy="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Text Box 8"/>
          <p:cNvSpPr/>
          <p:nvPr/>
        </p:nvSpPr>
        <p:spPr>
          <a:xfrm>
            <a:off x="2514600" y="472428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K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Text Box 9"/>
          <p:cNvSpPr/>
          <p:nvPr/>
        </p:nvSpPr>
        <p:spPr>
          <a:xfrm>
            <a:off x="2514600" y="525780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T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Text Box 10"/>
          <p:cNvSpPr/>
          <p:nvPr/>
        </p:nvSpPr>
        <p:spPr>
          <a:xfrm>
            <a:off x="3276720" y="502920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Text Box 11"/>
          <p:cNvSpPr/>
          <p:nvPr/>
        </p:nvSpPr>
        <p:spPr>
          <a:xfrm>
            <a:off x="1676520" y="472428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J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Line 12"/>
          <p:cNvSpPr/>
          <p:nvPr/>
        </p:nvSpPr>
        <p:spPr>
          <a:xfrm>
            <a:off x="1676520" y="5257800"/>
            <a:ext cx="609480" cy="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Text Box 13"/>
          <p:cNvSpPr/>
          <p:nvPr/>
        </p:nvSpPr>
        <p:spPr>
          <a:xfrm>
            <a:off x="2133720" y="495288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Text Box 14"/>
          <p:cNvSpPr/>
          <p:nvPr/>
        </p:nvSpPr>
        <p:spPr>
          <a:xfrm>
            <a:off x="1676520" y="525780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Line 15"/>
          <p:cNvSpPr/>
          <p:nvPr/>
        </p:nvSpPr>
        <p:spPr>
          <a:xfrm>
            <a:off x="4648320" y="5257800"/>
            <a:ext cx="609480" cy="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Text Box 16"/>
          <p:cNvSpPr/>
          <p:nvPr/>
        </p:nvSpPr>
        <p:spPr>
          <a:xfrm>
            <a:off x="4572000" y="47242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M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Text Box 17"/>
          <p:cNvSpPr/>
          <p:nvPr/>
        </p:nvSpPr>
        <p:spPr>
          <a:xfrm>
            <a:off x="4572000" y="52578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V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Text Box 18"/>
          <p:cNvSpPr/>
          <p:nvPr/>
        </p:nvSpPr>
        <p:spPr>
          <a:xfrm>
            <a:off x="5334120" y="502920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Text Box 19"/>
          <p:cNvSpPr/>
          <p:nvPr/>
        </p:nvSpPr>
        <p:spPr>
          <a:xfrm>
            <a:off x="3733920" y="472428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L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Line 20"/>
          <p:cNvSpPr/>
          <p:nvPr/>
        </p:nvSpPr>
        <p:spPr>
          <a:xfrm>
            <a:off x="3733920" y="5257800"/>
            <a:ext cx="609480" cy="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Text Box 21"/>
          <p:cNvSpPr/>
          <p:nvPr/>
        </p:nvSpPr>
        <p:spPr>
          <a:xfrm>
            <a:off x="4191120" y="495288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Text Box 22"/>
          <p:cNvSpPr/>
          <p:nvPr/>
        </p:nvSpPr>
        <p:spPr>
          <a:xfrm>
            <a:off x="3733920" y="525780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UV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Text Box 27"/>
          <p:cNvSpPr/>
          <p:nvPr/>
        </p:nvSpPr>
        <p:spPr>
          <a:xfrm>
            <a:off x="5867280" y="472428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NJ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Line 28"/>
          <p:cNvSpPr/>
          <p:nvPr/>
        </p:nvSpPr>
        <p:spPr>
          <a:xfrm>
            <a:off x="5867280" y="5257800"/>
            <a:ext cx="609840" cy="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Text Box 30"/>
          <p:cNvSpPr/>
          <p:nvPr/>
        </p:nvSpPr>
        <p:spPr>
          <a:xfrm>
            <a:off x="5867280" y="52578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Ex. 2:  Comparing Similar Polygon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990360" y="1752120"/>
            <a:ext cx="739116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c5e1fe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Decide whether the figures are similar.  If  they are similar, write a similarity statement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78" name="Picture 4" descr=""/>
          <p:cNvPicPr/>
          <p:nvPr/>
        </p:nvPicPr>
        <p:blipFill>
          <a:blip r:embed="rId1"/>
          <a:stretch/>
        </p:blipFill>
        <p:spPr>
          <a:xfrm>
            <a:off x="1600200" y="3200400"/>
            <a:ext cx="3489480" cy="380988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5" descr=""/>
          <p:cNvPicPr/>
          <p:nvPr/>
        </p:nvPicPr>
        <p:blipFill>
          <a:blip r:embed="rId2"/>
          <a:stretch/>
        </p:blipFill>
        <p:spPr>
          <a:xfrm>
            <a:off x="5562720" y="3352680"/>
            <a:ext cx="192384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Picture 4" descr=""/>
          <p:cNvPicPr/>
          <p:nvPr/>
        </p:nvPicPr>
        <p:blipFill>
          <a:blip r:embed="rId1"/>
          <a:stretch/>
        </p:blipFill>
        <p:spPr>
          <a:xfrm>
            <a:off x="228600" y="0"/>
            <a:ext cx="3489480" cy="380988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5" descr=""/>
          <p:cNvPicPr/>
          <p:nvPr/>
        </p:nvPicPr>
        <p:blipFill>
          <a:blip r:embed="rId2"/>
          <a:stretch/>
        </p:blipFill>
        <p:spPr>
          <a:xfrm>
            <a:off x="3733920" y="0"/>
            <a:ext cx="1923840" cy="2295360"/>
          </a:xfrm>
          <a:prstGeom prst="rect">
            <a:avLst/>
          </a:prstGeom>
          <a:ln w="0">
            <a:noFill/>
          </a:ln>
        </p:spPr>
      </p:pic>
      <p:sp>
        <p:nvSpPr>
          <p:cNvPr id="282" name="Arc 6"/>
          <p:cNvSpPr/>
          <p:nvPr/>
        </p:nvSpPr>
        <p:spPr>
          <a:xfrm>
            <a:off x="838080" y="2971800"/>
            <a:ext cx="152640" cy="30492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sq" w="1260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Arc 9"/>
          <p:cNvSpPr/>
          <p:nvPr/>
        </p:nvSpPr>
        <p:spPr>
          <a:xfrm flipH="1" rot="11563800">
            <a:off x="1447200" y="533520"/>
            <a:ext cx="228600" cy="30456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sq" w="1260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Arc 10"/>
          <p:cNvSpPr/>
          <p:nvPr/>
        </p:nvSpPr>
        <p:spPr>
          <a:xfrm flipH="1" rot="10598400">
            <a:off x="1371240" y="532800"/>
            <a:ext cx="457200" cy="38124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sq" w="1260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Arc 12"/>
          <p:cNvSpPr/>
          <p:nvPr/>
        </p:nvSpPr>
        <p:spPr>
          <a:xfrm flipH="1">
            <a:off x="2971080" y="2362320"/>
            <a:ext cx="228600" cy="30456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sq" w="1260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Arc 13"/>
          <p:cNvSpPr/>
          <p:nvPr/>
        </p:nvSpPr>
        <p:spPr>
          <a:xfrm flipH="1">
            <a:off x="2819520" y="2286000"/>
            <a:ext cx="380880" cy="4572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sq" w="1260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Arc 14"/>
          <p:cNvSpPr/>
          <p:nvPr/>
        </p:nvSpPr>
        <p:spPr>
          <a:xfrm flipH="1">
            <a:off x="2666880" y="2209680"/>
            <a:ext cx="533520" cy="53352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sq" w="1260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Arc 15"/>
          <p:cNvSpPr/>
          <p:nvPr/>
        </p:nvSpPr>
        <p:spPr>
          <a:xfrm>
            <a:off x="4038480" y="1752480"/>
            <a:ext cx="304920" cy="15264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sq" w="1260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Arc 16"/>
          <p:cNvSpPr/>
          <p:nvPr/>
        </p:nvSpPr>
        <p:spPr>
          <a:xfrm flipH="1">
            <a:off x="5257800" y="1447920"/>
            <a:ext cx="76320" cy="1522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sq" w="1260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Arc 17"/>
          <p:cNvSpPr/>
          <p:nvPr/>
        </p:nvSpPr>
        <p:spPr>
          <a:xfrm flipH="1">
            <a:off x="5104800" y="1295280"/>
            <a:ext cx="228600" cy="38124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sq" w="1260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Arc 18"/>
          <p:cNvSpPr/>
          <p:nvPr/>
        </p:nvSpPr>
        <p:spPr>
          <a:xfrm flipH="1">
            <a:off x="4952160" y="1143000"/>
            <a:ext cx="381240" cy="53352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sq" w="1260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Arc 19"/>
          <p:cNvSpPr/>
          <p:nvPr/>
        </p:nvSpPr>
        <p:spPr>
          <a:xfrm flipH="1" rot="9741000">
            <a:off x="4343760" y="391680"/>
            <a:ext cx="304920" cy="7632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sq" w="1260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Arc 20"/>
          <p:cNvSpPr/>
          <p:nvPr/>
        </p:nvSpPr>
        <p:spPr>
          <a:xfrm flipV="1" rot="20864400">
            <a:off x="4343040" y="388080"/>
            <a:ext cx="380880" cy="15264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sq" w="1260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Text Box 21"/>
          <p:cNvSpPr/>
          <p:nvPr/>
        </p:nvSpPr>
        <p:spPr>
          <a:xfrm>
            <a:off x="5715000" y="228600"/>
            <a:ext cx="327672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LUTION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s shown, the corresponding angles of WXYZ and PQRS are congruent.  Also, the corresponding side lengths are proportional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Text Box 22"/>
          <p:cNvSpPr/>
          <p:nvPr/>
        </p:nvSpPr>
        <p:spPr>
          <a:xfrm>
            <a:off x="3657600" y="26668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Text Box 23"/>
          <p:cNvSpPr/>
          <p:nvPr/>
        </p:nvSpPr>
        <p:spPr>
          <a:xfrm>
            <a:off x="3657600" y="30481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Q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Line 24"/>
          <p:cNvSpPr/>
          <p:nvPr/>
        </p:nvSpPr>
        <p:spPr>
          <a:xfrm>
            <a:off x="3657600" y="3048120"/>
            <a:ext cx="457200" cy="0"/>
          </a:xfrm>
          <a:prstGeom prst="line">
            <a:avLst/>
          </a:prstGeom>
          <a:ln cap="sq"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Text Box 25"/>
          <p:cNvSpPr/>
          <p:nvPr/>
        </p:nvSpPr>
        <p:spPr>
          <a:xfrm>
            <a:off x="4267080" y="281952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Text Box 26"/>
          <p:cNvSpPr/>
          <p:nvPr/>
        </p:nvSpPr>
        <p:spPr>
          <a:xfrm>
            <a:off x="4800600" y="26668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Text Box 27"/>
          <p:cNvSpPr/>
          <p:nvPr/>
        </p:nvSpPr>
        <p:spPr>
          <a:xfrm>
            <a:off x="4800600" y="30481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Line 28"/>
          <p:cNvSpPr/>
          <p:nvPr/>
        </p:nvSpPr>
        <p:spPr>
          <a:xfrm>
            <a:off x="4800600" y="3048120"/>
            <a:ext cx="457200" cy="0"/>
          </a:xfrm>
          <a:prstGeom prst="line">
            <a:avLst/>
          </a:prstGeom>
          <a:ln cap="sq"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Text Box 29"/>
          <p:cNvSpPr/>
          <p:nvPr/>
        </p:nvSpPr>
        <p:spPr>
          <a:xfrm>
            <a:off x="5410080" y="281952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Text Box 30"/>
          <p:cNvSpPr/>
          <p:nvPr/>
        </p:nvSpPr>
        <p:spPr>
          <a:xfrm>
            <a:off x="5715000" y="26668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Text Box 31"/>
          <p:cNvSpPr/>
          <p:nvPr/>
        </p:nvSpPr>
        <p:spPr>
          <a:xfrm>
            <a:off x="5715000" y="30481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Line 32"/>
          <p:cNvSpPr/>
          <p:nvPr/>
        </p:nvSpPr>
        <p:spPr>
          <a:xfrm>
            <a:off x="5715000" y="3048120"/>
            <a:ext cx="304920" cy="0"/>
          </a:xfrm>
          <a:prstGeom prst="line">
            <a:avLst/>
          </a:prstGeom>
          <a:ln cap="sq"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Text Box 34"/>
          <p:cNvSpPr/>
          <p:nvPr/>
        </p:nvSpPr>
        <p:spPr>
          <a:xfrm>
            <a:off x="762120" y="38098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Text Box 35"/>
          <p:cNvSpPr/>
          <p:nvPr/>
        </p:nvSpPr>
        <p:spPr>
          <a:xfrm>
            <a:off x="762120" y="41911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Line 36"/>
          <p:cNvSpPr/>
          <p:nvPr/>
        </p:nvSpPr>
        <p:spPr>
          <a:xfrm>
            <a:off x="762120" y="4191120"/>
            <a:ext cx="457200" cy="0"/>
          </a:xfrm>
          <a:prstGeom prst="line">
            <a:avLst/>
          </a:prstGeom>
          <a:ln cap="sq"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Text Box 37"/>
          <p:cNvSpPr/>
          <p:nvPr/>
        </p:nvSpPr>
        <p:spPr>
          <a:xfrm>
            <a:off x="1371600" y="39625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Text Box 38"/>
          <p:cNvSpPr/>
          <p:nvPr/>
        </p:nvSpPr>
        <p:spPr>
          <a:xfrm>
            <a:off x="1905120" y="38098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Text Box 39"/>
          <p:cNvSpPr/>
          <p:nvPr/>
        </p:nvSpPr>
        <p:spPr>
          <a:xfrm>
            <a:off x="1905120" y="41911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Line 40"/>
          <p:cNvSpPr/>
          <p:nvPr/>
        </p:nvSpPr>
        <p:spPr>
          <a:xfrm>
            <a:off x="1905120" y="4191120"/>
            <a:ext cx="457200" cy="0"/>
          </a:xfrm>
          <a:prstGeom prst="line">
            <a:avLst/>
          </a:prstGeom>
          <a:ln cap="sq"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Text Box 41"/>
          <p:cNvSpPr/>
          <p:nvPr/>
        </p:nvSpPr>
        <p:spPr>
          <a:xfrm>
            <a:off x="2514600" y="39625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Text Box 42"/>
          <p:cNvSpPr/>
          <p:nvPr/>
        </p:nvSpPr>
        <p:spPr>
          <a:xfrm>
            <a:off x="2819520" y="38098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Text Box 43"/>
          <p:cNvSpPr/>
          <p:nvPr/>
        </p:nvSpPr>
        <p:spPr>
          <a:xfrm>
            <a:off x="2819520" y="41911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Line 44"/>
          <p:cNvSpPr/>
          <p:nvPr/>
        </p:nvSpPr>
        <p:spPr>
          <a:xfrm>
            <a:off x="2819520" y="4191120"/>
            <a:ext cx="304560" cy="0"/>
          </a:xfrm>
          <a:prstGeom prst="line">
            <a:avLst/>
          </a:prstGeom>
          <a:ln cap="sq"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Text Box 45"/>
          <p:cNvSpPr/>
          <p:nvPr/>
        </p:nvSpPr>
        <p:spPr>
          <a:xfrm>
            <a:off x="5867280" y="373392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Text Box 46"/>
          <p:cNvSpPr/>
          <p:nvPr/>
        </p:nvSpPr>
        <p:spPr>
          <a:xfrm>
            <a:off x="5867280" y="411480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Line 47"/>
          <p:cNvSpPr/>
          <p:nvPr/>
        </p:nvSpPr>
        <p:spPr>
          <a:xfrm>
            <a:off x="5867280" y="4114800"/>
            <a:ext cx="457200" cy="0"/>
          </a:xfrm>
          <a:prstGeom prst="line">
            <a:avLst/>
          </a:prstGeom>
          <a:ln cap="sq"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Text Box 48"/>
          <p:cNvSpPr/>
          <p:nvPr/>
        </p:nvSpPr>
        <p:spPr>
          <a:xfrm>
            <a:off x="6477120" y="38862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Text Box 49"/>
          <p:cNvSpPr/>
          <p:nvPr/>
        </p:nvSpPr>
        <p:spPr>
          <a:xfrm>
            <a:off x="7010280" y="373392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Text Box 50"/>
          <p:cNvSpPr/>
          <p:nvPr/>
        </p:nvSpPr>
        <p:spPr>
          <a:xfrm>
            <a:off x="7010280" y="411480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Line 51"/>
          <p:cNvSpPr/>
          <p:nvPr/>
        </p:nvSpPr>
        <p:spPr>
          <a:xfrm>
            <a:off x="7010280" y="4114800"/>
            <a:ext cx="457200" cy="0"/>
          </a:xfrm>
          <a:prstGeom prst="line">
            <a:avLst/>
          </a:prstGeom>
          <a:ln cap="sq"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Text Box 52"/>
          <p:cNvSpPr/>
          <p:nvPr/>
        </p:nvSpPr>
        <p:spPr>
          <a:xfrm>
            <a:off x="7620120" y="38862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Text Box 53"/>
          <p:cNvSpPr/>
          <p:nvPr/>
        </p:nvSpPr>
        <p:spPr>
          <a:xfrm>
            <a:off x="7924680" y="373392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Text Box 54"/>
          <p:cNvSpPr/>
          <p:nvPr/>
        </p:nvSpPr>
        <p:spPr>
          <a:xfrm>
            <a:off x="7924680" y="411480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Line 55"/>
          <p:cNvSpPr/>
          <p:nvPr/>
        </p:nvSpPr>
        <p:spPr>
          <a:xfrm>
            <a:off x="7924680" y="4114800"/>
            <a:ext cx="304920" cy="0"/>
          </a:xfrm>
          <a:prstGeom prst="line">
            <a:avLst/>
          </a:prstGeom>
          <a:ln cap="sq"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Text Box 56"/>
          <p:cNvSpPr/>
          <p:nvPr/>
        </p:nvSpPr>
        <p:spPr>
          <a:xfrm>
            <a:off x="3048120" y="48769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Text Box 57"/>
          <p:cNvSpPr/>
          <p:nvPr/>
        </p:nvSpPr>
        <p:spPr>
          <a:xfrm>
            <a:off x="3048120" y="52578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Q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Line 58"/>
          <p:cNvSpPr/>
          <p:nvPr/>
        </p:nvSpPr>
        <p:spPr>
          <a:xfrm>
            <a:off x="3048120" y="5257800"/>
            <a:ext cx="457200" cy="0"/>
          </a:xfrm>
          <a:prstGeom prst="line">
            <a:avLst/>
          </a:prstGeom>
          <a:ln cap="sq"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Text Box 59"/>
          <p:cNvSpPr/>
          <p:nvPr/>
        </p:nvSpPr>
        <p:spPr>
          <a:xfrm>
            <a:off x="3657600" y="50292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Text Box 60"/>
          <p:cNvSpPr/>
          <p:nvPr/>
        </p:nvSpPr>
        <p:spPr>
          <a:xfrm>
            <a:off x="4191120" y="48769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Text Box 61"/>
          <p:cNvSpPr/>
          <p:nvPr/>
        </p:nvSpPr>
        <p:spPr>
          <a:xfrm>
            <a:off x="4191120" y="52578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Line 62"/>
          <p:cNvSpPr/>
          <p:nvPr/>
        </p:nvSpPr>
        <p:spPr>
          <a:xfrm>
            <a:off x="4191120" y="5257800"/>
            <a:ext cx="457200" cy="0"/>
          </a:xfrm>
          <a:prstGeom prst="line">
            <a:avLst/>
          </a:prstGeom>
          <a:ln cap="sq"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Text Box 63"/>
          <p:cNvSpPr/>
          <p:nvPr/>
        </p:nvSpPr>
        <p:spPr>
          <a:xfrm>
            <a:off x="4800600" y="50292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Text Box 64"/>
          <p:cNvSpPr/>
          <p:nvPr/>
        </p:nvSpPr>
        <p:spPr>
          <a:xfrm>
            <a:off x="5105520" y="48769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Text Box 65"/>
          <p:cNvSpPr/>
          <p:nvPr/>
        </p:nvSpPr>
        <p:spPr>
          <a:xfrm>
            <a:off x="5105520" y="52578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Line 66"/>
          <p:cNvSpPr/>
          <p:nvPr/>
        </p:nvSpPr>
        <p:spPr>
          <a:xfrm>
            <a:off x="5105520" y="5257800"/>
            <a:ext cx="304560" cy="0"/>
          </a:xfrm>
          <a:prstGeom prst="line">
            <a:avLst/>
          </a:prstGeom>
          <a:ln cap="sq"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Text Box 67"/>
          <p:cNvSpPr/>
          <p:nvPr/>
        </p:nvSpPr>
        <p:spPr>
          <a:xfrm>
            <a:off x="5943600" y="5029200"/>
            <a:ext cx="2895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Monotype Sorts"/>
                <a:ea typeface="Monotype Sorts"/>
              </a:rPr>
              <a:t></a:t>
            </a: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So, the two figures are similar and you can write WXYZ ~ PQR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Ex. 3:  Comparing Photographic Enlargements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c5e1fe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POSTER DESIGN.  You have been asked to create a poster to advertise a field trip to see the Liberty Bell.  You have a 3.5 inch by 5 inch photo that you want to enlarge.  You want the enlargement to be 16 inches wide.  How long will it be?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2T04:10:57Z</dcterms:created>
  <dc:creator>Robert Spitz</dc:creator>
  <dc:description/>
  <dc:language>en-US</dc:language>
  <cp:lastModifiedBy>chmorgan</cp:lastModifiedBy>
  <dcterms:modified xsi:type="dcterms:W3CDTF">2014-01-06T21:52:41Z</dcterms:modified>
  <cp:revision>27</cp:revision>
  <dc:subject/>
  <dc:title>Slide 1</dc:title>
</cp:coreProperties>
</file>